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6858000" cy="9907588"/>
  <p:notesSz cx="6858000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E3DF-211D-48E0-B8D4-E7F392EC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12440" y="596700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0E66-E492-4E1E-88B5-DBE2BCD6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5616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ED79-CADE-4440-B453-7E8E77FCF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65500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9756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1244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65500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59756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32E9-963E-4625-9542-44B37872F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582D-2454-4744-BA64-3B7DDE6AF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FB35-12DE-446A-8C63-317AE8A8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573A-6DBB-4894-8E95-F392620E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AFA6-8571-4C06-AB70-DA8119BE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6719-C49F-4A3E-8DAF-B7BDEC9D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98400" y="139320"/>
            <a:ext cx="5369040" cy="9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8D92-4933-46EA-B1A4-AD1BB3D7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FDAC-EA7E-4156-AE3F-8F396317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DB08-D275-4AA2-82A5-C35BF5BC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65616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B817-13C1-4F46-827B-DB03DE94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DB96-75AC-40B5-8527-CB6E96A8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12440" y="596700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9E19-BAA2-42C1-A3A5-E49D4208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65616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A960-7CBF-440E-9C34-5F0CB8DE8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65500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9756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1244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65500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459756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246E-AA88-4D39-804F-7DE6A93E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714C-3281-41BD-9FDD-D14C6C9A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C14F-F55C-40D2-A7A4-D1F2D0A2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F408-F7B0-4B9B-9AFA-E534F785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98400" y="139320"/>
            <a:ext cx="5369040" cy="9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8F50-96CB-4549-A00E-ADBF74B1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1111-3E69-43DE-8859-1C2CB557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5616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5FB0-63FE-40BB-9AA7-B7EFC5F4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A1BD-666E-4E1C-9199-9CB5B0B0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990800"/>
            <a:ext cx="1600200" cy="1458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5760" y="1990800"/>
            <a:ext cx="5429520" cy="1458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920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514240" y="902448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502884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ED01-4A41-416E-A43D-BE8FE73DDC11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628560" y="811080"/>
            <a:ext cx="114480" cy="154152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6197760" y="390600"/>
            <a:ext cx="114120" cy="15494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1320840"/>
            <a:ext cx="6514920" cy="3631680"/>
            <a:chOff x="0" y="1320840"/>
            <a:chExt cx="6514920" cy="3631680"/>
          </a:xfrm>
        </p:grpSpPr>
        <p:sp>
          <p:nvSpPr>
            <p:cNvPr id="46" name="Oval 7"/>
            <p:cNvSpPr/>
            <p:nvPr/>
          </p:nvSpPr>
          <p:spPr>
            <a:xfrm>
              <a:off x="171360" y="1320840"/>
              <a:ext cx="1885680" cy="3631680"/>
            </a:xfrm>
            <a:prstGeom prst="ellipse">
              <a:avLst/>
            </a:prstGeom>
            <a:noFill/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2421360"/>
              <a:ext cx="3543120" cy="16506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2971800" y="2421360"/>
              <a:ext cx="3543120" cy="165060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456840" y="2201040"/>
              <a:ext cx="171360" cy="209304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5886720" y="1747080"/>
              <a:ext cx="196200" cy="198072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B4C5-52FA-4F34-8275-5E068DD76FD6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CC93-DCE4-414D-8083-AB3BE44FF9C6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4" name="Picture 19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2"/>
          <p:cNvSpPr/>
          <p:nvPr/>
        </p:nvSpPr>
        <p:spPr>
          <a:xfrm>
            <a:off x="312840" y="76320"/>
            <a:ext cx="376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Dinamica dei rotori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Text Box 23"/>
          <p:cNvSpPr/>
          <p:nvPr/>
        </p:nvSpPr>
        <p:spPr>
          <a:xfrm>
            <a:off x="1052640" y="2289240"/>
            <a:ext cx="47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99"/>
                </a:solidFill>
                <a:latin typeface="Arial"/>
              </a:rPr>
              <a:t>Dinamica di rotori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" name="Text Box 28"/>
          <p:cNvSpPr/>
          <p:nvPr/>
        </p:nvSpPr>
        <p:spPr>
          <a:xfrm>
            <a:off x="549360" y="2792520"/>
            <a:ext cx="5832360" cy="63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n molteplici macchinari sono presenti organi rotanti, in genere definiti “</a:t>
            </a:r>
            <a:r>
              <a:rPr b="1" lang="it-IT" sz="1800" spc="-1" strike="noStrike">
                <a:solidFill>
                  <a:srgbClr val="006699"/>
                </a:solidFill>
                <a:latin typeface="Arial"/>
              </a:rPr>
              <a:t>rotor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” cinematicamente connessi alla parte fissa della macchina stessa, detta statore o incastellatura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o studio dei problemi correlati con tali organi costituisce un importante capitolo della meccanica delle macchine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Essi derivano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alle azioni d'inerzia che nascono durante la rotazione per </a:t>
            </a:r>
            <a:r>
              <a:rPr b="1" lang="it-IT" sz="1800" spc="-1" strike="noStrike">
                <a:solidFill>
                  <a:srgbClr val="006699"/>
                </a:solidFill>
                <a:latin typeface="Arial"/>
              </a:rPr>
              <a:t>effetto dello sbilanciament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“rotori reali”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alle </a:t>
            </a:r>
            <a:r>
              <a:rPr b="1" lang="it-IT" sz="1800" spc="-1" strike="noStrike">
                <a:solidFill>
                  <a:srgbClr val="006699"/>
                </a:solidFill>
                <a:latin typeface="Arial"/>
              </a:rPr>
              <a:t>vibrazioni che si possono innescare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(assiali, trasversali o torsionali, o esistere anche modi di vibrare composti, per esempio modi flesso-torsionali)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articolare importanza assumono le oscillazioni flessionali eccitate dalle azioni d'inerzia rotanti che nascono nei  rotori, poiché danno luogo al particolare </a:t>
            </a:r>
            <a:r>
              <a:rPr b="1" lang="it-IT" sz="1800" spc="-1" strike="noStrike">
                <a:solidFill>
                  <a:srgbClr val="006699"/>
                </a:solidFill>
                <a:latin typeface="Arial"/>
              </a:rPr>
              <a:t>problema delle velocità critiche flessionali (n valori per sistemi ad n gradi di libertà)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0D10-57A4-4E2F-AD99-FC5363A2FE45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6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2"/>
              <p:cNvSpPr txBox="1"/>
              <p:nvPr/>
            </p:nvSpPr>
            <p:spPr>
              <a:xfrm>
                <a:off x="2060640" y="3584520"/>
                <a:ext cx="25923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d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r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2" name="Text Box 13"/>
          <p:cNvSpPr/>
          <p:nvPr/>
        </p:nvSpPr>
        <p:spPr>
          <a:xfrm>
            <a:off x="620640" y="8240760"/>
            <a:ext cx="58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l baricentro del sistema (M+2m) non cambia, mentre l'asse centrale d'inerzia si inclina di un angolo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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rispetto all'asse di rotazione.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620640" y="4160880"/>
            <a:ext cx="56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l rotore ideale diventa </a:t>
            </a:r>
            <a:r>
              <a:rPr b="1" lang="it-IT" sz="1800" spc="-1" strike="noStrike">
                <a:solidFill>
                  <a:srgbClr val="006699"/>
                </a:solidFill>
                <a:latin typeface="Arial"/>
              </a:rPr>
              <a:t>dinamicamente sbilanciat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se ad esso si aggiungono due masse sbilancianti m, disposte in un piano contenente l'asse del rotore, e poste ad una eguale distanza dall'asse stesso.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600120" y="2597040"/>
            <a:ext cx="55656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o </a:t>
            </a:r>
            <a:r>
              <a:rPr b="1" lang="it-IT" sz="1800" spc="-1" strike="noStrike">
                <a:solidFill>
                  <a:srgbClr val="006699"/>
                </a:solidFill>
                <a:latin typeface="Arial"/>
              </a:rPr>
              <a:t>sbilanciamento static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provoca, durante la rotazione del rotore, una forza centrifuga F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c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rotante data da: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5" name="Picture 17" descr="figura 5-11 simulazione sbilanciamento dinamico"/>
          <p:cNvPicPr/>
          <p:nvPr/>
        </p:nvPicPr>
        <p:blipFill>
          <a:blip r:embed="rId2"/>
          <a:stretch/>
        </p:blipFill>
        <p:spPr>
          <a:xfrm>
            <a:off x="333360" y="5600880"/>
            <a:ext cx="6453360" cy="26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579F-F8BD-44EB-923B-3FF106389958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8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620640" y="4305240"/>
            <a:ext cx="5832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Rotore </a:t>
            </a:r>
            <a:r>
              <a:rPr b="1" lang="it-IT" sz="1800" spc="-1" strike="noStrike">
                <a:solidFill>
                  <a:srgbClr val="006699"/>
                </a:solidFill>
                <a:latin typeface="Arial"/>
              </a:rPr>
              <a:t>dinamicamente sbilanciato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i ha anche se le due masse m sono sempre disposte ad uguale distanza r dall'asse ma non sono equidistanti da G. In entrambi i casi, nasce un momento di inerzia M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y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dato d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4" name="Picture 13" descr="figura 5-12  sbilanciamento din"/>
          <p:cNvPicPr/>
          <p:nvPr/>
        </p:nvPicPr>
        <p:blipFill>
          <a:blip r:embed="rId2"/>
          <a:srcRect l="0" t="4021" r="0" b="0"/>
          <a:stretch/>
        </p:blipFill>
        <p:spPr>
          <a:xfrm>
            <a:off x="765000" y="2073240"/>
            <a:ext cx="5400720" cy="229572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15"/>
          <p:cNvSpPr/>
          <p:nvPr/>
        </p:nvSpPr>
        <p:spPr>
          <a:xfrm>
            <a:off x="0" y="4819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4"/>
              <p:cNvSpPr txBox="1"/>
              <p:nvPr/>
            </p:nvSpPr>
            <p:spPr>
              <a:xfrm>
                <a:off x="1916280" y="5384880"/>
                <a:ext cx="24015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r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7" name="Picture 16" descr="figura 5-13 simulazione sbilanciamento"/>
          <p:cNvPicPr/>
          <p:nvPr/>
        </p:nvPicPr>
        <p:blipFill>
          <a:blip r:embed="rId3"/>
          <a:srcRect l="1256" t="0" r="0" b="0"/>
          <a:stretch/>
        </p:blipFill>
        <p:spPr>
          <a:xfrm>
            <a:off x="333360" y="6897600"/>
            <a:ext cx="6048360" cy="28036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7"/>
          <p:cNvSpPr/>
          <p:nvPr/>
        </p:nvSpPr>
        <p:spPr>
          <a:xfrm>
            <a:off x="620640" y="5745240"/>
            <a:ext cx="57610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Nel caso di </a:t>
            </a:r>
            <a:r>
              <a:rPr b="1" lang="it-IT" sz="1800" spc="-1" strike="noStrike">
                <a:solidFill>
                  <a:srgbClr val="006699"/>
                </a:solidFill>
                <a:latin typeface="Arial"/>
              </a:rPr>
              <a:t>rotore sbilanciato sia staticamente che dinamicamente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le due masse sbilanciatrici m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d m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non più necessariamente uguali, giacciono in due piani assiali diversi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DB61-53EC-4AAA-B1D8-9AD12625E27C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1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0" y="4819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476280" y="430524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o sbilanciamento globale può essere simulato, con una sola massa m, posta a distanza d dal piano x-y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0" y="4819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14"/>
              <p:cNvSpPr txBox="1"/>
              <p:nvPr/>
            </p:nvSpPr>
            <p:spPr>
              <a:xfrm>
                <a:off x="1700280" y="3368520"/>
                <a:ext cx="31687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r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;         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r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9" name="Rectangle 17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18"/>
              <p:cNvSpPr txBox="1"/>
              <p:nvPr/>
            </p:nvSpPr>
            <p:spPr>
              <a:xfrm>
                <a:off x="1916280" y="8553600"/>
                <a:ext cx="309528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r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;         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r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2" name="Picture 20" descr="figura 5-14  sbilanciamento con una massa"/>
          <p:cNvPicPr/>
          <p:nvPr/>
        </p:nvPicPr>
        <p:blipFill>
          <a:blip r:embed="rId2"/>
          <a:srcRect l="0" t="0" r="0" b="7736"/>
          <a:stretch/>
        </p:blipFill>
        <p:spPr>
          <a:xfrm>
            <a:off x="44280" y="5240160"/>
            <a:ext cx="6624720" cy="23274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21"/>
          <p:cNvSpPr/>
          <p:nvPr/>
        </p:nvSpPr>
        <p:spPr>
          <a:xfrm>
            <a:off x="549360" y="7545240"/>
            <a:ext cx="5761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urante la rotazione del rotore con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=cost. si genera una forza centrifuga F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c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d un momento M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c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i cui moduli sono dati da: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Text Box 25"/>
          <p:cNvSpPr/>
          <p:nvPr/>
        </p:nvSpPr>
        <p:spPr>
          <a:xfrm>
            <a:off x="476280" y="257652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urante la rotazione del rotore esse diventano sede di due forze d'inerzia centrifughe di modulo pari a: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Text Box 26"/>
          <p:cNvSpPr/>
          <p:nvPr/>
        </p:nvSpPr>
        <p:spPr>
          <a:xfrm>
            <a:off x="528480" y="3873600"/>
            <a:ext cx="57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alle quali corrispondono altrettanti moment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B075-F276-4699-8CF6-12F024FA18AB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8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0" y="4819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0" y="4819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476280" y="2144880"/>
            <a:ext cx="58323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6699"/>
                </a:solidFill>
                <a:latin typeface="Arial"/>
              </a:rPr>
              <a:t>Masse bilanciatrici</a:t>
            </a:r>
            <a:r>
              <a:rPr b="1" i="1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l bilanciamento di un rotore viene, di norma, condotto mediante </a:t>
            </a:r>
            <a:r>
              <a:rPr b="1" lang="it-IT" sz="1800" spc="-1" strike="noStrike">
                <a:solidFill>
                  <a:srgbClr val="006699"/>
                </a:solidFill>
                <a:latin typeface="Arial"/>
              </a:rPr>
              <a:t>l'applicazione di due sole masse bilanciatrici disposte in altrettanti pian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normali all'asse di rotazione che prendono il nome di </a:t>
            </a:r>
            <a:r>
              <a:rPr b="1" i="1" lang="it-IT" sz="1800" spc="-1" strike="noStrike">
                <a:solidFill>
                  <a:srgbClr val="006699"/>
                </a:solidFill>
                <a:latin typeface="Arial"/>
              </a:rPr>
              <a:t>piani di correzione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 Essi vengono fissati in modo opportuno per non influire negativamente sulla funzionalità del rotor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er un rotore staticamente sbilanciato tale operazione può essere effettuata disponendo due masse m’ nei piani I e II oppure asportando le masse m*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7" name="Picture 18" descr="figura 5-15 bilanciamento statico"/>
          <p:cNvPicPr/>
          <p:nvPr/>
        </p:nvPicPr>
        <p:blipFill>
          <a:blip r:embed="rId2"/>
          <a:stretch/>
        </p:blipFill>
        <p:spPr>
          <a:xfrm>
            <a:off x="476280" y="5722920"/>
            <a:ext cx="5905440" cy="268596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0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19"/>
              <p:cNvSpPr txBox="1"/>
              <p:nvPr/>
            </p:nvSpPr>
            <p:spPr>
              <a:xfrm>
                <a:off x="1341360" y="9129600"/>
                <a:ext cx="40323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r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2F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m'r'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m*r'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0" name="Text Box 21"/>
          <p:cNvSpPr/>
          <p:nvPr/>
        </p:nvSpPr>
        <p:spPr>
          <a:xfrm>
            <a:off x="476280" y="8193240"/>
            <a:ext cx="592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Affinché il baricentro del sistema, costituito dal rotore M e dalle masse m ed m', giace sull'asse di rotazione deve essere soddisfatta la relazione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38F6-168C-4B86-A07D-6131CBE16663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13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0" y="4819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0" y="4819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476280" y="243216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er il rotore sbilanciato dinamicamente si effettua il bilanciamento aggiungendo (asportando) due masse m’ (m*) disposte nello stesso piano assiale che contiene la massa m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2" name="Rectangle 13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549360" y="6413400"/>
            <a:ext cx="59245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i genera una coppia M’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y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 uguale e contraria a quella sbilanciante M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y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se risulta verificata la condizion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24" name="Picture 16" descr="figura 5-16 bilanciamento dinamico"/>
          <p:cNvPicPr/>
          <p:nvPr/>
        </p:nvPicPr>
        <p:blipFill>
          <a:blip r:embed="rId2"/>
          <a:stretch/>
        </p:blipFill>
        <p:spPr>
          <a:xfrm>
            <a:off x="260280" y="3513240"/>
            <a:ext cx="6408720" cy="295596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18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17"/>
              <p:cNvSpPr txBox="1"/>
              <p:nvPr/>
            </p:nvSpPr>
            <p:spPr>
              <a:xfrm>
                <a:off x="1413000" y="7040520"/>
                <a:ext cx="42494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mr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d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m'r'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d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Rectangle 20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19"/>
              <p:cNvSpPr txBox="1"/>
              <p:nvPr/>
            </p:nvSpPr>
            <p:spPr>
              <a:xfrm>
                <a:off x="2546280" y="7400880"/>
                <a:ext cx="1621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'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r'</m:t>
                    </m:r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Rectangle 22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21"/>
              <p:cNvSpPr txBox="1"/>
              <p:nvPr/>
            </p:nvSpPr>
            <p:spPr>
              <a:xfrm>
                <a:off x="779400" y="7924680"/>
                <a:ext cx="544212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;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      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t xml:space="preserve">m</m:t>
                        </m:r>
                        <m:r>
                          <m:t xml:space="preserve">'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'</m:t>
                        </m:r>
                        <m:r>
                          <m:t xml:space="preserve">⋅</m:t>
                        </m:r>
                        <m:r>
                          <m:t xml:space="preserve">z</m:t>
                        </m:r>
                        <m:r>
                          <m:t xml:space="preserve">'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'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r'</m:t>
                    </m:r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Text Box 23"/>
          <p:cNvSpPr/>
          <p:nvPr/>
        </p:nvSpPr>
        <p:spPr>
          <a:xfrm>
            <a:off x="528480" y="8553600"/>
            <a:ext cx="59248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a cui deriva che il prodotto d'inerzia I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xz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dell'intero sistema (M, 2m, 2m') è nullo e, quindi, che l'asse di rotazione del rotore è centrale d'inerzia.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2" name="Text Box 24"/>
          <p:cNvSpPr/>
          <p:nvPr/>
        </p:nvSpPr>
        <p:spPr>
          <a:xfrm>
            <a:off x="549360" y="7616880"/>
            <a:ext cx="26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Ne consegue ch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8B4E-0285-4CA5-B7DC-70FB4D448932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35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0" y="4819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0" y="4819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Rectangle 10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476280" y="2432160"/>
            <a:ext cx="583236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Anche nel caso più generale di rotore che sia staticamente e dinamicamente sbilanciato, il bilanciamento si effettua disponendo (togliendo) masse da due piani di correzione. Nella figura nella per semplicità non è stato disegnato il rotore ma solo le masse m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d m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che producono l’effetto sbilanciant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6" name="Rectangle 17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7" name="Rectangle 19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8" name="Text Box 21"/>
          <p:cNvSpPr/>
          <p:nvPr/>
        </p:nvSpPr>
        <p:spPr>
          <a:xfrm>
            <a:off x="549360" y="7977240"/>
            <a:ext cx="58528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e forze centrifughe F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d F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dovute alle masse, sbilancianti, possono essere scomposte rispettivamente in due forze nei piani I e I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49" name="Picture 23" descr="figura 517 bilanciamento statico e dinamico"/>
          <p:cNvPicPr/>
          <p:nvPr/>
        </p:nvPicPr>
        <p:blipFill>
          <a:blip r:embed="rId2"/>
          <a:stretch/>
        </p:blipFill>
        <p:spPr>
          <a:xfrm>
            <a:off x="1125360" y="4448160"/>
            <a:ext cx="475164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2AF9-25B0-4362-8EDC-E2AA719412D8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52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0" y="4819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0" y="4819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3" name="Rectangle 15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4" name="Text Box 16"/>
          <p:cNvSpPr/>
          <p:nvPr/>
        </p:nvSpPr>
        <p:spPr>
          <a:xfrm>
            <a:off x="4653000" y="6002280"/>
            <a:ext cx="18716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e risultanti F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c,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d F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c,I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in ogni piano di correzione si bilanciano con due masse m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d m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I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poste a distanza r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d r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II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all'asse di rotazion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65" name="Picture 17" descr="figura 517 bilanciamento statico e dinamico"/>
          <p:cNvPicPr/>
          <p:nvPr/>
        </p:nvPicPr>
        <p:blipFill>
          <a:blip r:embed="rId2"/>
          <a:srcRect l="1072" t="0" r="0" b="0"/>
          <a:stretch/>
        </p:blipFill>
        <p:spPr>
          <a:xfrm>
            <a:off x="23760" y="2386080"/>
            <a:ext cx="4629240" cy="347004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19"/>
          <p:cNvSpPr/>
          <p:nvPr/>
        </p:nvSpPr>
        <p:spPr>
          <a:xfrm>
            <a:off x="-100080" y="4510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18"/>
              <p:cNvSpPr txBox="1"/>
              <p:nvPr/>
            </p:nvSpPr>
            <p:spPr>
              <a:xfrm>
                <a:off x="4869000" y="2936880"/>
                <a:ext cx="1807920" cy="283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= {  {F rSub { size 8{1} } a rSub { size 8{1} } }  over  {a rSub { size 8{1} } +b rSub { size 8{1} } } }  {} # 
F rSub { size 8{2} }  rSup { size 8{'} } = {  {F rSub { size 8{2} } b rSub { size 8{2} } }  over  {a rSub { size 8{2} } +b rSub { size 8{2} } } }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{} # 
 F rSub { size 8{2} }  rSup { size 8{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Text Box 20"/>
          <p:cNvSpPr/>
          <p:nvPr/>
        </p:nvSpPr>
        <p:spPr>
          <a:xfrm>
            <a:off x="4653000" y="22892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Equilibrio dei momenti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69" name="Picture 21" descr="figura 5-18 masse bilancianti e piani di correzione"/>
          <p:cNvPicPr/>
          <p:nvPr/>
        </p:nvPicPr>
        <p:blipFill>
          <a:blip r:embed="rId3"/>
          <a:srcRect l="3590" t="0" r="0" b="0"/>
          <a:stretch/>
        </p:blipFill>
        <p:spPr>
          <a:xfrm>
            <a:off x="3240" y="5745240"/>
            <a:ext cx="464976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3B3F-14B5-4034-B8CE-674C93CD2E32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72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0" y="4819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0" y="4819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0" name="Rectangle 11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1" name="Rectangle 12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2" name="Rectangle 13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4" name="Rectangle 17"/>
          <p:cNvSpPr/>
          <p:nvPr/>
        </p:nvSpPr>
        <p:spPr>
          <a:xfrm>
            <a:off x="-100080" y="4510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85" name="Picture 20" descr="figura 5-18 masse bilancianti e piani di correzione"/>
          <p:cNvPicPr/>
          <p:nvPr/>
        </p:nvPicPr>
        <p:blipFill>
          <a:blip r:embed="rId2"/>
          <a:stretch/>
        </p:blipFill>
        <p:spPr>
          <a:xfrm>
            <a:off x="765000" y="2232000"/>
            <a:ext cx="5112000" cy="372924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22"/>
          <p:cNvSpPr/>
          <p:nvPr/>
        </p:nvSpPr>
        <p:spPr>
          <a:xfrm>
            <a:off x="549360" y="5908680"/>
            <a:ext cx="57592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isponendo le masse m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d m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I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 nella direzione delle  F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c,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d F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c,II</a:t>
            </a:r>
            <a:r>
              <a:rPr b="0" lang="it-IT" sz="1800" spc="-1" strike="noStrike" baseline="-25000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evono essere soddisfatte le condizion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7" name="Rectangle 24"/>
          <p:cNvSpPr/>
          <p:nvPr/>
        </p:nvSpPr>
        <p:spPr>
          <a:xfrm>
            <a:off x="0" y="4819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23"/>
              <p:cNvSpPr txBox="1"/>
              <p:nvPr/>
            </p:nvSpPr>
            <p:spPr>
              <a:xfrm>
                <a:off x="1700280" y="68421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9" name="Text Box 25"/>
          <p:cNvSpPr/>
          <p:nvPr/>
        </p:nvSpPr>
        <p:spPr>
          <a:xfrm>
            <a:off x="189000" y="7329600"/>
            <a:ext cx="61466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 valori delle masse m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d m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I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risulteranno tanto più piccoli quanto più grandi si fissano i valori dei raggi r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d r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I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l bilanciamento può essere ottenuto anche mediante asportazione, per foratura, di due masse disposte come quelle riportate in bianco nella figura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D688-82E4-47F5-B3BA-4852DC5B73E9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92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0" y="4819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0" y="4819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9" name="Rectangle 10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1" name="Rectangle 12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2" name="Rectangle 13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4" name="Rectangle 15"/>
          <p:cNvSpPr/>
          <p:nvPr/>
        </p:nvSpPr>
        <p:spPr>
          <a:xfrm>
            <a:off x="-100080" y="4510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5" name="Text Box 17"/>
          <p:cNvSpPr/>
          <p:nvPr/>
        </p:nvSpPr>
        <p:spPr>
          <a:xfrm>
            <a:off x="549360" y="2792520"/>
            <a:ext cx="57592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Chiarito il concetto di bilanciamento attraverso la più opportuna disposizione di masse bilanciatrici da collocare in  piani di correzione,  appare evidente che è che lo </a:t>
            </a:r>
            <a:r>
              <a:rPr b="1" lang="it-IT" sz="1800" spc="-1" strike="noStrike">
                <a:solidFill>
                  <a:srgbClr val="006699"/>
                </a:solidFill>
                <a:latin typeface="Arial"/>
              </a:rPr>
              <a:t>sbilanciamento reale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di un rotore, simulato in precedenza mediante masse sbilancianti fittizie, </a:t>
            </a:r>
            <a:r>
              <a:rPr b="1" lang="it-IT" sz="1800" spc="-1" strike="noStrike">
                <a:solidFill>
                  <a:srgbClr val="006699"/>
                </a:solidFill>
                <a:latin typeface="Arial"/>
              </a:rPr>
              <a:t>non è noto a priori  e deve essere, perciò, determinato sperimentalmente mediante l'impiego di macchine bilanciatric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n altri termini, per poter procedere alle operazioni di bilanciamento mediante la disposizione di opportune masse nei piani di correzione, </a:t>
            </a:r>
            <a:r>
              <a:rPr b="1" lang="it-IT" sz="1800" spc="-1" strike="noStrike">
                <a:solidFill>
                  <a:srgbClr val="006699"/>
                </a:solidFill>
                <a:latin typeface="Arial"/>
              </a:rPr>
              <a:t>è necessario conoscere l’entità dello sbilanciamento e la “collocazione” delle masse sbilanciant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 Tale operazione può essere effettuata appunto mediante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macchine bilanciatric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che possono essere di tipologie più o meno sofisticat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Nelle macchine di ultima generazione, a valle della operazione di bilanciamento, viene quantificato il valore di quello che viene definito come  </a:t>
            </a:r>
            <a:r>
              <a:rPr b="1" lang="it-IT" sz="1800" spc="-1" strike="noStrike">
                <a:solidFill>
                  <a:srgbClr val="006699"/>
                </a:solidFill>
                <a:latin typeface="Arial"/>
              </a:rPr>
              <a:t>sbilanciamento residuo che deve essere contenuto entro limiti fissati dalla normativa (norme ISO 1940 e 1973 – E).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Tale valore deve essere riportato a corredo delle specifiche tecniche del rotore.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0" y="4819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D363-0DF7-443F-B0CC-014340CBF303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09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0" y="4819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4" name="Rectangle 8"/>
          <p:cNvSpPr/>
          <p:nvPr/>
        </p:nvSpPr>
        <p:spPr>
          <a:xfrm>
            <a:off x="0" y="4819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8" name="Rectangle 12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9" name="Rectangle 13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0" name="Rectangle 14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1" name="Rectangle 15"/>
          <p:cNvSpPr/>
          <p:nvPr/>
        </p:nvSpPr>
        <p:spPr>
          <a:xfrm>
            <a:off x="-100080" y="4510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2" name="Text Box 16"/>
          <p:cNvSpPr/>
          <p:nvPr/>
        </p:nvSpPr>
        <p:spPr>
          <a:xfrm>
            <a:off x="620640" y="2505240"/>
            <a:ext cx="57610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er rotori della stessa classe lo sbilanciamento residuo e* detto anche “tolleranza di equilibratura”, si assume inversamente proporzionale alla velocità angolare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del rotor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Esprimendo in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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m il valore dell'eccentricità residua, si definisce come grado o </a:t>
            </a:r>
            <a:r>
              <a:rPr b="1" i="1" lang="it-IT" sz="1800" spc="-1" strike="noStrike">
                <a:solidFill>
                  <a:srgbClr val="292929"/>
                </a:solidFill>
                <a:latin typeface="Arial"/>
              </a:rPr>
              <a:t>classe di equilibratura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G espresso in mm (</a:t>
            </a:r>
            <a:r>
              <a:rPr b="1" i="1" lang="it-IT" sz="1800" spc="-1" strike="noStrike">
                <a:solidFill>
                  <a:srgbClr val="292929"/>
                </a:solidFill>
                <a:latin typeface="Arial"/>
              </a:rPr>
              <a:t>Balance quality grade) la grandezz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18"/>
              <p:cNvSpPr txBox="1"/>
              <p:nvPr/>
            </p:nvSpPr>
            <p:spPr>
              <a:xfrm>
                <a:off x="1989000" y="4975200"/>
                <a:ext cx="29527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  <m:r>
                          <m:t xml:space="preserve">∗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  <m:r>
                          <m:t xml:space="preserve">∗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Rectangle 20"/>
          <p:cNvSpPr/>
          <p:nvPr/>
        </p:nvSpPr>
        <p:spPr>
          <a:xfrm>
            <a:off x="549360" y="5745240"/>
            <a:ext cx="583236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ove n è la velocità angolare in giri/min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 valori di G per diverse tipologie di motori sono tabellat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Effetti dello sbilanciament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Un rotore reale in condizioni di funzionamento a regime, ancorché sia stato sottoposto alle operazioni di bilanciamento,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è sempre sede di una forza d’inerzia F</a:t>
            </a:r>
            <a:r>
              <a:rPr b="1" lang="it-IT" sz="1800" spc="-1" strike="noStrike" baseline="-25000">
                <a:solidFill>
                  <a:srgbClr val="ff0000"/>
                </a:solidFill>
                <a:latin typeface="Arial"/>
              </a:rPr>
              <a:t>c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  e di una coppia d’inerzia M</a:t>
            </a:r>
            <a:r>
              <a:rPr b="1" lang="it-IT" sz="1800" spc="-1" strike="noStrike" baseline="-25000">
                <a:solidFill>
                  <a:srgbClr val="ff0000"/>
                </a:solidFill>
                <a:latin typeface="Arial"/>
              </a:rPr>
              <a:t>c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entrambi rappresentabili con vettori rotanti con il rotore stesso, che si vanno a scaricare sui supporti.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3278-A387-461C-8C5B-BEFA2FCCEFE4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0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692280" y="2652840"/>
            <a:ext cx="54734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i dimostra che, ogni rotore sotto l’azione delle forze di inerzia centrifughe, si deforma secondo </a:t>
            </a:r>
            <a:r>
              <a:rPr b="1" lang="it-IT" sz="1800" spc="-1" strike="noStrike">
                <a:solidFill>
                  <a:srgbClr val="0099cc"/>
                </a:solidFill>
                <a:latin typeface="Arial"/>
              </a:rPr>
              <a:t>linee elastiche che appaiono diverse in funzione proprio della velocità angolare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nfatti, quando la velocità angolare del rotore, è prossima ad una delle n velocità critiche, l’eccitazione dovuta alle azioni inerziali produce </a:t>
            </a:r>
            <a:r>
              <a:rPr b="1" lang="it-IT" sz="1800" spc="-1" strike="noStrike">
                <a:solidFill>
                  <a:srgbClr val="006699"/>
                </a:solidFill>
                <a:latin typeface="Arial"/>
              </a:rPr>
              <a:t>una linea elastica che presenta n-1 nod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in guisa che le distribuzioni di eccentricità si allontanano rispetto a quelle del caso statico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Molti degli effetti dinamici che si manifestano durante il funzionamento dei  rotori derivano dal fatto che </a:t>
            </a:r>
            <a:r>
              <a:rPr b="1" lang="it-IT" sz="1800" spc="-1" strike="noStrike">
                <a:solidFill>
                  <a:srgbClr val="006699"/>
                </a:solidFill>
                <a:latin typeface="Arial"/>
              </a:rPr>
              <a:t>un rotore reale è per definizione “sbilanciato”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nonostante venga sottoposto, alla fine delle operazioni costruttive, ad una operazione di bilanciamento che, anche se condotta con i macchinari più sofisticati, comporta sempre </a:t>
            </a:r>
            <a:r>
              <a:rPr b="1" lang="it-IT" sz="1800" spc="-1" strike="noStrike">
                <a:solidFill>
                  <a:srgbClr val="006699"/>
                </a:solidFill>
                <a:latin typeface="Arial"/>
              </a:rPr>
              <a:t>uno sbilanciamento residu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che genera, durante la rotazione del rotore, forza e coppie d'inerzia rotanti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7234-5D3D-4DFC-B94A-C9BE8CBAF71C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27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0" y="4819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2" name="Rectangle 8"/>
          <p:cNvSpPr/>
          <p:nvPr/>
        </p:nvSpPr>
        <p:spPr>
          <a:xfrm>
            <a:off x="0" y="4819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3" name="Rectangle 9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4" name="Rectangle 10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5" name="Rectangle 11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6" name="Rectangle 12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7" name="Rectangle 13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8" name="Rectangle 14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9" name="Rectangle 15"/>
          <p:cNvSpPr/>
          <p:nvPr/>
        </p:nvSpPr>
        <p:spPr>
          <a:xfrm>
            <a:off x="-100080" y="4510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0" name="Text Box 16"/>
          <p:cNvSpPr/>
          <p:nvPr/>
        </p:nvSpPr>
        <p:spPr>
          <a:xfrm>
            <a:off x="620640" y="2505240"/>
            <a:ext cx="5761080" cy="37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Considerato il rotore di una macchina fissa, cioè solidale alla terra, la forza rotante F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c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può scomporsi in due componenti armoniche lungo gli assi della terna fissa (solidale alla terra) di ampiezza F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c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 pulsazione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coincidente con la velocità angolare del rotore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er effetto di tali forze il sistema costituito dal rotore e dai due supporti, compie oscillazioni forzate armoniche di pulsazione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sia nel piano verticale che nel piano orizzontale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l sistema si comporta come schematicamente è rappresentato in figura; l’asse del rotore descrive un’orbita ellittica.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41" name="Picture 17" descr="figura 5-25 whirling"/>
          <p:cNvPicPr/>
          <p:nvPr/>
        </p:nvPicPr>
        <p:blipFill>
          <a:blip r:embed="rId2"/>
          <a:srcRect l="0" t="11084" r="5934" b="0"/>
          <a:stretch/>
        </p:blipFill>
        <p:spPr>
          <a:xfrm>
            <a:off x="115920" y="6321600"/>
            <a:ext cx="6769080" cy="263664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8"/>
          <p:cNvSpPr/>
          <p:nvPr/>
        </p:nvSpPr>
        <p:spPr>
          <a:xfrm>
            <a:off x="1844640" y="8864640"/>
            <a:ext cx="32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Fenomeno del whirling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4868-2C65-4248-B70E-882957EB525B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4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45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0" y="4819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0" y="4819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2" name="Rectangle 10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3" name="Rectangle 11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4" name="Rectangle 12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5" name="Rectangle 13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6" name="Rectangle 14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7" name="Rectangle 15"/>
          <p:cNvSpPr/>
          <p:nvPr/>
        </p:nvSpPr>
        <p:spPr>
          <a:xfrm>
            <a:off x="-100080" y="4510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8" name="Text Box 16"/>
          <p:cNvSpPr/>
          <p:nvPr/>
        </p:nvSpPr>
        <p:spPr>
          <a:xfrm>
            <a:off x="620640" y="4737240"/>
            <a:ext cx="5761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e ampiezze delle due oscillazioni forzate e quindi </a:t>
            </a:r>
            <a:r>
              <a:rPr b="1" lang="it-IT" sz="1800" spc="-1" strike="noStrike">
                <a:solidFill>
                  <a:srgbClr val="006699"/>
                </a:solidFill>
                <a:latin typeface="Arial"/>
              </a:rPr>
              <a:t>le dimensioni dei semiassi dell'orbita ellittica variano al variare di </a:t>
            </a:r>
            <a:r>
              <a:rPr b="1" lang="it-IT" sz="1800" spc="-1" strike="noStrike">
                <a:solidFill>
                  <a:srgbClr val="006699"/>
                </a:solidFill>
                <a:latin typeface="Symbol"/>
                <a:ea typeface="Symbol"/>
              </a:rPr>
              <a:t>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er velocità angolari sufficientemente  discoste dai valori corrispondenti alle pulsazioni naturali del sistema, le ampiezze dei suddetti moti forzati sono molto piccole: in queste condizioni il rotore può ritenersi rigido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99"/>
                </a:solidFill>
                <a:latin typeface="Arial"/>
              </a:rPr>
              <a:t>Le ampiezze diventano molto grandi, quando la pulsazione delle azioni forzanti armoniche, si avvicina o al limite eguaglia una delle pulsazioni naturali del sistema (risonanza)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e velocità angolari per le quali le suddette risonanze si verificano prendono, come noto, il nome di </a:t>
            </a:r>
            <a:r>
              <a:rPr b="1" i="1" lang="it-IT" sz="1800" spc="-1" strike="noStrike">
                <a:solidFill>
                  <a:srgbClr val="ff0000"/>
                </a:solidFill>
                <a:latin typeface="Arial"/>
              </a:rPr>
              <a:t>velocità critiche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del sistema e si manifestano con </a:t>
            </a:r>
            <a:r>
              <a:rPr b="1" lang="it-IT" sz="1800" spc="-1" strike="noStrike">
                <a:solidFill>
                  <a:srgbClr val="006699"/>
                </a:solidFill>
                <a:latin typeface="Arial"/>
              </a:rPr>
              <a:t>violente vibrazioni dei supporti del rotore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59" name="Picture 19" descr=""/>
          <p:cNvPicPr/>
          <p:nvPr/>
        </p:nvPicPr>
        <p:blipFill>
          <a:blip r:embed="rId2"/>
          <a:srcRect l="0" t="0" r="0" b="19415"/>
          <a:stretch/>
        </p:blipFill>
        <p:spPr>
          <a:xfrm>
            <a:off x="1052640" y="2111400"/>
            <a:ext cx="460836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CC65-02BE-4791-8D14-96B5294C0469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62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0" y="4819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7" name="Rectangle 8"/>
          <p:cNvSpPr/>
          <p:nvPr/>
        </p:nvSpPr>
        <p:spPr>
          <a:xfrm>
            <a:off x="0" y="4819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9" name="Rectangle 10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0" name="Rectangle 11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1" name="Rectangle 12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2" name="Rectangle 13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3" name="Rectangle 14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4" name="Rectangle 15"/>
          <p:cNvSpPr/>
          <p:nvPr/>
        </p:nvSpPr>
        <p:spPr>
          <a:xfrm>
            <a:off x="-100080" y="4510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5" name="Text Box 16"/>
          <p:cNvSpPr/>
          <p:nvPr/>
        </p:nvSpPr>
        <p:spPr>
          <a:xfrm>
            <a:off x="620640" y="2576520"/>
            <a:ext cx="57610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Considerazioni analoghe a quelle fatte per la forza di inerzia F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c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possono farsi per la coppia di inerzia M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c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che dà luogo ancora a due componenti armoniche con pulsazione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le quali determinano oscillazioni forzate nella direzione degli assi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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d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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’asse del rotore descrive, in conseguenza, una traiettoria conica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76" name="Picture 18" descr="figura 5-26 moto conico"/>
          <p:cNvPicPr/>
          <p:nvPr/>
        </p:nvPicPr>
        <p:blipFill>
          <a:blip r:embed="rId2"/>
          <a:stretch/>
        </p:blipFill>
        <p:spPr>
          <a:xfrm>
            <a:off x="260280" y="4592520"/>
            <a:ext cx="4897440" cy="244152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19"/>
          <p:cNvSpPr/>
          <p:nvPr/>
        </p:nvSpPr>
        <p:spPr>
          <a:xfrm>
            <a:off x="1176480" y="7564320"/>
            <a:ext cx="34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8" name="Rectangle 20"/>
          <p:cNvSpPr/>
          <p:nvPr/>
        </p:nvSpPr>
        <p:spPr>
          <a:xfrm>
            <a:off x="4825080" y="4952880"/>
            <a:ext cx="1552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Fenomeno del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wobbling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9" name="Text Box 21"/>
          <p:cNvSpPr/>
          <p:nvPr/>
        </p:nvSpPr>
        <p:spPr>
          <a:xfrm>
            <a:off x="620640" y="7113600"/>
            <a:ext cx="57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Anche in questo caso, </a:t>
            </a:r>
            <a:r>
              <a:rPr b="1" lang="it-IT" sz="1800" spc="-1" strike="noStrike">
                <a:solidFill>
                  <a:srgbClr val="006699"/>
                </a:solidFill>
                <a:latin typeface="Arial"/>
              </a:rPr>
              <a:t>se la velocità angolare uguaglia una delle pulsazioni proprie del sistema, si verificano condizioni di risonanza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d i punti dell'asse deformato descrivono ellissi di notevole ampiezza. Queste velocità angolari sono ancora definite come velocità critiche del sistema e per esse valgono considerazioni fatte per il moto di whirling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73F0-DE99-4999-96EA-A0BEB06F87DA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4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692280" y="2289240"/>
            <a:ext cx="5616360" cy="70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Sbilanciamento statico e dinamico di un rotore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l rotore assialsimmetrico di un macchinario, ruota intorno ad un asse che, normalmente, non è né baricentrico né principale d'inerzia </a:t>
            </a:r>
            <a:r>
              <a:rPr b="1" lang="it-IT" sz="1800" spc="-1" strike="noStrike" baseline="30000">
                <a:solidFill>
                  <a:srgbClr val="292929"/>
                </a:solidFill>
                <a:latin typeface="Arial"/>
              </a:rPr>
              <a:t>(1)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a condizione ideale derivante da una “</a:t>
            </a:r>
            <a:r>
              <a:rPr b="1" lang="it-IT" sz="1800" spc="-1" strike="noStrike">
                <a:solidFill>
                  <a:srgbClr val="006699"/>
                </a:solidFill>
                <a:latin typeface="Arial"/>
              </a:rPr>
              <a:t>perfezione tecnica”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(assenza di forze e coppie d'inerzia indesiderate), non è ipotizzabile nella pratica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er avvicinarsi alla situazione di rotore “ideale”, a conclusione delle fasi costruttive di un rotore, viene effettuata sullo stesso un’operazione che viene definita come  </a:t>
            </a:r>
            <a:r>
              <a:rPr b="1" lang="it-IT" sz="1800" spc="-1" strike="noStrike">
                <a:solidFill>
                  <a:srgbClr val="006699"/>
                </a:solidFill>
                <a:latin typeface="Arial"/>
              </a:rPr>
              <a:t>bilanciamento del rotore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n effetti, un rotore si dice </a:t>
            </a:r>
            <a:r>
              <a:rPr b="1" i="1" lang="it-IT" sz="1800" spc="-1" strike="noStrike">
                <a:solidFill>
                  <a:srgbClr val="006699"/>
                </a:solidFill>
                <a:latin typeface="Arial"/>
              </a:rPr>
              <a:t>staticamente sbilanciato</a:t>
            </a:r>
            <a:r>
              <a:rPr b="1" lang="it-IT" sz="1800" spc="-1" strike="noStrike">
                <a:solidFill>
                  <a:srgbClr val="006699"/>
                </a:solidFill>
                <a:latin typeface="Arial"/>
              </a:rPr>
              <a:t>, quando l’asse di rotazione fisso non passa per il suo baricentro ma è principale di inerzia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baseline="30000">
                <a:solidFill>
                  <a:srgbClr val="292929"/>
                </a:solidFill>
                <a:latin typeface="Arial"/>
              </a:rPr>
              <a:t>(1)</a:t>
            </a:r>
            <a:r>
              <a:rPr b="1" lang="it-IT" sz="1600" spc="-1" strike="noStrike">
                <a:solidFill>
                  <a:srgbClr val="292929"/>
                </a:solidFill>
                <a:latin typeface="Arial"/>
              </a:rPr>
              <a:t> Si ricorda che per un dato corpo, tra tutte le rette passanti per un assegnato punto ne esistono tre, mutuamente normali, rispetto ad una delle quali il momento d'inerzia del corpo è massimo e rispetto ad un'altra è minimo. Queste </a:t>
            </a: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tre rette diconsi assi principali d'inerzia relativi al punto scelto. Se questo è il baricentro del corpo, i tre assi si definiscono assi centrali d'inerzia</a:t>
            </a:r>
            <a:r>
              <a:rPr b="1" lang="it-IT" sz="16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C6E3-FD04-4B7B-A577-ED7AF11D0E75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8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620640" y="567360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essendo “e” la distanza del baricentro dall'asse di rotazione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o sbilanciamento statico può essere evidenziato senza mettere in rotazione il rotore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0" name="Picture 5" descr="figura 5-1 rotori sbilanciati"/>
          <p:cNvPicPr/>
          <p:nvPr/>
        </p:nvPicPr>
        <p:blipFill>
          <a:blip r:embed="rId2"/>
          <a:srcRect l="0" t="0" r="18229" b="55590"/>
          <a:stretch/>
        </p:blipFill>
        <p:spPr>
          <a:xfrm>
            <a:off x="142920" y="2073240"/>
            <a:ext cx="5518080" cy="23097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600120" y="4376880"/>
            <a:ext cx="549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Nelle condizioni di figura, se la velocità angolare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è costante, nasce una forza d’inerzia centrifuga data d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8"/>
              <p:cNvSpPr txBox="1"/>
              <p:nvPr/>
            </p:nvSpPr>
            <p:spPr>
              <a:xfrm>
                <a:off x="2637000" y="5240160"/>
                <a:ext cx="115236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e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3" name="Text Box 10"/>
          <p:cNvSpPr/>
          <p:nvPr/>
        </p:nvSpPr>
        <p:spPr>
          <a:xfrm rot="16200000">
            <a:off x="4730400" y="2714400"/>
            <a:ext cx="225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Simulazione di rotore staticamente sbilanciat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4" name="Picture 13" descr=""/>
          <p:cNvPicPr/>
          <p:nvPr/>
        </p:nvPicPr>
        <p:blipFill>
          <a:blip r:embed="rId3"/>
          <a:srcRect l="0" t="10294" r="0" b="0"/>
          <a:stretch/>
        </p:blipFill>
        <p:spPr>
          <a:xfrm>
            <a:off x="189000" y="7045200"/>
            <a:ext cx="6669000" cy="18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D1E0-DCF4-4487-9211-FA94E9EFCAC4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7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620640" y="5040360"/>
            <a:ext cx="5616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Un rotore si dice, invece, </a:t>
            </a:r>
            <a:r>
              <a:rPr b="1" i="1" lang="it-IT" sz="1800" spc="-1" strike="noStrike">
                <a:solidFill>
                  <a:srgbClr val="006699"/>
                </a:solidFill>
                <a:latin typeface="Arial"/>
              </a:rPr>
              <a:t>dinamicamente sbilanciat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quando il suo </a:t>
            </a:r>
            <a:r>
              <a:rPr b="1" lang="it-IT" sz="1800" spc="-1" strike="noStrike">
                <a:solidFill>
                  <a:srgbClr val="006699"/>
                </a:solidFill>
                <a:latin typeface="Arial"/>
              </a:rPr>
              <a:t>asse di rotazione, pur essendo baricentrico, non è centrale d'inerzia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e la velocità angolare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è costante si può dimostrare che nasce una coppia di inerzia le cui componenti, assumendo come riferimento una terna solidale al rotore con asse z coincidente con l’asse di rotazione, sono pari 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 rot="16200000">
            <a:off x="4730760" y="3269880"/>
            <a:ext cx="225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Simulazione di rotore dinamicamente sbilanciat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0" name="Picture 10" descr="figura 5-1 rotori sbilanciati"/>
          <p:cNvPicPr/>
          <p:nvPr/>
        </p:nvPicPr>
        <p:blipFill>
          <a:blip r:embed="rId2"/>
          <a:srcRect l="0" t="52406" r="18229" b="0"/>
          <a:stretch/>
        </p:blipFill>
        <p:spPr>
          <a:xfrm>
            <a:off x="333360" y="2562120"/>
            <a:ext cx="5040360" cy="22464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1"/>
          <p:cNvSpPr/>
          <p:nvPr/>
        </p:nvSpPr>
        <p:spPr>
          <a:xfrm>
            <a:off x="549360" y="8193240"/>
            <a:ext cx="56880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ove le grandezze I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yz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 ed I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xz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sono i prodotti di inerzia del sistema rispettivamente rispetto agli assi y,z e x,z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2"/>
              <p:cNvSpPr txBox="1"/>
              <p:nvPr/>
            </p:nvSpPr>
            <p:spPr>
              <a:xfrm>
                <a:off x="1484280" y="7616880"/>
                <a:ext cx="44658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z</m:t>
                        </m:r>
                      </m:sub>
                    </m:sSub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;          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sub>
                    </m:sSub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   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EE94-A70D-44D5-B50B-E742A2FA59E2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6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620640" y="2432160"/>
            <a:ext cx="5616720" cy="67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o sbilanciamento dinamico di un rotore non può essere </a:t>
            </a:r>
            <a:r>
              <a:rPr b="1" lang="it-IT" sz="1800" spc="-1" strike="noStrike">
                <a:solidFill>
                  <a:srgbClr val="006699"/>
                </a:solidFill>
                <a:latin typeface="Arial"/>
              </a:rPr>
              <a:t>messo in evidenza con una prova statica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come nel caso precedente; è necessario, infatti, fare ricorso a più sofisticate apparati in grado di </a:t>
            </a:r>
            <a:r>
              <a:rPr b="1" lang="it-IT" sz="1800" spc="-1" strike="noStrike">
                <a:solidFill>
                  <a:srgbClr val="006699"/>
                </a:solidFill>
                <a:latin typeface="Arial"/>
              </a:rPr>
              <a:t>rilevare le vibrazioni indotte dall'insorgere di una coppia d'inerzia rotante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una volta messo in rotazione il rotore con velocità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costant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n generale un rotore ruota attorno ad un asse che non è  né baricentrico né principale d'inerzia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i parla perciò, in generale, di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it-IT" sz="1800" spc="-1" strike="noStrike">
                <a:solidFill>
                  <a:srgbClr val="ff0000"/>
                </a:solidFill>
                <a:latin typeface="Arial"/>
              </a:rPr>
              <a:t>rotore sbilanciato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” nel senso che coesistono lo sbilanciamento statico e quello dinamico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Allorché un siffatto rotore è posto in rotazione attorno ad un asse fisso, su di esso si sviluppano, per quanto detto, </a:t>
            </a:r>
            <a:r>
              <a:rPr b="1" lang="it-IT" sz="1800" spc="-1" strike="noStrike">
                <a:solidFill>
                  <a:srgbClr val="006699"/>
                </a:solidFill>
                <a:latin typeface="Arial"/>
              </a:rPr>
              <a:t>sia una forza centrifuga sia una coppia risultante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n molti casi forza e coppia sono così piccole da poter essere considerate nulle, almeno ai fini pratici. In altri casi, invece, la forza e la coppia di inerzia possono essere tali da provocare gravi disturbi funzionali  </a:t>
            </a:r>
            <a:r>
              <a:rPr b="1" lang="it-IT" sz="1800" spc="-1" strike="noStrike">
                <a:solidFill>
                  <a:srgbClr val="006699"/>
                </a:solidFill>
                <a:latin typeface="Arial"/>
              </a:rPr>
              <a:t>producendo reazioni rotanti e fenomeni vibrator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sui supporti e, di conseguenza,  nelle strutture con essi collegate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ADD1-2DB0-4964-9D17-141D6167E04B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1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620640" y="2509920"/>
            <a:ext cx="5616720" cy="66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99"/>
                </a:solidFill>
                <a:latin typeface="Arial"/>
              </a:rPr>
              <a:t>Bilanciamento dei rotori rigidi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l rotore di una macchina, pur essendo progettato e costruito per ruotare intorno ad un asse centrale d'inerzia, ruota come detto i precedenza, intorno ad un asse che non è né baricentrico né principale d'inerzia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Tra le più comuni ed inevitabili cause di imprecisione costruttiva figurano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gli errori di lavorazione alle macchine utensili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2) gli effetti di accumulo delle tolleranze di lavorazione nell'assemblaggio delle varie parti che costituiscono il rotore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3) le distorsioni dovute al montaggio a caldo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4) le soffiature od inclusioni nei pezzi ricavati a partire da semilavorati ottenuti per fusione.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er contenere gli effetti dello sbilanciamento, </a:t>
            </a:r>
            <a:r>
              <a:rPr b="1" lang="it-IT" sz="1800" spc="-1" strike="noStrike">
                <a:solidFill>
                  <a:srgbClr val="006699"/>
                </a:solidFill>
                <a:latin typeface="Arial"/>
              </a:rPr>
              <a:t>ciascun rotore, al termine delle operazioni costruttive, deve essere opportunamente bilanciat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allo scopo portare lo sbilanciamento al di sotto di un preciso valore “</a:t>
            </a:r>
            <a:r>
              <a:rPr b="1" i="1" lang="it-IT" sz="1800" spc="-1" strike="noStrike">
                <a:solidFill>
                  <a:srgbClr val="006699"/>
                </a:solidFill>
                <a:latin typeface="Arial"/>
              </a:rPr>
              <a:t>sbilanciamento residu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”, il cui valore limite viene fissato dalle norme per ciascuna tipologia di rotore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286A-7AF1-4327-AE77-4B64D2833F53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6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692280" y="2360520"/>
            <a:ext cx="549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er meglio comprendere la differenza tra sbilanciamento statico e quello dinamico, si consideri un rotore rigido ideale perfettamente bilanciato costituito da un cilindro di materiale omogeneo (figura a), che ruoti intorno al suo asse. Esso diventa </a:t>
            </a:r>
            <a:r>
              <a:rPr b="1" lang="it-IT" sz="1800" spc="-1" strike="noStrike">
                <a:solidFill>
                  <a:srgbClr val="006699"/>
                </a:solidFill>
                <a:latin typeface="Arial"/>
              </a:rPr>
              <a:t>staticamente sbilanciat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se una piccola massa “sbilanciante” m, che considereremo puntiforme, viene disposta in mezzeria sulla superficie esterna del cilindro (figura b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9" name="Picture 7" descr="figura 5-9 simulazione sbilanciamento"/>
          <p:cNvPicPr/>
          <p:nvPr/>
        </p:nvPicPr>
        <p:blipFill>
          <a:blip r:embed="rId2"/>
          <a:srcRect l="0" t="3455" r="0" b="0"/>
          <a:stretch/>
        </p:blipFill>
        <p:spPr>
          <a:xfrm>
            <a:off x="404640" y="5240160"/>
            <a:ext cx="626436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F3AF-1BC5-49AD-AFB6-F1C260D1B1C9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2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620640" y="4448160"/>
            <a:ext cx="568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er l'applicazione della massa m, il baricentro G' del rotore di massa M+m (M=massa del rotore bilanciato), si sposta dall'asse di rotazione, avvicinandosi ad m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a relazione che individua la posizione di G' è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5" name="Picture 6" descr="figura 5-9 simulazione sbilanciamento"/>
          <p:cNvPicPr/>
          <p:nvPr/>
        </p:nvPicPr>
        <p:blipFill>
          <a:blip r:embed="rId2"/>
          <a:srcRect l="0" t="50446" r="0" b="0"/>
          <a:stretch/>
        </p:blipFill>
        <p:spPr>
          <a:xfrm>
            <a:off x="189000" y="2392200"/>
            <a:ext cx="6696000" cy="20448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8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7"/>
              <p:cNvSpPr txBox="1"/>
              <p:nvPr/>
            </p:nvSpPr>
            <p:spPr>
              <a:xfrm>
                <a:off x="1052640" y="6110280"/>
                <a:ext cx="16254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</m:e>
                    </m:d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Rectangle 10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9"/>
              <p:cNvSpPr txBox="1"/>
              <p:nvPr/>
            </p:nvSpPr>
            <p:spPr>
              <a:xfrm>
                <a:off x="4003560" y="5961240"/>
                <a:ext cx="187344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≃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Rectangle 12"/>
          <p:cNvSpPr/>
          <p:nvPr/>
        </p:nvSpPr>
        <p:spPr>
          <a:xfrm>
            <a:off x="0" y="48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2924280" y="61056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a cu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620640" y="675324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o stesso effetti si ottiene con la disposizione di due masse m/2 nello stesso piano assiale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3" name="Picture 15" descr="figura 5-10 simulazione sbilanciamento 2 masse"/>
          <p:cNvPicPr/>
          <p:nvPr/>
        </p:nvPicPr>
        <p:blipFill>
          <a:blip r:embed="rId3"/>
          <a:stretch/>
        </p:blipFill>
        <p:spPr>
          <a:xfrm>
            <a:off x="289080" y="7381800"/>
            <a:ext cx="630864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9:39:13Z</dcterms:created>
  <dc:creator>user</dc:creator>
  <dc:description/>
  <dc:language>en-US</dc:language>
  <cp:lastModifiedBy>D'agostino</cp:lastModifiedBy>
  <dcterms:modified xsi:type="dcterms:W3CDTF">2012-12-03T08:02:13Z</dcterms:modified>
  <cp:revision>210</cp:revision>
  <dc:subject/>
  <dc:title>Diapositiva 1</dc:title>
</cp:coreProperties>
</file>