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C18-E06B-4F59-9109-4B74C7C4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B02-EA3A-40CC-81C8-66F6BFCB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D58-61AD-40AB-AEBC-6219CA6C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0A6-87F7-4AEE-A7DD-800C2656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B4E-0038-40C7-BE0C-A124E9E7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8D7-7374-4B45-BC09-60ECD17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6C0-C264-4B3C-A198-F299699A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024A-BAC6-4797-B046-94C9C228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797-3D12-4F9B-A951-44EDAC0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A7F-31E4-4360-B9E6-4CFFADFA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CA8-1D1C-498F-B006-58F40E8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D67-B518-4075-AE99-1B96369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0A5-15A2-40C8-AD52-B11153D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2C1-45AF-4523-974E-702A610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72C-540A-4FBE-A2CB-97B476F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211E-4949-4287-ACE5-6CB1C57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FA34-BF29-49D6-8D5A-64CE4E06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5C2-87D5-4B4F-9848-E367720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42A-EF6D-49BC-9D56-3ABA9FF5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934-EDCB-43B1-BEDF-4EC96C3E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266-E0DD-406A-A607-8992E27D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B7E-E2B9-4E38-AE76-0633EF7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714-61D8-453D-9EF0-45F4E77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153-A640-45DC-BE63-064D897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F1F-F5DA-4BA6-A9FC-E180BEDB149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A45-8B6C-45EA-928C-377738B0B1F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5000" y="2649600"/>
            <a:ext cx="561672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rizioni, dette anch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nesti ad attrito, servono a trasmettere una coppia tra due alberi coassial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vengono usate quando si vogliono effettuare le operazioni d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nesto e disinnesto anche in moto o sotto caric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solitamente in modo graduale con conseguente attenuazione degli effetti inerzial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rizioni possono anche ess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tilizzate come limitatore di coppi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quando si desidera il disaccoppiamento dei due alberi al verificarsi di un valore eccessivo della coppia da trasmette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rizioni possono essere classificate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1) in base al tipo di superfici di lavoro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 piane (a disco semplice, a dischi multipli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 coniche (semplici, doppie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ilindrich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) in relazione alla presenza o meno di fluido (in genere olio, che ha lo scopo di diminuire il coefficiente di attrito in fase di innesto e di fungere da refrigerante del sistema)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bagno d'olio (quando le due superfici a contatto sono metalliche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a secco una delle due superfici è metallica e l'altra è dotata di guarnizione d'attri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08360" y="2216160"/>
            <a:ext cx="13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 frizioni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0640" y="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ap. 6 Frizioni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E64-F15E-4B9F-B0AC-9A51FC097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2649600"/>
            <a:ext cx="5616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3) in relazione alla natura delle azioni che determinano l'accostamento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 comando meccanico (a molle, a leve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 comando pneumatico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-  comando idraulico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mando elettromagnetic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urante l’innesto vi è u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itori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aratterizzato da strisciamento tra le superfici a contatto (la superficie più veloce viene rallentata, quella più lenta viene accelerata) ad opera delle azioni di attrito cinetico (transitorio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transitorio le superfici si riscaldano per effetto del calore generatos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l termine della fase di strisciamento non vi è più velocità relativa e i due alberi che ruotano alla stessa velocità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nzionamento a regim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. Questa fase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ta di aderenz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è caratterizzata dalla trasmissione di potenz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evitare il rischio di slittamento durante il funzionamento a regime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è necessario che il momento trasmesso, che dipende dalla forza di chiusura tra le superfici accoppiate, sia maggiore della coppia massima erogata dal moto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A11-AF3D-4D88-A4DF-8BE20F9DD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5000" y="2649600"/>
            <a:ext cx="5616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izioni piane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e frizioni piane le superfici di contatto sono generalmente a forma di corona circolare, ricavate su dischi pian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possono avere frizioni con una sola coppia di dischi, in cui l'albero motore e l'albero condotto hanno ciascuno una superficie attiva, oppure frizioni a dischi multipli, in cui ogni albero ha più superfici attiv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6280" y="5600880"/>
            <a:ext cx="3384360" cy="334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27400" y="5384880"/>
            <a:ext cx="24386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C60-E04F-4AA7-A8F7-C70F58C44D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5000" y="2649600"/>
            <a:ext cx="561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Frizioni piane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una frizione monodisco Il contatto avviene generalmente solo su una corona circolare esterna rivestita di materiale idone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legame tra la forza d'innesto F e la coppia trasmessa M può essere determinato utilizzando l'ipotesi del 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Rey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881600"/>
            <a:ext cx="6381720" cy="314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52640" y="8337600"/>
                <a:ext cx="1800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fpdA</m:t>
                    </m:r>
                    <m:r>
                      <m:t xml:space="preserve">ω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45000" y="8121600"/>
                <a:ext cx="1728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ω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6DC-27FE-4719-8EC3-130B68D93A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48837" t="16152" r="0" b="0"/>
          <a:stretch/>
        </p:blipFill>
        <p:spPr>
          <a:xfrm>
            <a:off x="549360" y="2649600"/>
            <a:ext cx="3265560" cy="263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76640" y="3513240"/>
                <a:ext cx="165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ω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5000" y="5240160"/>
                <a:ext cx="5543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dr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d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6640" y="6105600"/>
                <a:ext cx="5329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r>
                          <m:t xml:space="preserve">fπK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21000" y="6897600"/>
                <a:ext cx="1800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F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76280" y="76168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esta è la relazione tra la forza d'innesto F ed il momento M trasmesso dalla frizion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ll'analisi di tale espressione si vede che il momento trasmesso dalla frizione dipende dalle dimensioni e dal materiale dei dischi e dalla forza premente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521-CC90-4FAD-8691-78F214C206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2280" y="2432160"/>
            <a:ext cx="554508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Frizioni coniche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e frizioni coniche i due alberi da collegare sono solidali a due elementi con superfici coniche, che possono essere premuti uno contro l'altr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figura è mostrato un esempio di frizione conica, caratterizzata oltre che dal coefficiente d'attrito fra le superfici di contatto, dalle dimensioni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dall'angolo di coni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360" y="5745240"/>
            <a:ext cx="5904000" cy="303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32F-B0C2-48F9-AEF7-C5E1BE630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640" y="5384880"/>
            <a:ext cx="556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trovare il legame tra la forza N=F di azionamento e il momento trasmesso M si adotta ancora l'ipotesi del Rey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'area di contatto infinitesima dA corrisponde all'area di una superficie tronco-conica di raggio medio r e di larghezza ds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33720" y="7113600"/>
                <a:ext cx="2447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d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2280" y="790560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forza infinitesima sulla superficie v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60640" y="8337600"/>
                <a:ext cx="2520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dA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9360" y="2505240"/>
            <a:ext cx="5543640" cy="28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40C-4F37-4BEE-B0E9-438A30ADAF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5000" y="6537240"/>
                <a:ext cx="5400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8720" y="7616880"/>
                <a:ext cx="5595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49360" y="581652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forza assiale N uguale in modulo della forza di innesto F, è pari a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2280" y="7257960"/>
            <a:ext cx="56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momento trasmesso, è dato da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73360" y="4952880"/>
                <a:ext cx="2592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dA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92280" y="840888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nendo f' = f / sin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la precedente relazione si scrive come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66920" y="8913960"/>
                <a:ext cx="1819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5000" y="2144880"/>
            <a:ext cx="5543640" cy="28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6B2-75CC-4FDD-B816-72250D9A2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0640" y="6032520"/>
            <a:ext cx="5492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vede, quindi, che, a parità di dimensioni radiali, di materiale e di forza d'innesto, una frizione conica trasmette un momento maggiore rispetto ad una frizione pian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come se il materiale delle superfici di contatto, anziché avere un coefficiente d'attrito f avesse un coefficiente virtuale f ’ di valore maggiore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635280" y="5313240"/>
                <a:ext cx="1820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9360" y="2432160"/>
            <a:ext cx="5688000" cy="292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801-1CA8-456D-91B6-6E39AD4F6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user</cp:lastModifiedBy>
  <dcterms:modified xsi:type="dcterms:W3CDTF">2011-11-13T12:29:01Z</dcterms:modified>
  <cp:revision>527</cp:revision>
  <dc:subject/>
  <dc:title>Diapositiva 1</dc:title>
</cp:coreProperties>
</file>