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D2A-7967-4CAF-B5E2-E5586E9D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731-901E-4B62-A038-CFE8EB2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786-D373-48CF-9D0D-459A465C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7F3-FAAA-4267-8A2A-CD9E9AB0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3806-CF69-4EB9-87E1-89183A6A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E329-3780-4776-9032-015E9B5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199D-0B7C-4297-B86D-E7A4FD0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646-6457-4F47-861C-C04757B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CEA-9963-4022-B8FC-E384CE4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072B-5728-4AC1-A783-2F1C018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1349-2716-4311-96E2-475B3A2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B8F-3349-4D62-B048-73701AEA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8A1-FBC1-4BE6-B29D-4E086E6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1D9F-DAF5-4B00-B317-177DA52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514C-7DA1-4782-8D30-3E628C5E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210F-3AC1-415E-BF93-228D1522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0C1-0D9E-4F4E-852D-4C8BD826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2A2-0579-43BD-B453-587FC89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80F-7C5A-451D-A3B6-9F01BC78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CA4-8857-4E54-A533-5CB5FB2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536-532E-4777-AD5B-03FAF78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51B-49C0-4C6C-A4A8-E2ADAB8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030-5C05-48F0-9CFD-8F6CD9A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084-7C14-4A26-867F-6C4EB6A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cc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E97-7412-4E9B-8FAA-3481FA1D913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2228-40AC-4235-A3B7-4D4390A3CCA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5000" y="2649600"/>
            <a:ext cx="5616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freni hanno la funzione di controllare la velocità con lo scopo di produrre la decelerazione del sistema su cui agisc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principali sistemi di frenatura sono costituiti dai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freni meccanici</a:t>
            </a:r>
            <a:r>
              <a:rPr b="1" lang="it-IT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tti a rallentare il moto di un corpo sfruttando i fenomeni dell'attrito che si manifestano tra l’elemento frenante che, per effetto di una forza di azionamento F viene tenuto a contatto con la superficie del corpo che deve essere frena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tre tipologie usate sono costituite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dai freni fluidodinamici e dai freni elettromagnetici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i freni meccanici, nella fase di frenatura, si ha la conversione di energia cinetica in calore che determina un innalzamento della temperatura delle superfici a contatto ed in particolare del materiale di cui sono costituite le “guarnizioni” dell’elemento frenan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innalzamento di temperatura provoca una diminuzione del coefficiente di attrito radente e di conseguenza del valore della coppia frenante (condizioni critiche sono rappresentate dal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fenomeno del fadin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9720" y="2216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 freni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0640" y="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ap. 6 Freni e frizioni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F39-C200-4448-96B4-CC9BD179DA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37000" y="2984400"/>
                <a:ext cx="21844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00280" y="6465960"/>
                <a:ext cx="3527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2280" y="5889600"/>
            <a:ext cx="56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, risolvend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0640" y="2649600"/>
            <a:ext cx="374508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53000" y="38736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cordando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3720" y="47372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9720" y="5168880"/>
                <a:ext cx="2303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87880" y="4305240"/>
                <a:ext cx="862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BF2-5F59-44AD-B9EC-8D0FDA74A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149720" y="3584520"/>
                <a:ext cx="2087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557360" y="7977240"/>
                <a:ext cx="3816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2280" y="75452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2280" y="5313240"/>
            <a:ext cx="56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tta T=fN la risultante delle forze tangenziali dovuta all’attrito, è  agevole determinare la relazione intercorrente tra la forza di attrito T e la coppia esterna di azionamento 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 riferimento alla figura, dall’equilibrio dei momenti rispetto ad O si ha, infatt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92280" y="2432160"/>
            <a:ext cx="3384360" cy="273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37000" y="7184880"/>
                <a:ext cx="1574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CA1-DA8D-41AB-8178-EAC7CA4D1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00280" y="5889600"/>
                <a:ext cx="3043080" cy="34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07920" y="2505240"/>
            <a:ext cx="3313080" cy="26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860640" y="4952880"/>
                <a:ext cx="2568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AA7-CF4D-437B-BBAE-076E681FD1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2432160"/>
            <a:ext cx="5419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Freno a pattino piano ad accostamento libe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un freno a pattino ad accostamento libero il collegamento tra pattino e telaio è realizzato tramite una biell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92280" y="3800520"/>
            <a:ext cx="5473440" cy="2079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92280" y="5961240"/>
            <a:ext cx="55641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'azionamento del pattino può essere ancora esplicato attraverso una coppia C applicata alla biella oppure una forza applicata direttamente al pattin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pattino è un sistema a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due gradi di libert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 il suo moto è somma di una rotazione attorno ad O e di una rotazione attorno ad O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moto di accostament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non è, quindi, noto a priori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me nel caso preceden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relazione tra la forza di attrito T e la coppia di azionamento C si può determinare per via graf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8CA-87CD-4143-9C2C-28BB1D34D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4881600"/>
            <a:ext cx="5564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sul pattin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agiscono la risultante R delle forze di contatto (inclinata dell’angolo di attrit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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la reazione F della cerniera in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he, per l’equilibrio,  devono essere uguali ed opposte e giacere sulla stessa retta d'azion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sulla biell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agiscono la coppia di azionamento C e le reazioni F ed F’ in corrispondenza delle due cerniere in O ed O’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oto il coefficiente di attrito e la geometria della biella (braccio d) si può esprimere l'equilibrio attorno ad O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92280" y="2289240"/>
            <a:ext cx="4105080" cy="2636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1000" y="8048520"/>
                <a:ext cx="24019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d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69000" y="2865600"/>
            <a:ext cx="146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iagrammi del corpo libero del pattino e a della biell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205000" y="8337600"/>
                <a:ext cx="4132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O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ϕ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92280" y="89852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stabilisce, così, la relazione tra la coppia C di azionamento e la forza frenante 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000" y="8481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E15-78E4-437B-9991-201E81051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0280" y="2289240"/>
            <a:ext cx="5977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Freni a cepp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rovano applicazione in campo automobilistico e ferroviario, in apparecchi di sollevamento, in macchine utensil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no, normalmente, costituiti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a uno o più ceppi detti anche ganasc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che vengono premuti sulla superficie cilindrica di una puleggia o di un tamburo calettato sull'albero che si vuole frenar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0640" y="869796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ossono essere ad accostamento rigido o libero a seconda di come sono vincolati i cepp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rcRect l="0" t="7312" r="0" b="7312"/>
          <a:stretch/>
        </p:blipFill>
        <p:spPr>
          <a:xfrm>
            <a:off x="620640" y="4737240"/>
            <a:ext cx="5616720" cy="39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4E7-2D0F-45A1-81C2-3B05125E2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4640" y="2505240"/>
            <a:ext cx="5832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resistenza tangenziale d'attrito che si sviluppa nel moto relativo tra ceppi e corona determina il momento frenan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ceppi, nella parte che viene a contatto con la puleggia, sono rivestiti da una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guarnizione in materiale ad alto coefficiente d'attri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d elevata resistenza all'usura ed al riscaldamen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usano oggi come guarnizioni materiali costituiti da fibre sintetiche (in sostituzione dell’amianto prima usato), resine sintetiche e rinforzo metallic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ceppi possono essere posti all'esterno o all'interno  dell'elemento frena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20640" y="6392880"/>
            <a:ext cx="547236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0B8-21D3-4B62-BB99-58317F42F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3360" y="2792520"/>
            <a:ext cx="583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fase di frenatura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ceppo viene premuto contro la superficie del rotore (puleggia o del tamburo) mediante l'applicazione di una forza di azionamento. La fase di richiamo del ceppo avviene per l’azione di specifici elementi elastic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ra ceppo e puleggia si determina una distribuzione di pressione che, come nel caso dei freni a pattino, può essere determinata applicando l'ipotesi del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Rey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, in tali applicazioni comporta, però, una trattazione piuttosto laborios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calcoli di prima approssimazione, è possibile adottare un metodo approssimato per la determinazione della forza di azionamento necessaria per attuare la desiderata coppia frenan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e modello semplificato consiste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nel ritenere simmetrica, rispetto all’asse orizzontale, la legge di distribuzione delle pression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vale a dire di ritenere concentrata nel punto medio dell’arco di contatto la risultante N delle forze elementari scambiate tra ceppo e tambu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EBB-CC4F-46C2-858E-6A9E335F1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3360" y="2649600"/>
            <a:ext cx="590400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i freni a ceppo,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la forza di attri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all’interfaccia, a parità di tutte le condizioni di funzionamento,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risulta diversa a seconda del verso di rotazione del roto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generale il comportamento di un “ceppo” si definisce 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</a:rPr>
              <a:t>avvolg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quando il verso di rotazione del tamburo avviene verso la cerniera del ceppo, altrimenti si definisce 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</a:rPr>
              <a:t>svolgente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i casi illustrati il ceppo è avvolgente per il verso di rotazion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; svolgente per il vers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7" name="freno a ceppi 2" descr=""/>
          <p:cNvPicPr/>
          <p:nvPr/>
        </p:nvPicPr>
        <p:blipFill>
          <a:blip r:embed="rId2">
            <a:lum bright="8000"/>
          </a:blip>
          <a:srcRect l="0" t="8060" r="0" b="0"/>
          <a:stretch/>
        </p:blipFill>
        <p:spPr>
          <a:xfrm>
            <a:off x="620640" y="639288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358" name="freno a ceppi 5" descr=""/>
          <p:cNvPicPr/>
          <p:nvPr/>
        </p:nvPicPr>
        <p:blipFill>
          <a:blip r:embed="rId3"/>
          <a:srcRect l="0" t="3436" r="0" b="0"/>
          <a:stretch/>
        </p:blipFill>
        <p:spPr>
          <a:xfrm>
            <a:off x="3213000" y="5961240"/>
            <a:ext cx="3098880" cy="2950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187280" y="3924360"/>
            <a:ext cx="2241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3924360"/>
            <a:ext cx="224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9AD-0844-47A3-952B-CEB404E2E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0280" y="250524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opportuno notare che la forza di attrito all’interfaccia, a parità di tutte le condizioni di funzionamento, risulta diversa a seconda del verso di rotazione del rotor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il ceppo è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nterno l’azione frenante è maggiore se il ceppo è avvolg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; se il ceppo è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sterno l’azione frenante è più efficace se il ceppo è svolg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7016" r="0" b="8770"/>
          <a:stretch/>
        </p:blipFill>
        <p:spPr>
          <a:xfrm>
            <a:off x="333360" y="4808520"/>
            <a:ext cx="2879640" cy="2119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4304" r="0" b="7173"/>
          <a:stretch/>
        </p:blipFill>
        <p:spPr>
          <a:xfrm>
            <a:off x="549360" y="7008840"/>
            <a:ext cx="3382920" cy="2897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60640" y="5024520"/>
            <a:ext cx="244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reno a due ceppi avvolgenti per rotazione antioraria. (Funzionamento diverso per i due versi di rotazion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0640" y="7257960"/>
            <a:ext cx="26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reno con un ceppo avvolgente ed uno svolgente.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Funzionamento uguale per entrambi i versi di rotazion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42E-A912-428A-BA4F-A8D6DC8839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0640" y="7473960"/>
            <a:ext cx="56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 seconda del tipo considerato, l'elemento frenante può essere un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attin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un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cepp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una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astigli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o un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nastr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elemento frenante che viene ad agire su un elemento frenato avente normalmente superficie piana o cilindr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96560" y="22161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Freni meccanici ad attrito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6640" y="2649600"/>
            <a:ext cx="5256360" cy="45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A9B-A623-439A-A8C4-ACE109645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3360" y="2576520"/>
            <a:ext cx="590544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Determinazione della forza frenante nei freni a ceppi ad accostamento rigid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azione di combaciamento tra ceppo e tamburo dà luogo a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forze di attrito elementar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distribuite su tutta l’area di contatto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che soddisfano le leggi dell’attrito radente secc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dry friction)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risultante di dette forze è definita noto che sia il valore del coefficiente di attrito radente tra i materiali a contatto e la forza normale tra ceppo e rotore che deriva dalla legge di distribuzione della pressione lungo il rivestimen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coefficiente di attrito viene assunto costa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nel tempo ed uguale alla media statica dei valori local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determinazione della forza frenante risulta pressoché immediata considerando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piccola l’estensione angolare della zona di conta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ritenendo uniforme, con buona approssimazione, la pressione tra ceppo e tamburo nonché diretta lungo un asse di mezzeria la risultante N degli sforzi normal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8480" y="821376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0EA-D02D-41D4-AF36-F43310B5BA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0280" y="5673600"/>
            <a:ext cx="583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ondizione di equilibrio alla rotazione intorno al fulcro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delle forze agenti sul ceppo fornisce, per i due versi di rot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549360" y="2360520"/>
            <a:ext cx="3671640" cy="3357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81360" y="3081240"/>
            <a:ext cx="1748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 = forza di azionamen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N = forza di chiusur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F = forza di attri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00280" y="6681960"/>
                <a:ext cx="3205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erso 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erso 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57360" y="7905600"/>
                <a:ext cx="35290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549360" y="7473960"/>
            <a:ext cx="57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,  ricordando che  F = fN risulta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F09-9649-4F66-BBE3-3186D21C50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3360" y="6465960"/>
            <a:ext cx="60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etto r è il raggio del tamburo, si ricavano i valori delle coppie frenanti a parità di forza di azionamento P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549360" y="2649600"/>
            <a:ext cx="3671640" cy="3357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653000" y="3081240"/>
            <a:ext cx="17478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 = forza di azionamen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N = forza di chiusur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F = forza di attri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989000" y="7515360"/>
                <a:ext cx="2448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581360" y="5097600"/>
                <a:ext cx="1511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568-D10B-4BE4-A4D6-0CD6E2B8AD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9360" y="3224160"/>
            <a:ext cx="561636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 parità di forza di azionamento P, per ceppi interni, l’azione frenante è maggiore per la rotazione nel senso 1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sizionando opportunamente il fulcro O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è possibile realizzare la condizione di “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autofrenatur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consistente nella capacità di impedire automaticamente, senza bisogno quindi dell'applicazione di una forza esterna P, la rotazione della puleggia in uno dei due vers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prendendo le rel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41520" y="2432160"/>
                <a:ext cx="5290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492280" y="6248520"/>
                <a:ext cx="17287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620640" y="7616880"/>
            <a:ext cx="556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educe, ad esempio, la possibilità di realizzare un freno “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automatico o autofrena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capace di impedire automaticamente la rotazione della puleggia nel senso 1: basta infatti realizzare costruttivamente la condizione b-fc=0 ossia b=fc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FA3-E8F8-433F-9CFC-C6037A2E74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2280" y="2289240"/>
            <a:ext cx="561636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Freni a ceppi ad accostamento libe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freno illustrato in figura il ceppo è incernierato al braccio in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Il moto del ceppo è allora la somma di una rotazione attorno ad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di una rotazione attorno a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il ceppo ha quindi due gradi di libertà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2280" y="7689960"/>
            <a:ext cx="561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questo sistema è incognita la retta d'azione della risultante delle forze scambiate tra ceppo e tambu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ale retta d'azione si può determinare con un metodo grafico detto del “</a:t>
            </a:r>
            <a:r>
              <a:rPr b="1" i="1" lang="en-US" sz="1800" spc="-1" strike="noStrike">
                <a:solidFill>
                  <a:srgbClr val="cc0099"/>
                </a:solidFill>
                <a:latin typeface="Arial"/>
              </a:rPr>
              <a:t>cerchio d'attri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12642" t="0" r="0" b="0"/>
          <a:stretch/>
        </p:blipFill>
        <p:spPr>
          <a:xfrm>
            <a:off x="1844640" y="4089240"/>
            <a:ext cx="325116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866-4A95-4307-96DD-47AF160003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9360" y="4305240"/>
            <a:ext cx="5832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isegna un cerchio di raggi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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rsin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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ssend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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’angolo di attrito cinetic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forza scambiata, per l'equilibrio del ceppo, deve avere una direzione passante per O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forza applicata al tamburo (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 deve essere tangente al cerchio di attrito e con verso tale da  opporsi al moto del tamburo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sulta così determinata la forza scambiata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sarà inclinata dell'angolo d'attrit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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petto alla normale nel punto E di applicazione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noti che l'angolo di cui è inclinata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petto alla mezzeria del ceppo non è più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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m'era  nel caso di ceppo ad accostamento rigido, ma un angolo diverso e che può essere determinato nota la geometria del sistema. Una volta determinato tale angolo si può imporre l'equilibrio del ceppo come nel caso di freno ad accostamento rigido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rcRect l="0" t="9242" r="0" b="0"/>
          <a:stretch/>
        </p:blipFill>
        <p:spPr>
          <a:xfrm>
            <a:off x="549360" y="2144880"/>
            <a:ext cx="3384360" cy="21002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273560" y="2668680"/>
            <a:ext cx="21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005360" y="257652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dimostra che, per la determinazione dell’azione frenante si deve seguire il seguente procedimen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2C2-79FA-403B-8561-3AE71083EE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66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6280" y="2505240"/>
            <a:ext cx="57610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Freni a ceppo: modello a ceppo estes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molte applicazioni non possibile adottare l’ipotesi di ceppo con estensione “piccola” rispetto al raggio del rotore e, quindi, non è lecito considerare simmetrica la distribuzione di pressione lungo l’arco di abbracciamento. La reazione normale N, perciò, non risulta applicata sull’asse di simmetria del tambu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6000" y="4764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rcRect l="3722" t="8953" r="53166" b="10943"/>
          <a:stretch/>
        </p:blipFill>
        <p:spPr>
          <a:xfrm>
            <a:off x="549360" y="5168880"/>
            <a:ext cx="3402000" cy="33796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4005360" y="5024520"/>
            <a:ext cx="23032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dimostra che, per una rotazione piccola intorno al fulcro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il moto radiale di ogni punto di contatto Q è proporzionale alla perpendicolare d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passante per O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ondotta rispetto al raggio per il punto considerat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B05-7C0F-42AE-90D5-B8ED24AD7E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466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6000" y="4764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rcRect l="3722" t="8953" r="53166" b="10943"/>
          <a:stretch/>
        </p:blipFill>
        <p:spPr>
          <a:xfrm>
            <a:off x="404640" y="2720880"/>
            <a:ext cx="3402360" cy="3380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860640" y="2505240"/>
            <a:ext cx="2448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materiale del rivestimento rispetta la legge di Hooke, si dimostra che anche </a:t>
            </a: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la pressione è proporzionale alla distanza d</a:t>
            </a:r>
            <a:r>
              <a:rPr b="1" lang="it-IT" sz="1800" spc="-1" strike="noStrike" baseline="-25000">
                <a:solidFill>
                  <a:srgbClr val="cc009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ovvero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tt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’angolo che, partendo da OO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dividua la posizione del punto Q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365720" y="5889600"/>
                <a:ext cx="1655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O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628640" y="7473960"/>
                <a:ext cx="3600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O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1484280" y="7977240"/>
                <a:ext cx="3816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O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610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73200" y="6485040"/>
            <a:ext cx="56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forza normale elementare dN agente su un arco d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la corrispondente forza d’attrito dF, valgono, ovviament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20640" y="84819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ssendo f  il coefficiente di attrito tra materiale del rivestimento e quello del roto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BE9-7D47-4B28-9CFF-436897D311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466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000" y="4764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rcRect l="3722" t="8953" r="53166" b="10943"/>
          <a:stretch/>
        </p:blipFill>
        <p:spPr>
          <a:xfrm>
            <a:off x="260280" y="2505240"/>
            <a:ext cx="3402000" cy="33796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645000" y="4881600"/>
                <a:ext cx="2808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645000" y="7545240"/>
                <a:ext cx="26636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3645000" y="5961240"/>
            <a:ext cx="289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equilibrio alla rotazione, rispetto al fulcro delle forze che agiscono sul ceppo (figura b), fornisce, po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60640" y="2720880"/>
            <a:ext cx="24480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dicando con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gli angoli che delimitano la dimensione della guarnizione d’attrito, il momento d’attrito M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sulta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rcRect l="53166" t="8953" r="10633" b="3979"/>
          <a:stretch/>
        </p:blipFill>
        <p:spPr>
          <a:xfrm>
            <a:off x="189000" y="6070680"/>
            <a:ext cx="2967120" cy="38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455-BFBE-4C74-88C7-BB2C9D1F37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466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4548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6000" y="4764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83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933720" y="2720880"/>
                <a:ext cx="266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04640" y="6105600"/>
                <a:ext cx="6048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6" name="" descr=""/>
          <p:cNvPicPr/>
          <p:nvPr/>
        </p:nvPicPr>
        <p:blipFill>
          <a:blip r:embed="rId2"/>
          <a:srcRect l="53166" t="8953" r="10633" b="11938"/>
          <a:stretch/>
        </p:blipFill>
        <p:spPr>
          <a:xfrm>
            <a:off x="549360" y="2432160"/>
            <a:ext cx="2967120" cy="3484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057560" y="396396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le rel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149720" y="4665600"/>
                <a:ext cx="1944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076640" y="5097600"/>
                <a:ext cx="21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4076640" y="55292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" y="677232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ostante K può essere calcolata attraverso le due equ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776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031840" y="7513560"/>
                <a:ext cx="2721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0" y="4815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76280" y="8121600"/>
                <a:ext cx="5950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dθ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43-07A8-4347-9F9C-4F42D5BF65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0640" y="6032520"/>
            <a:ext cx="5832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 seconda del il tipo di moto che caratterizza l'accostamento dell'elemento frenante su quello frenato, si distinguono i seguenti tipi di fre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</a:rPr>
              <a:t>freni ad accostamento rigid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in cui l'elemento frenante ha possibilità di muoversi con un solo grado di libertà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</a:rPr>
              <a:t>freni ad accostamento liber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in cui l'elemento frenante può muoversi con più gradi di libertà (due o tre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41360" y="2144880"/>
            <a:ext cx="4319640" cy="37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9A8-5E36-4D81-AC4D-F17B443490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289240"/>
            <a:ext cx="59752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Freni a pattini piani ad accostamento rigi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no quelli meno usati nella pratica corrente. Possibili applicazioni si ritrovano nei sistemi di frenatura di nastri traspertatori o, più raramente, in alcuni veicoli su rotaia. Altra frequente applicazione è rappresentata dal sistema di frenatura delle biciclette, ove i pattini sono gli elementi che vengono spinti a contatto con il cerchio dalle pinze freni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un punto di vista puramente funzionale, un freno a pattino ad accostamento rigido è schematizzato in figura; il pattino può essere incernierato ad un telaio fisso e venire usato proprio per frenare il moto di un nastro, oppure può essere vincolato al telaio di un veicolo e agire su una rotaia fissa per frenare il veicolo stess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2280" y="7184880"/>
            <a:ext cx="5616360" cy="23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A75-9C94-416A-9D2A-A3E668C7F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0280" y="2505240"/>
            <a:ext cx="6048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funzione della coppia frenant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f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necessaria ad indurre un determinato transitorio di frenatura, si deve calcolare la forza/coppia azionamento necessari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92280" y="3873600"/>
            <a:ext cx="5616360" cy="2382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0640" y="6465960"/>
            <a:ext cx="56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sistema frenante costituito da un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attino piano ad accostamento rigid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ha un solo grado di libertà essendo il moto del pattino costituito da una rotazione intorno al punto O di collegamento col telai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pattino, premuto contro la superficie mobile per effetto di una coppia esterna C, a causa dello strisciamento, si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sura con una legge che può essere approssimata di tipo line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39F-A5B5-4E23-B427-892BAAA4F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92280" y="2289240"/>
            <a:ext cx="5257800" cy="223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280" y="45212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dicando con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l'usura in corrispondenza dell’ascissa x (si assume il punto A come origine del riferimento) si può assumer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81360" y="5097600"/>
                <a:ext cx="7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05000" y="8840880"/>
                <a:ext cx="2448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fpdAv</m:t>
                    </m:r>
                    <m:r>
                      <m:rPr>
                        <m:lit/>
                        <m:nor/>
                      </m:rPr>
                      <m:t xml:space="preserve"> rSub { size 8{r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2280" y="5384880"/>
            <a:ext cx="568944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determinare l'azione frenante in funzione della coppia di azionamento C si può utilizzare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l'ipotesi dell'usura proposta dal Reye, second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00cc"/>
                </a:solidFill>
                <a:latin typeface="Arial"/>
              </a:rPr>
              <a:t>cui il volume di materiale asportato in un dato intervallo di tempo a causa dell’usura è proporzionale al lavoro compiuto dalle forze di attrito nello stesso intervallo di temp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tti dV 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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pettivamente il volume e lo spessore di materiale asportato nell’unità di tempo, dA l’area di contatto, f il coefficiente di attrito cinetico, p la pressione di contatto,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a velocità relativa vale la rel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3BC-F089-4D36-BA4D-783B1D280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0280" y="2505240"/>
            <a:ext cx="5113440" cy="2170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653000" y="3152880"/>
                <a:ext cx="1800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fpdAv</m:t>
                    </m:r>
                    <m:r>
                      <m:rPr>
                        <m:lit/>
                        <m:nor/>
                      </m:rPr>
                      <m:t xml:space="preserve"> rSub { size 8{r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05000" y="7329600"/>
                <a:ext cx="24512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 ital </m:t>
                    </m:r>
                    <m:r>
                      <m:t xml:space="preserve">fpdA</m:t>
                    </m:r>
                    <m:r>
                      <m:rPr>
                        <m:lit/>
                        <m:nor/>
                      </m:rPr>
                      <m:t xml:space="preserve"> v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33720" y="8913960"/>
                <a:ext cx="2592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f v} } =k cdot δ=K cdot x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92280" y="4737240"/>
            <a:ext cx="56894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moto del pattino può essere scomposto nella somma di una rotazione attorno ad A, che è il vero e proprio moto di usura e una traslazione perpendicolare a OA, che non produce alcuna us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ll'ipotesi dell'usura, poiché la velocità relativa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v, ha lo stesso valore, istante per istante, in ogni punto del contatto, la precedente relazione può riscriversi com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5000" y="7689960"/>
            <a:ext cx="55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, ritenendo costante il valore del coefficiente di attrito f e ricordando che si è assunt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=k’x, si può definire la seguente legge di distribuzione della press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AAC-B31D-4F5C-8853-9AB5101F1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5000" y="5097600"/>
            <a:ext cx="5400720" cy="2292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2865600"/>
            <a:ext cx="556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pressione di contatto in un punto generico della superficie del pattino, pertanto, risulta essere proporzionale all’usura linear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diagramma trapezoidale di figura rappresenta, quindi, rappresenta qualitativamente sia l'andamento dell’usura linear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sia l’andamento della pressione p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349360" y="2360520"/>
                <a:ext cx="1729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20640" y="7616880"/>
            <a:ext cx="56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effetto della distribuzione di pressione, nasce uno </a:t>
            </a:r>
            <a:r>
              <a:rPr b="1" lang="en-US" sz="1800" spc="-1" strike="noStrike">
                <a:solidFill>
                  <a:srgbClr val="ca0207"/>
                </a:solidFill>
                <a:latin typeface="Arial"/>
              </a:rPr>
              <a:t>sforzo normale N che risulta definito da un vettore passante per il baricentro del diagramma di pressio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E3F-3298-4238-83FE-454B30C1B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cc33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757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2576520"/>
            <a:ext cx="5564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 riferimento al pattino, assunto il punto A come origine del riferimento (V. figura),  detta x la distanza di un punto generico sulla superficie del pattino stesso  ed x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l’ascissa del baricentro G del diagramma trapezoidale di pressione, risulta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853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221000" y="4232160"/>
                <a:ext cx="2160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d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81360" y="4737240"/>
                <a:ext cx="14414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81360" y="7229520"/>
                <a:ext cx="1758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4686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5000" y="8481960"/>
                <a:ext cx="2232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p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2280" y="8048520"/>
            <a:ext cx="56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ad N il predetto valore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9360" y="4592520"/>
            <a:ext cx="3744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8640" y="58896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ll’equilibrio dei momenti rispetto ad O, risulta, inoltr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022-A5AE-49C3-8554-604EA56BF6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Adolfo Senatore</cp:lastModifiedBy>
  <dcterms:modified xsi:type="dcterms:W3CDTF">2011-11-09T10:59:55Z</dcterms:modified>
  <cp:revision>530</cp:revision>
  <dc:subject/>
  <dc:title>Diapositiva 1</dc:title>
</cp:coreProperties>
</file>