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6858000" cy="9907588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246-2816-4843-ACBC-0E26B8E1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EE6-47A5-4DF3-8F5A-F34C6E0A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550-A900-4E53-BF22-478B12B1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377-D94F-4F20-8EDB-E542BB9A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D0E8-B094-4F65-B7CA-6445380F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E591-A2C6-4119-AC53-AA2900EC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0B46-F6E5-44F3-8004-A9FFE26C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3CFB-F19B-46C1-B17E-33CDCC34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B0AF-74D1-4965-B0F9-2E2FCB9F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8BE7-991B-4E3B-AF7F-BF5CF52A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1FB3-19DF-44FF-A05A-66D467C3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4DC-C16E-4969-9CE6-D2FDBDF3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FB19-6E70-48B0-A195-5563C245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2419-8869-4503-94E1-13400DB6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410B-3C0E-4655-9A38-64DA1FC7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F2AA-B545-4F23-AABC-4098238C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8524-075E-4E99-8FDA-E0FA5BD0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BA7-BA78-4368-8F49-CAF77108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77F-CFC9-4F46-B1CB-063F7F38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FAA-012F-47AB-90CD-A032B4EE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EB6-4134-4934-BC02-92FC0D17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966-0B0F-4F98-8275-B7BF0218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798-2C72-4BE8-B624-82A92FB7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E05-6AE7-4C58-A17B-F83894B0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90800"/>
            <a:ext cx="1600200" cy="14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5760" y="1990800"/>
            <a:ext cx="5429520" cy="14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92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288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3E7E-7F15-45BA-9179-2E1D7436AD7C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560" y="811080"/>
            <a:ext cx="114480" cy="1541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97760" y="390600"/>
            <a:ext cx="114120" cy="15494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768D-A31E-4326-8581-1722146602BC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320840"/>
            <a:ext cx="6514920" cy="3631680"/>
            <a:chOff x="0" y="1320840"/>
            <a:chExt cx="6514920" cy="3631680"/>
          </a:xfrm>
        </p:grpSpPr>
        <p:sp>
          <p:nvSpPr>
            <p:cNvPr id="49" name=""/>
            <p:cNvSpPr/>
            <p:nvPr/>
          </p:nvSpPr>
          <p:spPr>
            <a:xfrm>
              <a:off x="171360" y="1320840"/>
              <a:ext cx="1885680" cy="3631680"/>
            </a:xfrm>
            <a:prstGeom prst="ellipse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421360"/>
              <a:ext cx="3543120" cy="1650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71800" y="2421360"/>
              <a:ext cx="3543120" cy="165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6840" y="2201040"/>
              <a:ext cx="171360" cy="20930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86720" y="1747080"/>
              <a:ext cx="196200" cy="19807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28560" y="2084040"/>
            <a:ext cx="531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9360" y="2649600"/>
            <a:ext cx="57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n gruppo è un impianto costituito da una macchina motrice (il motore), destinata a muovere una macchine utilizzatrice. Da un punto di vista funzionale, può essere schematizzato come in figura, 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avendo ridotto masse e forze del sistema all’asse della macchina motric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(accoppiamento diretto motore-carico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Il trasferimento di energia tra le due macchine avviene, in generale, attraverso una trasmissione che  può comprendere un riduttore di velocità e/o altri organi di trasformazione del mot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(ad esempio da rotatorio a lineare o viceversa)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9880" y="2216160"/>
            <a:ext cx="41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inamica di un gruppo di macchin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0640" y="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ap. 5 Dinamica di un gruppo di macchin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52640" y="5961240"/>
            <a:ext cx="4752720" cy="37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A45-CDBA-4D0B-B131-8E62D2EEDC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2280" y="2576520"/>
            <a:ext cx="549252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 invece una almeno delle macchine del gruppo è  di tipo 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alternativ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 allora 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I</a:t>
            </a:r>
            <a:r>
              <a:rPr b="1" lang="it-IT" sz="1800" spc="-1" strike="noStrike" baseline="-25000">
                <a:solidFill>
                  <a:srgbClr val="004568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risulta variabile e può essere considerato come 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somma di un termine I</a:t>
            </a:r>
            <a:r>
              <a:rPr b="1" lang="it-IT" sz="1800" spc="-1" strike="noStrike" baseline="30000">
                <a:solidFill>
                  <a:srgbClr val="004568"/>
                </a:solidFill>
                <a:latin typeface="Arial"/>
              </a:rPr>
              <a:t>(r)</a:t>
            </a:r>
            <a:r>
              <a:rPr b="0" lang="it-IT" sz="1800" spc="-1" strike="noStrike">
                <a:solidFill>
                  <a:srgbClr val="004568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costante associato alle parti dotate di moto rotatorio e di un termine I</a:t>
            </a:r>
            <a:r>
              <a:rPr b="1" lang="it-IT" sz="1800" spc="-1" strike="noStrike" baseline="30000">
                <a:solidFill>
                  <a:srgbClr val="004568"/>
                </a:solidFill>
                <a:latin typeface="Arial"/>
              </a:rPr>
              <a:t>(a)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 variabile, dovuto alle masse dotate di moto non rotatori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equazione dell’energia cinetica si scrive, perciò, com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9360" y="5240160"/>
                <a:ext cx="5732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dθ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dθ</m:t>
                    </m:r>
                    <m:r>
                      <m:t xml:space="preserve">=</m:t>
                    </m:r>
                    <m:r>
                      <m:t xml:space="preserve">d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268280" y="6608880"/>
                <a:ext cx="4464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d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d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692280" y="61056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ziando il secondo membro,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2280" y="732960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somma al secondo membro ricompreso tra le parentesi quadre, 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  <a:ea typeface="Times New Roman"/>
              </a:rPr>
              <a:t>rappresenta la variazione della energia cinetica delle masse ad inerzia variabile e corrisponde al lavoro delle forze di inerzia delle masse dotate di moto non rotatorio, preso con il segno cambia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452-DA5E-4051-89B7-F3430DF249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052640" y="2432160"/>
                <a:ext cx="4751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d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d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957320" y="6835680"/>
                <a:ext cx="29415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765000" y="3296880"/>
            <a:ext cx="55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tali forze di inerzia si calcolano supponendo trascurabile la variazione della velocità angolare del gruppo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costant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risulta: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5000" y="5078880"/>
            <a:ext cx="55454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ndo con 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,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d 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,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momenti ridotti all’asse di rotazione delle forze di inerzia delle masse dotate di moto non rotatorio, con riferimento alla macchina motrice ed alla utilizzatrice, per quanto asserito è possibile porr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700280" y="4305240"/>
                <a:ext cx="3673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d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765000" y="76899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ostituendo tale quantità nella precedente relazione si ottie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13000" y="8408880"/>
                <a:ext cx="43210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d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3A4-B4CC-4F59-B3CC-C96E43AFD7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773360" y="3440160"/>
                <a:ext cx="34462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dθ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dθ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d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p>
                        </m:sSup>
                        <m:f>
                          <m:num>
                            <m:sSup>
                              <m:e>
                                <m:r>
                                  <m:t xml:space="preserve">d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620640" y="29361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 sviluppata fornisce: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41360" y="2289240"/>
                <a:ext cx="43210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d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620640" y="44474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endo come nel caso precedente si ha: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92280" y="8697960"/>
                <a:ext cx="20160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349360" y="4808520"/>
                <a:ext cx="1944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92280" y="5529240"/>
            <a:ext cx="5616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Le grandezze al primo membro, indicano rispettivamente il momento motore ed il momento resistente che si ottengono computando, oltre alle forze esterne (attive e vincolari), anche le forze di inerzia calcolate assumendo </a:t>
            </a:r>
            <a:r>
              <a:rPr b="1" lang="it-IT" sz="1800" spc="-1" strike="noStrike">
                <a:solidFill>
                  <a:srgbClr val="004568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=costant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apitolan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5000" y="7616880"/>
                <a:ext cx="18720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2781360" y="7545240"/>
            <a:ext cx="340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68"/>
                </a:solidFill>
                <a:latin typeface="Arial"/>
              </a:rPr>
              <a:t>Equazione del moto intorno ad un asse fisso di un gruppo costituito da macchine rotorich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81360" y="8553600"/>
            <a:ext cx="340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68"/>
                </a:solidFill>
                <a:latin typeface="Arial"/>
              </a:rPr>
              <a:t>Equazione del moto intorno ad un asse fisso di un gruppo costituito da macchine rotorich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699-EA74-49D2-A550-FA6E591DD8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349360" y="3008160"/>
                <a:ext cx="3384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 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97000" y="2360520"/>
                <a:ext cx="1728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36640" y="300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funzion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573360" y="2289240"/>
                <a:ext cx="18716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20640" y="344016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on sono, in generale, esprimibili analiticamente ma si ottengono per punti attraverso metodologie sperimental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4521240"/>
            <a:ext cx="5616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integrazione delle equazioni del moto consente di determinare la legg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), note che siano le funzioni che compaiono al primo membro delle relazioni stess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alune applicazioni il gruppo di macchine è in grado di raggiungere spontaneamente lo stato regime; 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il transitorio, cioè, segue una legge di evoluzione libe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ltri casi, invece, 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è necessario intervenire sul funzionamento del gruppo essendo necessario imporre un'assegnata legge di evoluzi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sia all’avviamento che all’arresto. Ciò è possibile agendo dall'esterno su “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organi regolat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che consentono di variare il flusso di energia che entra nella motrice e talvolta anche quello che viene reso dalla macchina utilizzatrice, oppure introducendo azioni frenan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A40-0FDE-4649-896D-4DFF7B68B3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2280" y="2720880"/>
            <a:ext cx="554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 visto, il funzionamento di un gruppo di macchine è caratterizzato da differenti stati dinamic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0045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fasi transitorie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0045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moto a regi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ransitorio di avvia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ecede il raggiungimento delle condizioni di regime a cui segue, normalmente, il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ransitorio di arres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2280" y="5457960"/>
            <a:ext cx="5472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o studio dei transitori è necessario per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eterminare il tempo necessario per il raggiungimento dello stato di regim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eterminare il tempo necessario per il passaggio da una condizione di regime ad un’altra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valutare le sollecitazioni, sui diversi membri, derivanti dalla presenza delle azioni di inerzia (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forze e momenti delle forze di inerzi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90D-F9A3-434D-B1A8-238FF5F743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5000" y="2576520"/>
            <a:ext cx="54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 studio del funzionamento a regime riguarda principalment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3368520"/>
            <a:ext cx="5492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n primo aspetto derivante dalla tipologia delle macchine che costituiscono il gruppo (presenza o meno di 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macchine alternativ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)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grandezze a regime (inerzia, velocità, frequenza ecc.) variano con legge periodica con effetti negativi sulle prestazione del gruppo.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Lo scarto di velocità, in particolare, può essere contenuto dotando la macchina di u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4568"/>
                </a:solidFill>
                <a:latin typeface="Arial"/>
              </a:rPr>
              <a:t>volan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n secondo aspetto derivante dalla necessità di dovere, in alcuni casi, 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regolare la velocità angolare del gruppo per mantenerla prossima al valore di funzionamento a reg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grandezza di progetto), al variare del momento resistente  dell’utilizzatore e/o in presenza di cause perturbatric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e problematica investe i delicati problemi correlati al 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4568"/>
                </a:solidFill>
                <a:latin typeface="Arial"/>
              </a:rPr>
              <a:t>controllo o regolazione della velocità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9360" y="61768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337-6F1A-4F95-A926-28F54FFCEB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2280" y="4521240"/>
            <a:ext cx="54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legge di moto del gruppo può essere  scritta con riferimento ad una rotazione finit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 dell'albero, assumendo la form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9360" y="61768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59250" r="0" b="0"/>
          <a:stretch/>
        </p:blipFill>
        <p:spPr>
          <a:xfrm>
            <a:off x="620640" y="2576520"/>
            <a:ext cx="5732640" cy="184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268280" y="5600880"/>
                <a:ext cx="44658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d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I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92280" y="6537240"/>
            <a:ext cx="549252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momento d'inerzi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di massa del gruppo all’istante inizial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velocità angolare del sistema all’istante iniziale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velocità angolare del gruppo si conserva costante, aumenta o diminuisce secondo che il momento motore sia, rispettivamente, uguale, maggiore o minore del momento resist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DC6-5C3B-4227-ADC2-1588805B27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9360" y="61768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2280" y="5816520"/>
            <a:ext cx="549252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curve a tratto pieno riportano i valori di 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e di 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+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 in funzion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 L'area racchiusa tra ciascuna di queste curve e l'asse delle ascisse, rappresenta 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il lavoro compiuto dal momento considerat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'area compresa fra le due curve disegnate e limitata tra due verticali corrispondenti ai valori delle ascisse 0 e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 è pari al valore dell’integrale al primo membro dell'equazione dell’energia cinetica del gruppo e 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rappresenta il lavoro compiuto da M</a:t>
            </a:r>
            <a:r>
              <a:rPr b="1" lang="it-IT" sz="1800" spc="-1" strike="noStrike" baseline="-25000">
                <a:solidFill>
                  <a:srgbClr val="004568"/>
                </a:solidFill>
                <a:latin typeface="Arial"/>
              </a:rPr>
              <a:t>m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-(M</a:t>
            </a:r>
            <a:r>
              <a:rPr b="1" lang="it-IT" sz="1800" spc="-1" strike="noStrike" baseline="-25000">
                <a:solidFill>
                  <a:srgbClr val="004568"/>
                </a:solidFill>
                <a:latin typeface="Arial"/>
              </a:rPr>
              <a:t>u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+M</a:t>
            </a:r>
            <a:r>
              <a:rPr b="1" lang="it-IT" sz="1800" spc="-1" strike="noStrike" baseline="-25000">
                <a:solidFill>
                  <a:srgbClr val="004568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) nella rotazione </a:t>
            </a:r>
            <a:r>
              <a:rPr b="1" lang="it-IT" sz="1800" spc="-1" strike="noStrike">
                <a:solidFill>
                  <a:srgbClr val="004568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ed è pari alla corrispondente variazione dell'energia cinetica della gruppo (secondo membro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13000" y="2936880"/>
            <a:ext cx="4032000" cy="283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97000" y="2216160"/>
                <a:ext cx="4319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CF2-20C3-47CD-87E1-4A4C694ACB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9360" y="61768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6640" y="6105600"/>
            <a:ext cx="549288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4568"/>
                </a:solidFill>
                <a:latin typeface="Arial"/>
              </a:rPr>
              <a:t>Stato (transitorio) di avviamen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È caratterizzato dall'essere 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positiva la variazione di energia cinet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ll'intervallo di tempo d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Il momento motore prevale sul momento resisten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gruppo, inizialmente in riposo (velocità angolare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), aumenta la propria energia cinetica fino a raggiungere la condizione di regime in corrispondenza della quale la velocità angolare assume il valor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9360" y="3152880"/>
            <a:ext cx="3816360" cy="268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97000" y="2216160"/>
                <a:ext cx="4319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076640" y="3440160"/>
            <a:ext cx="21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curva a tratto discontinuo rappresenta l’andamento qualitativo della velocità angola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C0E-EE84-4D5F-815B-DF8343A0D3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9360" y="61768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6640" y="4952880"/>
            <a:ext cx="54928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4568"/>
                </a:solidFill>
                <a:latin typeface="Arial"/>
              </a:rPr>
              <a:t>Stato di funzionamento a regi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 determina quando, dopo il transitorio di avviamento, 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le condizioni di funzionamento del gruppo si mantengono inalterat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 distinguono due condizioni di regime: 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regime assoluto e regime periodic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egime assoluto si ha quando la velocità angolare del gruppo si mantiene costante nel tempo (le macchine del gruppo sono entrambe rotoriche)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ime periodico si ha quando la velocità angolare varia con legge periodica, mantenendosi costante il suo valore medio (almeno una macchina è alternativa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5000" y="2144880"/>
            <a:ext cx="3889440" cy="273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076640" y="3081240"/>
                <a:ext cx="25192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dθ</m:t>
                            </m:r>
                            <m:r>
                              <m:t xml:space="preserve">=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I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543-50F1-4311-B400-DC5AC6B6F2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9360" y="61768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6640" y="5600880"/>
            <a:ext cx="549288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4568"/>
                </a:solidFill>
                <a:latin typeface="Arial"/>
              </a:rPr>
              <a:t>Stato (transitorio) di arres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ulta 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negativa la variazione di energia cinetic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nell'intervallo di tempo in cui si attua la rotazione considerata (decelerazione del sistema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ha </a:t>
            </a:r>
            <a:r>
              <a:rPr b="1" lang="en-US" sz="1800" spc="-1" strike="noStrike">
                <a:solidFill>
                  <a:srgbClr val="004568"/>
                </a:solidFill>
                <a:latin typeface="Arial"/>
              </a:rPr>
              <a:t>prevalenza del momento resistente sul momento motor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e il gruppo, inizialmente a regime a velocità angolare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diminuisce la propria energia cinetica fino a raggiungere una nuova condizione di regime ad una velocità angolare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o addirittura si arres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65000" y="2432160"/>
            <a:ext cx="3889440" cy="273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076640" y="3224160"/>
                <a:ext cx="25192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dθ</m:t>
                            </m:r>
                            <m:r>
                              <m:t xml:space="preserve">=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I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6C5-E368-4352-8A4C-080BC4D1E3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2280" y="2576520"/>
            <a:ext cx="549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4568"/>
                </a:solidFill>
                <a:latin typeface="Arial"/>
              </a:rPr>
              <a:t>Analisi del transitori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legge di variazione della velocità angolare del gruppo si ottiene sviluppando l’equazione dell’energia cinetica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836640" y="3944880"/>
                <a:ext cx="51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dθ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dθ</m:t>
                    </m:r>
                    <m:r>
                      <m:t xml:space="preserve">=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28640" y="6176880"/>
                <a:ext cx="3600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d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ωd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692280" y="4665600"/>
            <a:ext cx="55450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ando le macchine costituenti il gruppo sono 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entrambe rotoriche, il momento di inerzia di massa ridotto I</a:t>
            </a:r>
            <a:r>
              <a:rPr b="1" lang="it-IT" sz="1800" spc="-1" strike="noStrike" baseline="-25000">
                <a:solidFill>
                  <a:srgbClr val="004568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004568"/>
                </a:solidFill>
                <a:latin typeface="Arial"/>
              </a:rPr>
              <a:t> risulta costant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viluppando il secondo membro dell’equazione si ottie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5000" y="6969240"/>
            <a:ext cx="55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, dividendo 1° e 2° membro per dt,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28640" y="7400880"/>
                <a:ext cx="360072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d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ω</m:t>
                        </m:r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cui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C20-9003-4FAE-A8B2-9B668F90DB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9:39:13Z</dcterms:created>
  <dc:creator>user</dc:creator>
  <dc:description/>
  <dc:language>en-US</dc:language>
  <cp:lastModifiedBy>Vincenzo D'Agostino</cp:lastModifiedBy>
  <dcterms:modified xsi:type="dcterms:W3CDTF">2010-11-04T13:38:47Z</dcterms:modified>
  <cp:revision>361</cp:revision>
  <dc:subject/>
  <dc:title>Diapositiva 1</dc:title>
</cp:coreProperties>
</file>