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6858000" cy="9907588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4DE-B16E-403C-9110-CAEE0E03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81D4-7A18-400B-8CBF-DB278661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23F-3EF2-4B3D-92E1-A30D1ACF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B678-B713-4089-B248-E1268E4F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AC3D-D07C-41ED-8162-E9632EE9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8189-D3B1-48D0-83B7-6339D8C5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6C83-FF21-4A40-8D2C-11BE3613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7040-B8F5-49A1-9031-6F8D8EA0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6572-4F9A-4352-891F-DBBAA727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35FB-6FFF-45CE-86FC-EAC3C37A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5902-AE4A-453A-8BBD-D048776E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D96-3FB0-4F1D-8A8D-8975A4D8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214A-E4ED-489D-A9B3-7DD63CFC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8DC0-A9AD-43FD-8F0A-978FD5D4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F414-89CD-49C5-B969-026064F2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ECB8-A973-418F-A635-CE7EC212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2AA0-B639-4602-8E45-F117EDB5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437-641B-47E0-9761-6A13FA44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1BA-4994-493B-9F37-5221460D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1CB2-4C91-4877-911B-9E2B39C5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2C6-B1D8-46AC-A743-C08746AC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0054-0239-420D-B8A8-72D9A981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3615-3945-4E57-884F-60EA68B5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E56-3E09-4E6E-BDA1-2C7A3BCB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90800"/>
            <a:ext cx="1600200" cy="1458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5760" y="1990800"/>
            <a:ext cx="5429520" cy="14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009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ff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ff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920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14240" y="902448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02884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FE15-3C67-4F31-B96D-E329C1C6860B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560" y="811080"/>
            <a:ext cx="114480" cy="15415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97760" y="390600"/>
            <a:ext cx="114120" cy="15494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832F-010D-4800-A505-39CD31930595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320840"/>
            <a:ext cx="6514920" cy="3631680"/>
            <a:chOff x="0" y="1320840"/>
            <a:chExt cx="6514920" cy="3631680"/>
          </a:xfrm>
        </p:grpSpPr>
        <p:sp>
          <p:nvSpPr>
            <p:cNvPr id="49" name=""/>
            <p:cNvSpPr/>
            <p:nvPr/>
          </p:nvSpPr>
          <p:spPr>
            <a:xfrm>
              <a:off x="171360" y="1320840"/>
              <a:ext cx="1885680" cy="3631680"/>
            </a:xfrm>
            <a:prstGeom prst="ellipse">
              <a:avLst/>
            </a:prstGeom>
            <a:noFill/>
            <a:ln w="1260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2421360"/>
              <a:ext cx="3543120" cy="165060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71800" y="2421360"/>
              <a:ext cx="3543120" cy="165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6840" y="2201040"/>
              <a:ext cx="171360" cy="209304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86720" y="1747080"/>
              <a:ext cx="196200" cy="198072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28560" y="2084040"/>
            <a:ext cx="531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66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9360" y="264960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 forze agenti sui meccanismi o sulle macchine possono essere classificate in </a:t>
            </a:r>
            <a:r>
              <a:rPr b="1" i="1" lang="en-US" sz="1800" spc="-1" strike="noStrike">
                <a:solidFill>
                  <a:srgbClr val="1901cb"/>
                </a:solidFill>
                <a:latin typeface="Arial"/>
              </a:rPr>
              <a:t>motrici</a:t>
            </a:r>
            <a:r>
              <a:rPr b="1" lang="en-US" sz="1800" spc="-1" strike="noStrike">
                <a:solidFill>
                  <a:srgbClr val="1901cb"/>
                </a:solidFill>
                <a:latin typeface="Arial"/>
              </a:rPr>
              <a:t> o </a:t>
            </a:r>
            <a:r>
              <a:rPr b="1" i="1" lang="en-US" sz="1800" spc="-1" strike="noStrike">
                <a:solidFill>
                  <a:srgbClr val="1901cb"/>
                </a:solidFill>
                <a:latin typeface="Arial"/>
              </a:rPr>
              <a:t>resistenti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a seconda che, nel movimento, esse compiano, rispettivamente, </a:t>
            </a:r>
            <a:r>
              <a:rPr b="1" lang="en-US" sz="1800" spc="-1" strike="noStrike">
                <a:solidFill>
                  <a:srgbClr val="1901cb"/>
                </a:solidFill>
                <a:latin typeface="Arial"/>
              </a:rPr>
              <a:t>lavoro positivo o negativ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62440" y="22161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01cb"/>
                </a:solidFill>
                <a:latin typeface="Arial"/>
              </a:rPr>
              <a:t>Rendimento meccan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52640" y="8048520"/>
                <a:ext cx="4968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ΔE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ΔE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ΔE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7" name="" descr=""/>
          <p:cNvPicPr/>
          <p:nvPr/>
        </p:nvPicPr>
        <p:blipFill>
          <a:blip r:embed="rId2"/>
          <a:srcRect l="0" t="7942" r="0" b="0"/>
          <a:stretch/>
        </p:blipFill>
        <p:spPr>
          <a:xfrm>
            <a:off x="1557360" y="4016520"/>
            <a:ext cx="3832200" cy="2074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9360" y="5961240"/>
            <a:ext cx="575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Rappresentando un sistema meccanico con uno schema funzionale dal punto di vista energetico, in condizioni di funzionamento a regime (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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E=0), indicando con Lm, Lu ed Lp  rispettivamente il lavoro motore, il lavoro utile ed il lavoro delle resistenze passive, si definisce come </a:t>
            </a:r>
            <a:r>
              <a:rPr b="1" i="1" lang="it-IT" sz="1800" spc="-1" strike="noStrike">
                <a:solidFill>
                  <a:srgbClr val="1901cb"/>
                </a:solidFill>
                <a:latin typeface="Arial"/>
              </a:rPr>
              <a:t>rendimento meccanico</a:t>
            </a:r>
            <a:r>
              <a:rPr b="1" i="1" lang="it-IT" sz="1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36E-F136-438E-9BE3-F887067F49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66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052640" y="2216160"/>
            <a:ext cx="4608360" cy="3473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0280" y="3440160"/>
            <a:ext cx="9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Mo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diret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3720" y="3440160"/>
            <a:ext cx="148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Mo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retrograd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492280" y="5673600"/>
                <a:ext cx="18003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836640" y="7616880"/>
                <a:ext cx="284472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η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692280" y="655632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Volendosi la irreversibilità del moto, deve risultare nulla la velocità e, quindi deve risultare nullo il rendimento del moto retrogrado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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’, per cu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33720" y="7616880"/>
            <a:ext cx="24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oiché k</a:t>
            </a:r>
            <a:r>
              <a:rPr b="1" i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è di norma prossimo ad uno, il rendimento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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nel moto diretto risulta minore di 0,5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C9D-16E0-465E-9D30-16B55028E5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66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360" y="3081240"/>
            <a:ext cx="56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 un sistema di macchine disposte in serie il lavoro utile prodotto dalla macchina i-esima viene a coincidere con il lavoro motore della macchina i+1-esim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98440" y="2289240"/>
            <a:ext cx="44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901cb"/>
                </a:solidFill>
                <a:latin typeface="Arial"/>
              </a:rPr>
              <a:t>Rendimento di macchine (meccanismi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901cb"/>
                </a:solidFill>
                <a:latin typeface="Arial"/>
              </a:rPr>
              <a:t>disposti in seri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907920" y="7977240"/>
                <a:ext cx="49690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ΔE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05" name="" descr=""/>
          <p:cNvPicPr/>
          <p:nvPr/>
        </p:nvPicPr>
        <p:blipFill>
          <a:blip r:embed="rId2"/>
          <a:srcRect l="0" t="1588" r="0" b="-4749"/>
          <a:stretch/>
        </p:blipFill>
        <p:spPr>
          <a:xfrm>
            <a:off x="476280" y="4376880"/>
            <a:ext cx="6149880" cy="174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20640" y="6321600"/>
            <a:ext cx="5616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dicando con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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il rendimento meccanico globale del sistema in esame e con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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(i = 1 …. n) i rendimenti dei singoli macchinari intermedi, tenendo conto che L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m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L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m,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L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m,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L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u,i-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 ed L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u,n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L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u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BB14-5242-43CA-A888-6A58DB7861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66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9360" y="3008160"/>
            <a:ext cx="56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 un sistema di macchine disposte in parallelo il lavoro motore e quello utile sono ciascuno somma delle rispettive aliquote riferite alle singole macchine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98440" y="2144880"/>
            <a:ext cx="44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901cb"/>
                </a:solidFill>
                <a:latin typeface="Arial"/>
              </a:rPr>
              <a:t>Rendimento di macchine (meccanismi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901cb"/>
                </a:solidFill>
                <a:latin typeface="Arial"/>
              </a:rPr>
              <a:t>disposti in parallel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0640" y="63928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l rendimento globale è dato d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5369" r="0" b="2148"/>
          <a:stretch/>
        </p:blipFill>
        <p:spPr>
          <a:xfrm>
            <a:off x="333360" y="4160880"/>
            <a:ext cx="6337440" cy="234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197000" y="6969240"/>
                <a:ext cx="417528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ΔE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924280" y="8337600"/>
                <a:ext cx="16509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ΔE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49360" y="82850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oiché per la macchina i-esima risult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41720" y="8408880"/>
            <a:ext cx="15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ostituendo 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BD1-0601-48D0-8AAD-475C8384EF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66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052640" y="2576520"/>
                <a:ext cx="4751280" cy="20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ΔE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20640" y="4881600"/>
            <a:ext cx="556416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Tale relazione mette in evidenza che il rendimento meccanico di macchine in parallelo è pari alla media pesata dei rendimenti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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elle singole macchine, ciascuno avente peso uguale al corrispondente lavoro motore L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m,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e deriva che il rendimento globale del sistema è influenzato negativamente se risulta basso quello della macchina che trasmette la maggiore aliquota di lavoro motor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0640" y="7545240"/>
            <a:ext cx="5616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01cb"/>
                </a:solidFill>
                <a:latin typeface="Arial"/>
              </a:rPr>
              <a:t>Da tutto quanto esposto risulta chiaro che il rendimento meccanico risulta minore di 1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l compito del progettista è quello di </a:t>
            </a:r>
            <a:r>
              <a:rPr b="1" lang="en-US" sz="1800" spc="-1" strike="noStrike">
                <a:solidFill>
                  <a:srgbClr val="1901cb"/>
                </a:solidFill>
                <a:latin typeface="Arial"/>
              </a:rPr>
              <a:t>minimizzare il lavoro dissipat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al fine di aumentare il più possibile il valore del rendimento meccanic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089C-EE6B-4330-A2AB-5445CEFD62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66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0640" y="2216160"/>
            <a:ext cx="55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901cb"/>
                </a:solidFill>
                <a:latin typeface="Arial"/>
              </a:rPr>
              <a:t>Rendimento di meccanismi irreversibil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2280" y="2576520"/>
            <a:ext cx="56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ei meccanismi irreversibili, intendendo per tali quei sistemi che impediscano l’inversione del moto qualora cessi l’azione motrice il rendimento meccanico è molto basso raggiungendo, in taluni casi, valori minori di 0,5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È quanto avviene, ad esempio, nei sistemi di sollevamento con accoppiamento vite madrevite, negli argani, nei sistemi di autofrenatura, nel cric di un autoveicolo, etc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0" t="3687" r="0" b="0"/>
          <a:stretch/>
        </p:blipFill>
        <p:spPr>
          <a:xfrm>
            <a:off x="1197000" y="5168880"/>
            <a:ext cx="4700520" cy="473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12C-30F7-4C0D-987B-8F193034F8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66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2280" y="24321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Con riferimento ad una macchina semplice quale una carrucola, </a:t>
            </a:r>
            <a:r>
              <a:rPr b="1" lang="en-US" sz="1800" spc="-1" strike="noStrike">
                <a:solidFill>
                  <a:srgbClr val="1901cb"/>
                </a:solidFill>
                <a:latin typeface="Arial"/>
              </a:rPr>
              <a:t>sia P la forza motrice e Q quella utile “moto diretto (figura a)”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e si supponga che il sistema sia in una condizione di </a:t>
            </a:r>
            <a:r>
              <a:rPr b="1" lang="en-US" sz="1800" spc="-1" strike="noStrike">
                <a:solidFill>
                  <a:srgbClr val="1901cb"/>
                </a:solidFill>
                <a:latin typeface="Arial"/>
              </a:rPr>
              <a:t>funzionamento a regim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e la forza motrice si riduce progressivamente di intensità, può accadere che, a seguito di tale riduzione, la macchina si arresti e poi inverta il suo movimento </a:t>
            </a:r>
            <a:r>
              <a:rPr b="1" lang="en-US" sz="1800" spc="-1" strike="noStrike">
                <a:solidFill>
                  <a:srgbClr val="1901cb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1901cb"/>
                </a:solidFill>
                <a:latin typeface="Arial"/>
              </a:rPr>
              <a:t>moto retrogrado</a:t>
            </a:r>
            <a:r>
              <a:rPr b="1" lang="en-US" sz="1800" spc="-1" strike="noStrike">
                <a:solidFill>
                  <a:srgbClr val="1901cb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 tali condizioni la </a:t>
            </a:r>
            <a:r>
              <a:rPr b="1" lang="en-US" sz="1800" spc="-1" strike="noStrike">
                <a:solidFill>
                  <a:srgbClr val="1901cb"/>
                </a:solidFill>
                <a:latin typeface="Arial"/>
              </a:rPr>
              <a:t>forza Q diventa motrice e P utile (figura b)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25360" y="5673600"/>
            <a:ext cx="4608720" cy="347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42A-404A-404F-9B50-08F1DF49AD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66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508640" y="5889600"/>
                <a:ext cx="10094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221000" y="6608880"/>
                <a:ext cx="1584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68280" y="8553600"/>
                <a:ext cx="43214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L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052640" y="2289240"/>
            <a:ext cx="4608360" cy="3473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60280" y="3440160"/>
            <a:ext cx="9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Mo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diret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73720" y="3440160"/>
            <a:ext cx="148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Mo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retrograd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0640" y="57452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er uguali spostamenti nei due movimenti risult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0640" y="66088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el moto retrogrado il rendimento meccanico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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’ è dato d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0640" y="7616880"/>
            <a:ext cx="5491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dicando con L’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 il lavoro perduto per attrito nel moto retrogrado, la corrispondente perdita di rendimento val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70A8-E1D1-4AFC-AA49-225CBD073A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66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052640" y="5776920"/>
                <a:ext cx="4537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L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924280" y="6681960"/>
                <a:ext cx="33843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357720" y="7761240"/>
                <a:ext cx="28796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052640" y="2216160"/>
            <a:ext cx="4608360" cy="3473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60280" y="3440160"/>
            <a:ext cx="9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Mo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diret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73720" y="3440160"/>
            <a:ext cx="148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Mo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retrograd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5000" y="682452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el moto diretto 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5000" y="78328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ividendo membro a membro 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82CB-AE1C-4BC6-8F76-CE15697CBF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66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133720" y="5600880"/>
                <a:ext cx="2663640" cy="80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52640" y="2216160"/>
            <a:ext cx="4608360" cy="3473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60280" y="3440160"/>
            <a:ext cx="9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Mo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diret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73720" y="3440160"/>
            <a:ext cx="148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Mo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retrograd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97360" y="6465960"/>
                <a:ext cx="963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557360" y="7329600"/>
                <a:ext cx="4319640" cy="22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η</m:t>
                            </m:r>
                            <m:r>
                              <m:t xml:space="preserve">'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η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ηk</m:t>
                            </m:r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  <m:e>
                        <m:sSup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ηk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    </m:t>
                            </m:r>
                            <m:r>
                              <m:t xml:space="preserve">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{</m:t>
                            </m:r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ηk</m:t>
                            </m:r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</m:eqAr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  {</m:t>
                        </m:r>
                        <m:r>
                          <m:t xml:space="preserve">η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07560" y="66819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dicando con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C71-AAA3-499A-A56E-7A77576F65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9:39:13Z</dcterms:created>
  <dc:creator>user</dc:creator>
  <dc:description/>
  <dc:language>en-US</dc:language>
  <cp:lastModifiedBy>Vincenzo D'Agostino</cp:lastModifiedBy>
  <dcterms:modified xsi:type="dcterms:W3CDTF">2011-10-31T08:35:22Z</dcterms:modified>
  <cp:revision>339</cp:revision>
  <dc:subject/>
  <dc:title>Diapositiva 1</dc:title>
</cp:coreProperties>
</file>