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028-E87F-465D-9AA0-251812C7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049-6F6D-485C-9DA3-874BC2BB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D73-8FCF-4C02-9855-643B1FD6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86F-1245-4607-9576-FCCDA1D4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DEBB-3764-4D2E-8F85-D0D05021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B044-37F8-4B18-AB77-DC921709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998D-3A98-4590-ACDB-928ED9EE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7A98-9CCA-4B6B-B50C-9FC7CCDC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9214-878B-4B92-8119-4CC54DB4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7D05-9A7C-4875-9AD8-5A89826B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5549-365D-4962-A3AB-5B9FDE90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5EF-4821-4FED-9B3D-FE26B207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42B5-F049-4F45-B73A-8D902837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58E6-B56B-45D4-BF0F-670A2AAC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91F8-3819-47D7-838F-DFC97947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E1C7-A604-42E2-B29A-807E6A6D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A8D4-D977-4727-8423-61FBA00A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ABF-4212-4578-BA7B-5FB783C5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9E9-078D-477C-B346-6A537712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F49-D2A6-4F15-9C57-812CB1CA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B8A-C068-46DC-87FD-E73B4747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A48-0182-481F-8BDD-BD7D34D3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883-E896-4A9F-AC81-0F304D7D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3D3-858D-4521-AA0F-14DB695F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990800"/>
            <a:ext cx="1600200" cy="145800"/>
          </a:xfrm>
          <a:prstGeom prst="rect">
            <a:avLst/>
          </a:prstGeom>
          <a:solidFill>
            <a:srgbClr val="02a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5760" y="1990800"/>
            <a:ext cx="5429520" cy="145800"/>
          </a:xfrm>
          <a:prstGeom prst="rect">
            <a:avLst/>
          </a:prstGeom>
          <a:gradFill rotWithShape="0">
            <a:gsLst>
              <a:gs pos="0">
                <a:srgbClr val="02a01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92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288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2628-4A7F-4AA0-8909-70679E3D205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628560" y="811080"/>
            <a:ext cx="114480" cy="1541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6197760" y="390600"/>
            <a:ext cx="114120" cy="15494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1320840"/>
            <a:ext cx="6514920" cy="3631680"/>
            <a:chOff x="0" y="1320840"/>
            <a:chExt cx="6514920" cy="3631680"/>
          </a:xfrm>
        </p:grpSpPr>
        <p:sp>
          <p:nvSpPr>
            <p:cNvPr id="46" name="Oval 7"/>
            <p:cNvSpPr/>
            <p:nvPr/>
          </p:nvSpPr>
          <p:spPr>
            <a:xfrm>
              <a:off x="171360" y="1320840"/>
              <a:ext cx="1885680" cy="3631680"/>
            </a:xfrm>
            <a:prstGeom prst="ellipse">
              <a:avLst/>
            </a:prstGeom>
            <a:noFill/>
            <a:ln w="1260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2421360"/>
              <a:ext cx="3543120" cy="1650600"/>
            </a:xfrm>
            <a:prstGeom prst="rect">
              <a:avLst/>
            </a:prstGeom>
            <a:solidFill>
              <a:srgbClr val="02a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2971800" y="2421360"/>
              <a:ext cx="3543120" cy="1650600"/>
            </a:xfrm>
            <a:prstGeom prst="rect">
              <a:avLst/>
            </a:prstGeom>
            <a:gradFill rotWithShape="0">
              <a:gsLst>
                <a:gs pos="0">
                  <a:srgbClr val="02a01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456840" y="2201040"/>
              <a:ext cx="171360" cy="20930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886720" y="1747080"/>
              <a:ext cx="196200" cy="19807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A1B5-5F67-45E0-B6CB-D61396942C0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4F37-3F28-4F6A-946D-27E9828B590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Picture 19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3"/>
          <p:cNvSpPr/>
          <p:nvPr/>
        </p:nvSpPr>
        <p:spPr>
          <a:xfrm>
            <a:off x="981000" y="2289240"/>
            <a:ext cx="50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Equazioni cardinali della dinamic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600120" y="310032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836640" y="2792520"/>
            <a:ext cx="52052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erivano dalla seconda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legge di Newton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consentono di formulare le equazioni differenziali che descrivono la legge di moto di un sistema meccanico, che può essere analizzato come un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insieme di particelle materiali interconnesse o, più comunemente, come un corpo rigid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seconda legge di Newton, applicata ad un punto materiale P di massa m, è fornita dalla relaz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Rectangle 3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9" name="Picture 36" descr="figura 4"/>
          <p:cNvPicPr/>
          <p:nvPr/>
        </p:nvPicPr>
        <p:blipFill>
          <a:blip r:embed="rId2"/>
          <a:stretch/>
        </p:blipFill>
        <p:spPr>
          <a:xfrm>
            <a:off x="692280" y="5745240"/>
            <a:ext cx="3528720" cy="2975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Object 37"/>
              <p:cNvSpPr txBox="1"/>
              <p:nvPr/>
            </p:nvSpPr>
            <p:spPr>
              <a:xfrm>
                <a:off x="4724280" y="6176880"/>
                <a:ext cx="936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1" name="Text Box 39"/>
          <p:cNvSpPr/>
          <p:nvPr/>
        </p:nvSpPr>
        <p:spPr>
          <a:xfrm>
            <a:off x="4221000" y="6969240"/>
            <a:ext cx="22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=risultante delle forze estern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m=mass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=accelerazione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2C42-1486-4857-830F-4F8744546F9F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2492280" y="2432160"/>
                <a:ext cx="14814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14"/>
          <p:cNvSpPr/>
          <p:nvPr/>
        </p:nvSpPr>
        <p:spPr>
          <a:xfrm>
            <a:off x="549360" y="329724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significato di “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diagramma del corpo liber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” di un sistema dinamico meglio si comprende attraverso il principio di d’Alembert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5" name="Picture 19" descr="figura 4"/>
          <p:cNvPicPr/>
          <p:nvPr/>
        </p:nvPicPr>
        <p:blipFill>
          <a:blip r:embed="rId2"/>
          <a:srcRect l="0" t="0" r="0" b="-6046"/>
          <a:stretch/>
        </p:blipFill>
        <p:spPr>
          <a:xfrm>
            <a:off x="1484280" y="4448160"/>
            <a:ext cx="3816360" cy="355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20"/>
              <p:cNvSpPr txBox="1"/>
              <p:nvPr/>
            </p:nvSpPr>
            <p:spPr>
              <a:xfrm>
                <a:off x="1052640" y="8121600"/>
                <a:ext cx="4805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7FB1-0414-4218-8AFA-49FDABEF8336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9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49360" y="2360520"/>
            <a:ext cx="5761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6600"/>
                </a:solidFill>
                <a:latin typeface="Arial"/>
              </a:rPr>
              <a:t>Dinamica dei corpi rigid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configurazione di un corpo rigido nello spazio può essere determinata usando sei coordinate delle quali tre servono per definire la traslazione del suo baricentro G e tre per definire l’orientamento del corpo stesso rispetto ad un sistema di riferimento fisso O,xyz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coordinate surrichiamate si riducono a tre quando il moto del sistema è piano; esse sono rappresentate dalle coordinate x ed y e dalla coordinata q che, appunto, determina la posizione angolare del corpo rigido nel piano x-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2" name="Picture 10" descr="figura 4"/>
          <p:cNvPicPr/>
          <p:nvPr/>
        </p:nvPicPr>
        <p:blipFill>
          <a:blip r:embed="rId2"/>
          <a:stretch/>
        </p:blipFill>
        <p:spPr>
          <a:xfrm>
            <a:off x="1413000" y="6105600"/>
            <a:ext cx="4319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egnaposto numero diapositiva 7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41CC-0142-4DE5-BB63-70EF659FAF2F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620640" y="6321600"/>
            <a:ext cx="5688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ove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x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y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ono le componenti del risultante delle forze esterne agenti sulla la massa m del sistema, supposta concentrata nel centro di massa G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3645000" y="5024520"/>
                <a:ext cx="280836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1"/>
              <p:cNvSpPr txBox="1"/>
              <p:nvPr/>
            </p:nvSpPr>
            <p:spPr>
              <a:xfrm>
                <a:off x="2492280" y="7473960"/>
                <a:ext cx="1873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  {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e   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Rectangle 9"/>
          <p:cNvSpPr/>
          <p:nvPr/>
        </p:nvSpPr>
        <p:spPr>
          <a:xfrm>
            <a:off x="3500280" y="3297240"/>
            <a:ext cx="29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l caso di moto piano del corpo, la legge del moto del sistema è, pertanto, descritta da tre equazioni scalar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620640" y="790560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ono, rispettivamente, le due componenti delle accelerazioni del baricentro G, ed  il momento di inerzia di massa del corpo, rispetto all’asse ortogonale al piano del moto e passante per G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3"/>
              <p:cNvSpPr txBox="1"/>
              <p:nvPr/>
            </p:nvSpPr>
            <p:spPr>
              <a:xfrm>
                <a:off x="4005360" y="2289240"/>
                <a:ext cx="16570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 Box 26"/>
          <p:cNvSpPr/>
          <p:nvPr/>
        </p:nvSpPr>
        <p:spPr>
          <a:xfrm>
            <a:off x="744480" y="25239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quazioni di d’Alembert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4" name="Picture 27" descr="figura 4"/>
          <p:cNvPicPr/>
          <p:nvPr/>
        </p:nvPicPr>
        <p:blipFill>
          <a:blip r:embed="rId2"/>
          <a:srcRect l="0" t="0" r="8791" b="0"/>
          <a:stretch/>
        </p:blipFill>
        <p:spPr>
          <a:xfrm>
            <a:off x="333360" y="3008160"/>
            <a:ext cx="319392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6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32B8-F350-4269-BC8E-8DD16083E447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7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6"/>
              <p:cNvSpPr txBox="1"/>
              <p:nvPr/>
            </p:nvSpPr>
            <p:spPr>
              <a:xfrm>
                <a:off x="2133720" y="6608880"/>
                <a:ext cx="25905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40" name="Picture 10" descr="figura 4"/>
          <p:cNvPicPr/>
          <p:nvPr/>
        </p:nvPicPr>
        <p:blipFill>
          <a:blip r:embed="rId2"/>
          <a:stretch/>
        </p:blipFill>
        <p:spPr>
          <a:xfrm>
            <a:off x="1341360" y="2936880"/>
            <a:ext cx="3959280" cy="3500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Object 12"/>
              <p:cNvSpPr txBox="1"/>
              <p:nvPr/>
            </p:nvSpPr>
            <p:spPr>
              <a:xfrm>
                <a:off x="1125360" y="8048520"/>
                <a:ext cx="48960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Rectangle 15"/>
          <p:cNvSpPr/>
          <p:nvPr/>
        </p:nvSpPr>
        <p:spPr>
          <a:xfrm>
            <a:off x="692280" y="23605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l caso di moto piano, il corpo libero del sistema è definito com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6F27-9DAD-4DD9-8740-435D125F733F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1628640" y="24321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Equazione dell’energia cinetica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6"/>
              <p:cNvSpPr txBox="1"/>
              <p:nvPr/>
            </p:nvSpPr>
            <p:spPr>
              <a:xfrm>
                <a:off x="3860640" y="4737240"/>
                <a:ext cx="2303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L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ds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8"/>
              <p:cNvSpPr txBox="1"/>
              <p:nvPr/>
            </p:nvSpPr>
            <p:spPr>
              <a:xfrm>
                <a:off x="4221000" y="5384880"/>
                <a:ext cx="1297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1"/>
              <p:cNvSpPr txBox="1"/>
              <p:nvPr/>
            </p:nvSpPr>
            <p:spPr>
              <a:xfrm>
                <a:off x="2492280" y="8408880"/>
                <a:ext cx="1511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Rectangle 30"/>
          <p:cNvSpPr/>
          <p:nvPr/>
        </p:nvSpPr>
        <p:spPr>
          <a:xfrm>
            <a:off x="692280" y="3092400"/>
            <a:ext cx="54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Viene convenientemente usata in molte applicazioni per ottenere l’equazione del moto di un sistema ad un grado di libertà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Riprendiamo i concetti di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voro di una forza</a:t>
            </a:r>
            <a:r>
              <a:rPr b="1" lang="it-IT" sz="18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e di energia cinetica di un corpo rigi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1197000" y="473724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Lavoro di una forz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Text Box 32"/>
          <p:cNvSpPr/>
          <p:nvPr/>
        </p:nvSpPr>
        <p:spPr>
          <a:xfrm>
            <a:off x="1126440" y="5313240"/>
            <a:ext cx="2582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Per uno spostamento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finito da s</a:t>
            </a:r>
            <a:r>
              <a:rPr b="1" lang="it-IT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 a s</a:t>
            </a:r>
            <a:r>
              <a:rPr b="1" lang="it-IT" sz="1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Rectangle 33"/>
          <p:cNvSpPr/>
          <p:nvPr/>
        </p:nvSpPr>
        <p:spPr>
          <a:xfrm>
            <a:off x="765000" y="6105240"/>
            <a:ext cx="53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Tale lavoro è positivo o negativo a seconda che la componente della forza nella direzione dello spostamento sia concorde o discorde con lo spostamento stess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Rectangle 35"/>
          <p:cNvSpPr/>
          <p:nvPr/>
        </p:nvSpPr>
        <p:spPr>
          <a:xfrm>
            <a:off x="765000" y="7473960"/>
            <a:ext cx="53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Rectangle 36"/>
          <p:cNvSpPr/>
          <p:nvPr/>
        </p:nvSpPr>
        <p:spPr>
          <a:xfrm>
            <a:off x="765000" y="7400520"/>
            <a:ext cx="53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Il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lavoro elementare compiuto da un momen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M per uno spostamento infinitesimo d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è pari a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8AEB-6664-4D64-AE7E-BB6F3B7FC4DE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9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2205000" y="3944880"/>
                <a:ext cx="23749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0"/>
              <p:cNvSpPr txBox="1"/>
              <p:nvPr/>
            </p:nvSpPr>
            <p:spPr>
              <a:xfrm>
                <a:off x="1916280" y="7616880"/>
                <a:ext cx="288108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1"/>
              <p:cNvSpPr txBox="1"/>
              <p:nvPr/>
            </p:nvSpPr>
            <p:spPr>
              <a:xfrm>
                <a:off x="1125360" y="6032520"/>
                <a:ext cx="4320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2"/>
              <p:cNvSpPr txBox="1"/>
              <p:nvPr/>
            </p:nvSpPr>
            <p:spPr>
              <a:xfrm>
                <a:off x="1125360" y="6608880"/>
                <a:ext cx="5749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" name="Rectangle 13"/>
          <p:cNvSpPr/>
          <p:nvPr/>
        </p:nvSpPr>
        <p:spPr>
          <a:xfrm>
            <a:off x="692280" y="2649240"/>
            <a:ext cx="54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nsiderando un corpo rigido con baricentro G e assumendo un riferimento Gxyz solidale al corpo, l’energia cinetica E calcolata rispetto ad un riferimento fisso è data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765000" y="7473960"/>
            <a:ext cx="53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765000" y="4574520"/>
            <a:ext cx="5708880" cy="28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essen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187200" indent="-187200"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m la massa del corpo supposta concentrata nel baricentr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187200" indent="-18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187200" indent="-187200"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v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G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la velocità di traslazione del baricentro G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187200" indent="-18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187200" indent="-187200"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       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il  vettore velocità angolare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el corpo di  componenti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x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y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z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187200" indent="-187200"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187200" indent="-187200"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      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trasposto del vettor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187200" indent="-18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187200" indent="-187200"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[I] la matrice di inerzia data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FEF7-7D44-4FBD-9BC8-9BDDB760111B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0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549360" y="25758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asi particolar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3"/>
              <p:cNvSpPr txBox="1"/>
              <p:nvPr/>
            </p:nvSpPr>
            <p:spPr>
              <a:xfrm>
                <a:off x="4437000" y="3297240"/>
                <a:ext cx="1152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5"/>
              <p:cNvSpPr txBox="1"/>
              <p:nvPr/>
            </p:nvSpPr>
            <p:spPr>
              <a:xfrm>
                <a:off x="4437000" y="4521240"/>
                <a:ext cx="1152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1"/>
              <p:cNvSpPr txBox="1"/>
              <p:nvPr/>
            </p:nvSpPr>
            <p:spPr>
              <a:xfrm>
                <a:off x="4221000" y="7400880"/>
                <a:ext cx="1971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I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Rectangle 24"/>
          <p:cNvSpPr/>
          <p:nvPr/>
        </p:nvSpPr>
        <p:spPr>
          <a:xfrm>
            <a:off x="279360" y="3440160"/>
            <a:ext cx="41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1) moto puramente traslatori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620640" y="4089240"/>
            <a:ext cx="388800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2) moto piano puramente rotatorio intorno all’asse z (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x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y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0;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z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1" lang="it-IT" sz="1800" spc="-1" strike="noStrike" baseline="-25000">
                <a:solidFill>
                  <a:srgbClr val="006600"/>
                </a:solidFill>
                <a:latin typeface="Arial"/>
              </a:rPr>
              <a:t>z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  è il momento di inerzia di mass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 corpo rigido rispetto all’asse z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692280" y="6248520"/>
            <a:ext cx="347652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3) moto rototraslatorio piano, determinato da una  traslazione del baricentro G con velocità v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G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e da una rotazione con velocità angolar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arallela al l’asse z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z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è il momento di inerzia di massa del corpo rigido rispetto all’asse z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egnaposto numero diapositiva 7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B22B-686F-4C5B-AE9A-01D2A8664A61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04640" y="264924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iprendiamo le equazioni cardinali della dinamica nella form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8"/>
              <p:cNvSpPr txBox="1"/>
              <p:nvPr/>
            </p:nvSpPr>
            <p:spPr>
              <a:xfrm>
                <a:off x="1197000" y="7761240"/>
                <a:ext cx="4824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d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d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7"/>
              <p:cNvSpPr txBox="1"/>
              <p:nvPr/>
            </p:nvSpPr>
            <p:spPr>
              <a:xfrm>
                <a:off x="2852640" y="4016520"/>
                <a:ext cx="3097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6"/>
              <p:cNvSpPr txBox="1"/>
              <p:nvPr/>
            </p:nvSpPr>
            <p:spPr>
              <a:xfrm>
                <a:off x="2276640" y="5673600"/>
                <a:ext cx="424800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;      {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    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num>
                      <m:den>
                        <m:r>
                          <m:t xml:space="preserve">d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7"/>
              <p:cNvSpPr txBox="1"/>
              <p:nvPr/>
            </p:nvSpPr>
            <p:spPr>
              <a:xfrm>
                <a:off x="4005360" y="2576520"/>
                <a:ext cx="143964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Text Box 29"/>
          <p:cNvSpPr/>
          <p:nvPr/>
        </p:nvSpPr>
        <p:spPr>
          <a:xfrm>
            <a:off x="1052640" y="416088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ssen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1197000" y="502452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Rectangle 36"/>
          <p:cNvSpPr/>
          <p:nvPr/>
        </p:nvSpPr>
        <p:spPr>
          <a:xfrm>
            <a:off x="333360" y="56736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 quindi, generalizzan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Text Box 42"/>
          <p:cNvSpPr/>
          <p:nvPr/>
        </p:nvSpPr>
        <p:spPr>
          <a:xfrm>
            <a:off x="836640" y="6681960"/>
            <a:ext cx="52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ostituendo le relazioni così ottenute nelle surrichiamate equazioni cardinali, esse assumono la form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3"/>
              <p:cNvSpPr txBox="1"/>
              <p:nvPr/>
            </p:nvSpPr>
            <p:spPr>
              <a:xfrm>
                <a:off x="3213000" y="4881600"/>
                <a:ext cx="22320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2EAE-E217-4A4A-AE74-CD743CD7815D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9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2421000" y="2360520"/>
                <a:ext cx="1871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d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9"/>
              <p:cNvSpPr txBox="1"/>
              <p:nvPr/>
            </p:nvSpPr>
            <p:spPr>
              <a:xfrm>
                <a:off x="2276640" y="4016520"/>
                <a:ext cx="2304720" cy="18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b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b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dθ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2"/>
              <p:cNvSpPr txBox="1"/>
              <p:nvPr/>
            </p:nvSpPr>
            <p:spPr>
              <a:xfrm>
                <a:off x="2349360" y="6897600"/>
                <a:ext cx="20988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" name="Rectangle 18"/>
          <p:cNvSpPr/>
          <p:nvPr/>
        </p:nvSpPr>
        <p:spPr>
          <a:xfrm>
            <a:off x="620640" y="35838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Integrando primo e secondo membro 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5"/>
              <p:cNvSpPr txBox="1"/>
              <p:nvPr/>
            </p:nvSpPr>
            <p:spPr>
              <a:xfrm>
                <a:off x="692280" y="7977240"/>
                <a:ext cx="540216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dθ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Text Box 28"/>
          <p:cNvSpPr/>
          <p:nvPr/>
        </p:nvSpPr>
        <p:spPr>
          <a:xfrm>
            <a:off x="692280" y="5889600"/>
            <a:ext cx="5400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tre costanti di integrazione K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x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K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y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K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finiscono l’energia cinetica E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 sistema  nella sua configurazione inizial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Text Box 29"/>
          <p:cNvSpPr/>
          <p:nvPr/>
        </p:nvSpPr>
        <p:spPr>
          <a:xfrm>
            <a:off x="673200" y="7348680"/>
            <a:ext cx="56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ommando membro a membro le precedenti relazioni 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6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77E5-6E28-443B-925D-B726B8889B1E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0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20640" y="3658320"/>
            <a:ext cx="576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Questa relazione esprime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l’uguaglianza tra la variazione di energia cinetica del corpo rigido ed il lavoro delle forze estern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Essa è conosciuta come </a:t>
            </a:r>
            <a:r>
              <a:rPr b="1" i="1" lang="it-IT" sz="1800" spc="-1" strike="noStrike">
                <a:solidFill>
                  <a:srgbClr val="006600"/>
                </a:solidFill>
                <a:latin typeface="Arial"/>
              </a:rPr>
              <a:t>equazione dell’energia cinetic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n riferimento ad un organo di macchina o ad una catena cinematica, ricomprendendo tra le forze che compiono lavoro anche quelle interne, tale equazione si scrive nella seguente forma compatt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9"/>
              <p:cNvSpPr txBox="1"/>
              <p:nvPr/>
            </p:nvSpPr>
            <p:spPr>
              <a:xfrm>
                <a:off x="765000" y="2432160"/>
                <a:ext cx="54723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dθ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6"/>
              <p:cNvSpPr txBox="1"/>
              <p:nvPr/>
            </p:nvSpPr>
            <p:spPr>
              <a:xfrm>
                <a:off x="1989000" y="6465960"/>
                <a:ext cx="27352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L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Text Box 19"/>
          <p:cNvSpPr/>
          <p:nvPr/>
        </p:nvSpPr>
        <p:spPr>
          <a:xfrm>
            <a:off x="692280" y="7040520"/>
            <a:ext cx="5635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29292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L</a:t>
            </a:r>
            <a:r>
              <a:rPr b="1" lang="it-IT" sz="1800" spc="-1" strike="noStrike" baseline="30000">
                <a:solidFill>
                  <a:srgbClr val="292929"/>
                </a:solidFill>
                <a:latin typeface="Arial"/>
              </a:rPr>
              <a:t>(e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dL</a:t>
            </a:r>
            <a:r>
              <a:rPr b="1" lang="it-IT" sz="1800" spc="-1" strike="noStrike" baseline="30000">
                <a:solidFill>
                  <a:srgbClr val="292929"/>
                </a:solidFill>
                <a:latin typeface="Arial"/>
              </a:rPr>
              <a:t>(i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rappresentano i lavori delle forze esterne e dalle forze interne nell'intervallo di tempo elementare dt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E è la variazione dell'energia cinetica che il sistema subisce nello stesso intervallo di tempo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CC0A-8F7B-4CCA-831C-B08B20E62384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600120" y="310032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8" descr="figura 4"/>
          <p:cNvPicPr/>
          <p:nvPr/>
        </p:nvPicPr>
        <p:blipFill>
          <a:blip r:embed="rId2"/>
          <a:stretch/>
        </p:blipFill>
        <p:spPr>
          <a:xfrm>
            <a:off x="765000" y="2216160"/>
            <a:ext cx="3743640" cy="315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4724280" y="3368520"/>
                <a:ext cx="10098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2"/>
              <p:cNvSpPr txBox="1"/>
              <p:nvPr/>
            </p:nvSpPr>
            <p:spPr>
              <a:xfrm>
                <a:off x="2852640" y="6465960"/>
                <a:ext cx="11080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Text Box 11"/>
          <p:cNvSpPr/>
          <p:nvPr/>
        </p:nvSpPr>
        <p:spPr>
          <a:xfrm>
            <a:off x="836640" y="5384880"/>
            <a:ext cx="4968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Equazioni scalari che descrivono il moto di P(m) nel sistema di riferimento inerziale Oxyz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198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198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r>
              <a:rPr b="1" lang="it-IT" sz="1600" spc="-1" strike="noStrike">
                <a:solidFill>
                  <a:srgbClr val="292929"/>
                </a:solidFill>
                <a:latin typeface="Arial"/>
                <a:ea typeface="Times New Roman"/>
              </a:rPr>
              <a:t>q è il vettore posizione nel riferi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421000" y="78328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il moto è pian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2781360" y="8337600"/>
                <a:ext cx="10810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D65C-B8EF-4A5B-B2E1-A6E1227CA804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14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1773360" y="2289240"/>
                <a:ext cx="259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L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Text Box 14"/>
          <p:cNvSpPr/>
          <p:nvPr/>
        </p:nvSpPr>
        <p:spPr>
          <a:xfrm>
            <a:off x="692280" y="2865600"/>
            <a:ext cx="541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È opportuno mettere in evidenza che la variazione dell’energia cinetica dE deriva come lavoro delle forze di inerzia presenti nel teorema di d’Alembert  (portate al secondo membro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iò si evince ricordando le relaz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692280" y="7545240"/>
            <a:ext cx="541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può, quindi, affermare ch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La variazione dell’energia cinetica è uguale al lavoro delle forze di inerzia preso con il segno cambiat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9"/>
              <p:cNvSpPr txBox="1"/>
              <p:nvPr/>
            </p:nvSpPr>
            <p:spPr>
              <a:xfrm>
                <a:off x="765000" y="6032520"/>
                <a:ext cx="51850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d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d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d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2"/>
              <p:cNvSpPr txBox="1"/>
              <p:nvPr/>
            </p:nvSpPr>
            <p:spPr>
              <a:xfrm>
                <a:off x="2133720" y="4521240"/>
                <a:ext cx="27352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7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C94B-69BA-4B5F-991B-848BFF3D595A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23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1341360" y="25052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Masse equivalenti di un corpo rigid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836640" y="3081240"/>
            <a:ext cx="52563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nsiste nella sostituzione delle masse effettive con un </a:t>
            </a:r>
            <a:r>
              <a:rPr b="1" i="1" lang="it-IT" sz="1800" spc="-1" strike="noStrike">
                <a:solidFill>
                  <a:srgbClr val="ca0207"/>
                </a:solidFill>
                <a:latin typeface="Arial"/>
              </a:rPr>
              <a:t>sistema equivalente (fittizio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ostituito da masse concentrate, rigidamente interconnesse ed applicate in punti prefissat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effettuare tale operazione è necessario che venga soddisfatta la condizione che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il sistema fittizio, sotto l’azione delle forze esterne agenti sul sistema effettivo, si muova con la stessa legge di moto di quest’ultim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iò equivale a dire che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il sistema di masse equivalenti deve dare luogo agli stessi effetti delle masse reali ai fini dell'applicazione del teorema di d’Alembert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e che  resti invariata l'energia cinetica</a:t>
            </a:r>
            <a:r>
              <a:rPr b="1" lang="it-IT" sz="1800" spc="-1" strike="noStrike">
                <a:solidFill>
                  <a:srgbClr val="006e5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me verrà dimostrato, un sistema rigido può essere ricondotto, nel caso più generale, al massimo a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dieci masse concentrate nello spazio</a:t>
            </a:r>
            <a:r>
              <a:rPr b="1" lang="it-IT" sz="1800" spc="-1" strike="noStrike">
                <a:solidFill>
                  <a:srgbClr val="006e5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egnaposto numero diapositiva 7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9291-1D5B-41F8-8311-D247997ECFFA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29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836640" y="26496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nsideriamo un corpo rigido di massa “m” mobile nello spazio, ed assumiamo una terna di riferimento solidale Gxyz con origine nel baricentro “G” del corpo in esam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32" name="Picture 7" descr="figura 4"/>
          <p:cNvPicPr/>
          <p:nvPr/>
        </p:nvPicPr>
        <p:blipFill>
          <a:blip r:embed="rId2"/>
          <a:stretch/>
        </p:blipFill>
        <p:spPr>
          <a:xfrm>
            <a:off x="1773360" y="3873600"/>
            <a:ext cx="3457440" cy="32036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0"/>
          <p:cNvSpPr/>
          <p:nvPr/>
        </p:nvSpPr>
        <p:spPr>
          <a:xfrm>
            <a:off x="765000" y="7257960"/>
            <a:ext cx="547236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È possibile scegliere un certo numero di punti P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non necessariamente appartenenti al corpo, nei quali si concentrano altrettante mass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determina, così, un sistema fittizio P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(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) solidale alla terna scel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7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9E1A-CC2A-4833-8340-2DDE2D312B40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3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3429000" y="2432160"/>
            <a:ext cx="2952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l’equivalenza dinamica, devono essere soddisfatte le seguenti condiz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1) se il moto del corpo di massa m è traslatorio con velocità v, dovendo essere uguali le energie cinetiche del sistema reale e di quello equivalente,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39" name="Picture 6" descr="figura 4"/>
          <p:cNvPicPr/>
          <p:nvPr/>
        </p:nvPicPr>
        <p:blipFill>
          <a:blip r:embed="rId2"/>
          <a:stretch/>
        </p:blipFill>
        <p:spPr>
          <a:xfrm>
            <a:off x="189000" y="2720880"/>
            <a:ext cx="3240000" cy="300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0" name="Object 8"/>
              <p:cNvSpPr txBox="1"/>
              <p:nvPr/>
            </p:nvSpPr>
            <p:spPr>
              <a:xfrm>
                <a:off x="1052640" y="6032520"/>
                <a:ext cx="2305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4797360" y="5889600"/>
                <a:ext cx="1224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3"/>
              <p:cNvSpPr txBox="1"/>
              <p:nvPr/>
            </p:nvSpPr>
            <p:spPr>
              <a:xfrm>
                <a:off x="2565360" y="7761240"/>
                <a:ext cx="1727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I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  <m:r>
                      <m:t xml:space="preserve">'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3" name="Text Box 17"/>
          <p:cNvSpPr/>
          <p:nvPr/>
        </p:nvSpPr>
        <p:spPr>
          <a:xfrm>
            <a:off x="836640" y="6824520"/>
            <a:ext cx="542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2) se il moto è costituito da una pura rotazione con velocità angolar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ntorno ad un asse, per l'equivalenza dei due sistemi dovrà esser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836640" y="826596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Ne consegue che deve risultare I=I’ (uguaglianza tra i momenti di inerzia di massa) ovvero devono coincidere i rispettivi baricentr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3645000" y="610560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8401-E710-4311-9602-C167987E9B5F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48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3645000" y="279252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assume che la rotazione avvenga intorno all’asse y passante per il baricentro G del corpo real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i baricentri G e G’ dei due sistemi non coincidessero, sia “d” la loro distanza. Spostando l'asse di rotazione y parallela-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51" name="Picture 16" descr="masse equivalenti"/>
          <p:cNvPicPr/>
          <p:nvPr/>
        </p:nvPicPr>
        <p:blipFill>
          <a:blip r:embed="rId2"/>
          <a:srcRect l="0" t="0" r="5693" b="0"/>
          <a:stretch/>
        </p:blipFill>
        <p:spPr>
          <a:xfrm>
            <a:off x="333360" y="2144880"/>
            <a:ext cx="3181320" cy="4176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7"/>
          <p:cNvSpPr/>
          <p:nvPr/>
        </p:nvSpPr>
        <p:spPr>
          <a:xfrm>
            <a:off x="765000" y="6105600"/>
            <a:ext cx="56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mente a sé stesso in modo che passi per G’ (baricentro del sistema equivalente, si osserverà ch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765000" y="704052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9"/>
              <p:cNvSpPr txBox="1"/>
              <p:nvPr/>
            </p:nvSpPr>
            <p:spPr>
              <a:xfrm>
                <a:off x="907920" y="7040520"/>
                <a:ext cx="5472360" cy="24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r>
                          <m:rPr>
                            <m:lit/>
                            <m:nor/>
                          </m:rPr>
                          <m:t xml:space="preserve"> il corpo  rigido di massa m con baricentro  G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il momento di inerzia rispetto all'asse per  G' è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eorema di Huygen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l sistema equivalente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on baricentro  G'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il momento di inerzia rispetto all'asse per G val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I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numero diapositiva 7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500E-F3D1-4532-9974-1893BD1953D0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57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59" name="Picture 6" descr="masse equivalenti"/>
          <p:cNvPicPr/>
          <p:nvPr/>
        </p:nvPicPr>
        <p:blipFill>
          <a:blip r:embed="rId2"/>
          <a:srcRect l="0" t="0" r="5693" b="0"/>
          <a:stretch/>
        </p:blipFill>
        <p:spPr>
          <a:xfrm>
            <a:off x="333360" y="2505240"/>
            <a:ext cx="3181320" cy="417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4005360" y="2216160"/>
                <a:ext cx="17287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I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6"/>
              <p:cNvSpPr txBox="1"/>
              <p:nvPr/>
            </p:nvSpPr>
            <p:spPr>
              <a:xfrm>
                <a:off x="1268280" y="7257960"/>
                <a:ext cx="46087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Text Box 19"/>
          <p:cNvSpPr/>
          <p:nvPr/>
        </p:nvSpPr>
        <p:spPr>
          <a:xfrm>
            <a:off x="3429000" y="3081240"/>
            <a:ext cx="30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oiché per l'equivalenza fra i due sistemi rispetto ad una rotazione con velocità angolar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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torno al qualsiasi asse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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deve essere I=I’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l’equivalenza dinamica dei due sistemi, ma anch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765000" y="6537240"/>
            <a:ext cx="56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’uguaglianza dei baricentri, rispetto alla terna di riferimento solidale al corpo, comport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Rectangle 22"/>
          <p:cNvSpPr/>
          <p:nvPr/>
        </p:nvSpPr>
        <p:spPr>
          <a:xfrm>
            <a:off x="765000" y="8193240"/>
            <a:ext cx="5616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ssendo x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y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z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le coordinate del generico punto P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3"/>
              <p:cNvSpPr txBox="1"/>
              <p:nvPr/>
            </p:nvSpPr>
            <p:spPr>
              <a:xfrm>
                <a:off x="4941720" y="5529240"/>
                <a:ext cx="100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'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6" name="Text Box 26"/>
          <p:cNvSpPr/>
          <p:nvPr/>
        </p:nvSpPr>
        <p:spPr>
          <a:xfrm>
            <a:off x="3141720" y="603252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iò è possibile solo se èd=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6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4E13-08FD-41C1-B0BC-473ADB6CB95E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69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71" name="Picture 5" descr="masse equivalenti"/>
          <p:cNvPicPr/>
          <p:nvPr/>
        </p:nvPicPr>
        <p:blipFill>
          <a:blip r:embed="rId2"/>
          <a:srcRect l="0" t="0" r="5693" b="0"/>
          <a:stretch/>
        </p:blipFill>
        <p:spPr>
          <a:xfrm>
            <a:off x="333360" y="2505240"/>
            <a:ext cx="3181320" cy="41767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8"/>
          <p:cNvSpPr/>
          <p:nvPr/>
        </p:nvSpPr>
        <p:spPr>
          <a:xfrm>
            <a:off x="3500280" y="2432160"/>
            <a:ext cx="302436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3) Per il generico moto del sistema caratterizzato dalla velocità v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G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 baricentro G e da una rotazione con velocità angolare di componenti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x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y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z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ntorno ad un asse passante per il baricentro, l’invarianza dell’energia cinetica è assicurata se risultano coincidenti le matrici di inerzia [I] ed [I’] essendo, come vist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3"/>
              <p:cNvSpPr txBox="1"/>
              <p:nvPr/>
            </p:nvSpPr>
            <p:spPr>
              <a:xfrm>
                <a:off x="3573360" y="6537240"/>
                <a:ext cx="2664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5"/>
              <p:cNvSpPr txBox="1"/>
              <p:nvPr/>
            </p:nvSpPr>
            <p:spPr>
              <a:xfrm>
                <a:off x="549360" y="7689960"/>
                <a:ext cx="57610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Text Box 18"/>
          <p:cNvSpPr/>
          <p:nvPr/>
        </p:nvSpPr>
        <p:spPr>
          <a:xfrm>
            <a:off x="744480" y="713268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iò equivale 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6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egnaposto numero diapositiva 7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E776-5BAB-4FAE-B359-1DDF62EE4C1E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78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49360" y="24321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conclusione, l’equivalenza tra il sistema reale e quello “fittizio” è fornita dalla 10 relazioni 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12"/>
              <p:cNvSpPr txBox="1"/>
              <p:nvPr/>
            </p:nvSpPr>
            <p:spPr>
              <a:xfrm>
                <a:off x="1916280" y="4665600"/>
                <a:ext cx="33908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x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y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8"/>
              <p:cNvSpPr txBox="1"/>
              <p:nvPr/>
            </p:nvSpPr>
            <p:spPr>
              <a:xfrm>
                <a:off x="1341360" y="3873600"/>
                <a:ext cx="43210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21"/>
              <p:cNvSpPr txBox="1"/>
              <p:nvPr/>
            </p:nvSpPr>
            <p:spPr>
              <a:xfrm>
                <a:off x="2637000" y="3081240"/>
                <a:ext cx="108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egnaposto numero diapositiva 7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8502-C797-4F07-915E-340BB1A4CE60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8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1989000" y="6681960"/>
                <a:ext cx="3241800" cy="21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7"/>
              <p:cNvSpPr txBox="1"/>
              <p:nvPr/>
            </p:nvSpPr>
            <p:spPr>
              <a:xfrm>
                <a:off x="1484280" y="5745240"/>
                <a:ext cx="43210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8"/>
              <p:cNvSpPr txBox="1"/>
              <p:nvPr/>
            </p:nvSpPr>
            <p:spPr>
              <a:xfrm>
                <a:off x="2781360" y="4665600"/>
                <a:ext cx="108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1" name="Rectangle 9"/>
          <p:cNvSpPr/>
          <p:nvPr/>
        </p:nvSpPr>
        <p:spPr>
          <a:xfrm>
            <a:off x="692280" y="272088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sistema equivalente si semplifica se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la terna di riferimento Gxyz  è centrale di inerzi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risultando nulli tutti i momenti centrifugh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tale caso si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riducono a sette le masse concentrat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, quindi sette sono le condizioni che assicurano l’equivalenza tra i due sistem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B47A-F337-4472-96B7-B55C834E8766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94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860640" y="2432160"/>
            <a:ext cx="25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Ulteriore semplificazione si ottiene se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si dispone una delle masse nel centro di massa G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3860640" y="4089240"/>
            <a:ext cx="266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, poi, il corpo originario si riduce ad un sistema di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sei masse a due a due uguali e disposte simmetricamente sugli assi x,y e z rispetto a G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risultano soddisfatta l’invarianza del baricentro mentre le altre condizioni si riducono 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98" name="Picture 10" descr="figura 4"/>
          <p:cNvPicPr/>
          <p:nvPr/>
        </p:nvPicPr>
        <p:blipFill>
          <a:blip r:embed="rId2"/>
          <a:srcRect l="5108" t="0" r="45975" b="0"/>
          <a:stretch/>
        </p:blipFill>
        <p:spPr>
          <a:xfrm>
            <a:off x="620640" y="2360520"/>
            <a:ext cx="3240000" cy="286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1" descr="figura 4"/>
          <p:cNvPicPr/>
          <p:nvPr/>
        </p:nvPicPr>
        <p:blipFill>
          <a:blip r:embed="rId3"/>
          <a:srcRect l="53637" t="0" r="0" b="0"/>
          <a:stretch/>
        </p:blipFill>
        <p:spPr>
          <a:xfrm>
            <a:off x="549360" y="5097600"/>
            <a:ext cx="3168720" cy="2993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0" name="Object 15"/>
              <p:cNvSpPr txBox="1"/>
              <p:nvPr/>
            </p:nvSpPr>
            <p:spPr>
              <a:xfrm>
                <a:off x="2276640" y="7832880"/>
                <a:ext cx="266364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6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4C22-F2D6-4149-BB4F-A3E7C62AC52A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00120" y="310032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765000" y="2505240"/>
            <a:ext cx="556272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L’equilibrio dinamico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di una particella che si muove di moto piano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 definito secondo NEWTON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può essere reso in forma grafica, come diagramma del corpo libero.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Indicano con F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, F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, .... F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s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 le forze esterne che formano, rispettivamente, gli angoli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,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....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s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con l’asse x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Picture 17" descr="figura 4"/>
          <p:cNvPicPr/>
          <p:nvPr/>
        </p:nvPicPr>
        <p:blipFill>
          <a:blip r:embed="rId2"/>
          <a:stretch/>
        </p:blipFill>
        <p:spPr>
          <a:xfrm>
            <a:off x="836640" y="4592520"/>
            <a:ext cx="5486400" cy="2806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341360" y="8337600"/>
                <a:ext cx="45356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1"/>
              <p:cNvSpPr txBox="1"/>
              <p:nvPr/>
            </p:nvSpPr>
            <p:spPr>
              <a:xfrm>
                <a:off x="2997360" y="7473960"/>
                <a:ext cx="936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2" name="Text Box 24"/>
          <p:cNvSpPr/>
          <p:nvPr/>
        </p:nvSpPr>
        <p:spPr>
          <a:xfrm>
            <a:off x="1125360" y="79056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Equazioni scalari proiettate sugli assi x, 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numero diapositiva 7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943E-B312-4DF3-9D90-16085A593D2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03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645000" y="2205360"/>
            <a:ext cx="25207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soluzione di tale sistema costituito da 4 equazioni e sei incognite, è possibile imponendo una delle seguenti condiz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x=y=z=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ca0207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=m</a:t>
            </a:r>
            <a:r>
              <a:rPr b="1" lang="it-IT" sz="1800" spc="-1" strike="noStrike" baseline="-25000">
                <a:solidFill>
                  <a:srgbClr val="ca0207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=m</a:t>
            </a:r>
            <a:r>
              <a:rPr b="1" lang="it-IT" sz="1800" spc="-1" strike="noStrike" baseline="-25000">
                <a:solidFill>
                  <a:srgbClr val="ca0207"/>
                </a:solidFill>
                <a:latin typeface="Arial"/>
              </a:rPr>
              <a:t>3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=m</a:t>
            </a:r>
            <a:r>
              <a:rPr b="1" lang="it-IT" sz="2400" spc="-1" strike="noStrike">
                <a:solidFill>
                  <a:srgbClr val="ca0207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9"/>
              <p:cNvSpPr txBox="1"/>
              <p:nvPr/>
            </p:nvSpPr>
            <p:spPr>
              <a:xfrm>
                <a:off x="836640" y="2720880"/>
                <a:ext cx="259236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4"/>
              <p:cNvSpPr txBox="1"/>
              <p:nvPr/>
            </p:nvSpPr>
            <p:spPr>
              <a:xfrm>
                <a:off x="2565360" y="5816520"/>
                <a:ext cx="18716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I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8" name="Text Box 10"/>
          <p:cNvSpPr/>
          <p:nvPr/>
        </p:nvSpPr>
        <p:spPr>
          <a:xfrm flipV="1" rot="10800000">
            <a:off x="763560" y="4664520"/>
            <a:ext cx="552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il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moto del corpo è pian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(le velocità dei punti del corpo sono parallele al un piano e le rotazioni avvengono intorno ad assi normali al piano stesso, l’energia cinetica è data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17"/>
              <p:cNvSpPr txBox="1"/>
              <p:nvPr/>
            </p:nvSpPr>
            <p:spPr>
              <a:xfrm>
                <a:off x="907920" y="7329600"/>
                <a:ext cx="5616720" cy="19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invarianza tra le masse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invarianza  del baricantro    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0" name="Text Box 20"/>
          <p:cNvSpPr/>
          <p:nvPr/>
        </p:nvSpPr>
        <p:spPr>
          <a:xfrm flipV="1" rot="10800000">
            <a:off x="764640" y="639252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si dispongono le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masse tutte nel piano x-y (z=0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l’equivalenza tra sistema reale e sistema di masse di sostituzione è assicurata  s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6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6103-48C1-42F7-BBB8-008F2C9611F1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13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14"/>
              <p:cNvSpPr txBox="1"/>
              <p:nvPr/>
            </p:nvSpPr>
            <p:spPr>
              <a:xfrm>
                <a:off x="1052640" y="3152880"/>
                <a:ext cx="45352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;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; 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z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z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16"/>
              <p:cNvSpPr txBox="1"/>
              <p:nvPr/>
            </p:nvSpPr>
            <p:spPr>
              <a:xfrm>
                <a:off x="3789360" y="5816520"/>
                <a:ext cx="28796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ρ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19"/>
              <p:cNvSpPr txBox="1"/>
              <p:nvPr/>
            </p:nvSpPr>
            <p:spPr>
              <a:xfrm>
                <a:off x="907920" y="8193240"/>
                <a:ext cx="4896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Text Box 26"/>
          <p:cNvSpPr/>
          <p:nvPr/>
        </p:nvSpPr>
        <p:spPr>
          <a:xfrm flipV="1" rot="10800000">
            <a:off x="620280" y="2484000"/>
            <a:ext cx="58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ali relazioni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si riducono a tre qualora le masse sono disposte tutte sull’asse x (y=0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Rectangle 27"/>
          <p:cNvSpPr/>
          <p:nvPr/>
        </p:nvSpPr>
        <p:spPr>
          <a:xfrm>
            <a:off x="620640" y="3873600"/>
            <a:ext cx="58327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in particolare si fissano i tre punti P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P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P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ull’asse x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con P</a:t>
            </a:r>
            <a:r>
              <a:rPr b="1" lang="it-IT" sz="1800" spc="-1" strike="noStrike" baseline="-25000">
                <a:solidFill>
                  <a:srgbClr val="ca0207"/>
                </a:solidFill>
                <a:latin typeface="Arial"/>
              </a:rPr>
              <a:t>0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</a:rPr>
              <a:t>=G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detto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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l raggio di girazione del corpo intorno all’asse z, i valori delle mass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i ottengono risolvendo il sistema di equaz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0" name="Rectangle 28"/>
          <p:cNvSpPr/>
          <p:nvPr/>
        </p:nvSpPr>
        <p:spPr>
          <a:xfrm>
            <a:off x="333360" y="7664760"/>
            <a:ext cx="6524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la cui soluzione, tenuto conto che x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+x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=L fornisc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21" name="Picture 29" descr="figura 4"/>
          <p:cNvPicPr/>
          <p:nvPr/>
        </p:nvPicPr>
        <p:blipFill>
          <a:blip r:embed="rId2"/>
          <a:srcRect l="0" t="8009" r="5780" b="0"/>
          <a:stretch/>
        </p:blipFill>
        <p:spPr>
          <a:xfrm>
            <a:off x="549360" y="5457960"/>
            <a:ext cx="316224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5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A59F-5D00-4105-9C85-C8E92275B757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24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8"/>
              <p:cNvSpPr txBox="1"/>
              <p:nvPr/>
            </p:nvSpPr>
            <p:spPr>
              <a:xfrm>
                <a:off x="1741320" y="4189320"/>
                <a:ext cx="73692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8"/>
              <p:cNvSpPr txBox="1"/>
              <p:nvPr/>
            </p:nvSpPr>
            <p:spPr>
              <a:xfrm>
                <a:off x="4005360" y="4089240"/>
                <a:ext cx="26366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8" name="Rectangle 15"/>
          <p:cNvSpPr/>
          <p:nvPr/>
        </p:nvSpPr>
        <p:spPr>
          <a:xfrm>
            <a:off x="549360" y="2383200"/>
            <a:ext cx="56880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Imponendo, poi,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  <a:ea typeface="Times New Roman"/>
              </a:rPr>
              <a:t>la condizione m</a:t>
            </a:r>
            <a:r>
              <a:rPr b="1" lang="it-IT" sz="1800" spc="-1" strike="noStrike" baseline="-30000">
                <a:solidFill>
                  <a:srgbClr val="ca0207"/>
                </a:solidFill>
                <a:latin typeface="Arial"/>
                <a:ea typeface="Times New Roman"/>
              </a:rPr>
              <a:t>0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  <a:ea typeface="Times New Roman"/>
              </a:rPr>
              <a:t>=0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il sistema equivalente si semplifica ancor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In tale caso, però, 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  <a:ea typeface="Times New Roman"/>
              </a:rPr>
              <a:t>solo uno dei due punti P</a:t>
            </a:r>
            <a:r>
              <a:rPr b="1" lang="it-IT" sz="1800" spc="-1" strike="noStrike" baseline="-30000">
                <a:solidFill>
                  <a:srgbClr val="ca0207"/>
                </a:solidFill>
                <a:latin typeface="Arial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  <a:ea typeface="Times New Roman"/>
              </a:rPr>
              <a:t> e P</a:t>
            </a:r>
            <a:r>
              <a:rPr b="1" lang="it-IT" sz="1800" spc="-1" strike="noStrike" baseline="-30000">
                <a:solidFill>
                  <a:srgbClr val="ca0207"/>
                </a:solidFill>
                <a:latin typeface="Arial"/>
                <a:ea typeface="Times New Roman"/>
              </a:rPr>
              <a:t>2</a:t>
            </a:r>
            <a:r>
              <a:rPr b="1" lang="it-IT" sz="1800" spc="-1" strike="noStrike">
                <a:solidFill>
                  <a:srgbClr val="ca0207"/>
                </a:solidFill>
                <a:latin typeface="Arial"/>
                <a:ea typeface="Times New Roman"/>
              </a:rPr>
              <a:t> può essere fissato ad arbitrio sull’asse x dovendo essere rispettata, la condizion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29" name="Picture 17" descr=""/>
          <p:cNvPicPr/>
          <p:nvPr/>
        </p:nvPicPr>
        <p:blipFill>
          <a:blip r:embed="rId2"/>
          <a:srcRect l="0" t="0" r="0" b="7066"/>
          <a:stretch/>
        </p:blipFill>
        <p:spPr>
          <a:xfrm>
            <a:off x="549360" y="3944880"/>
            <a:ext cx="3168720" cy="1887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1" descr="figura 4"/>
          <p:cNvPicPr/>
          <p:nvPr/>
        </p:nvPicPr>
        <p:blipFill>
          <a:blip r:embed="rId3"/>
          <a:srcRect l="0" t="0" r="0" b="-3265"/>
          <a:stretch/>
        </p:blipFill>
        <p:spPr>
          <a:xfrm>
            <a:off x="1413000" y="6018120"/>
            <a:ext cx="4608360" cy="278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1" name="Object 31"/>
              <p:cNvSpPr txBox="1"/>
              <p:nvPr/>
            </p:nvSpPr>
            <p:spPr>
              <a:xfrm>
                <a:off x="2276640" y="8553600"/>
                <a:ext cx="26636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ρ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4"/>
              <p:cNvSpPr txBox="1"/>
              <p:nvPr/>
            </p:nvSpPr>
            <p:spPr>
              <a:xfrm>
                <a:off x="3500280" y="5457960"/>
                <a:ext cx="30974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652A-6BA2-420D-BDBE-F43BDCF46E71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3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765000" y="2653200"/>
            <a:ext cx="539928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comportamento dinamico di un sistema complesso ad un grado di libertà (meccanismo, macchina o gruppo), costituito da membri rigidi, può essere studiato attraverso un sistema più semplice detto “</a:t>
            </a:r>
            <a:r>
              <a:rPr b="1" i="1" lang="it-IT" sz="1800" spc="-1" strike="noStrike">
                <a:solidFill>
                  <a:srgbClr val="6600ff"/>
                </a:solidFill>
                <a:latin typeface="Arial"/>
              </a:rPr>
              <a:t>sistema ridot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ottenuto sostituendo le masse o le inerzie e le forze o momenti effettivi con altre masse/inerzie e forze/momenti che producano gli stessi effetti, ai fini dell’applicazione del principio di d’Alembert o del teorema dell’energia cinetic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 livello operativo  è necessario scegliere preliminarmente un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punto o un ass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rispetto al quale si riducono tutte le masse e tutte le forze imponen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6600ff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le masse/inerzie,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 la condizione di invarianza tra l’energia cinetica posseduta da ciascuna massa/inerzia effettiva e l’energia cinetica della massa/inerzia ridotta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6600ff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6600ff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le forze/momenti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, la condizione di invarianza del lavoro compiuto da ciascuna forza/momento effettivo e quello compiuto della forza/momento ridott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2349360" y="22161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SISTEMI RIDOTT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5E5E-61F8-4ADD-9DDF-6401444F5C1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4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7"/>
              <p:cNvSpPr txBox="1"/>
              <p:nvPr/>
            </p:nvSpPr>
            <p:spPr>
              <a:xfrm>
                <a:off x="836640" y="4737240"/>
                <a:ext cx="208908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2781360" y="5168880"/>
                <a:ext cx="15843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15"/>
              <p:cNvSpPr txBox="1"/>
              <p:nvPr/>
            </p:nvSpPr>
            <p:spPr>
              <a:xfrm>
                <a:off x="907920" y="7832880"/>
                <a:ext cx="20163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6" name="Rectangle 12"/>
          <p:cNvSpPr/>
          <p:nvPr/>
        </p:nvSpPr>
        <p:spPr>
          <a:xfrm>
            <a:off x="620640" y="2289240"/>
            <a:ext cx="554508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6600ff"/>
                </a:solidFill>
                <a:latin typeface="Arial"/>
              </a:rPr>
              <a:t>Riduzione delle masse e dei momenti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00ff"/>
                </a:solidFill>
                <a:latin typeface="Arial"/>
              </a:rPr>
              <a:t>di inerzia di mass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1° caso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celto un punto del sistema effettivo, la riduzione delle masse si effettua sostituendo ciascuna massa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“m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” del sistema effettiv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si muove con velocità v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on una massa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“m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ridotta al punto di riduzione, che si muove con velocità v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mponen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18"/>
              <p:cNvSpPr txBox="1"/>
              <p:nvPr/>
            </p:nvSpPr>
            <p:spPr>
              <a:xfrm>
                <a:off x="2781360" y="8337600"/>
                <a:ext cx="15843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8" name="Text Box 21"/>
          <p:cNvSpPr/>
          <p:nvPr/>
        </p:nvSpPr>
        <p:spPr>
          <a:xfrm>
            <a:off x="3141720" y="48085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ff"/>
                </a:solidFill>
                <a:latin typeface="Arial"/>
              </a:rPr>
              <a:t>Invarianza dell’energia cinetic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9" name="Rectangle 22"/>
          <p:cNvSpPr/>
          <p:nvPr/>
        </p:nvSpPr>
        <p:spPr>
          <a:xfrm>
            <a:off x="620640" y="5961240"/>
            <a:ext cx="576108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2° caso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Una stessa massa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“m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” del sistema effettivo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uò essere, invece, ridotta ad una inerzia “I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” che ruota con velocità angolar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ntorno all’asse di riduzione scelto ed appartenente al sistema reale, imponen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0" name="Text Box 23"/>
          <p:cNvSpPr/>
          <p:nvPr/>
        </p:nvSpPr>
        <p:spPr>
          <a:xfrm>
            <a:off x="3213000" y="797724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ff"/>
                </a:solidFill>
                <a:latin typeface="Arial"/>
              </a:rPr>
              <a:t>Invarianza dell’energia cinetic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Text Box 25"/>
          <p:cNvSpPr/>
          <p:nvPr/>
        </p:nvSpPr>
        <p:spPr>
          <a:xfrm>
            <a:off x="1484280" y="862488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Text Box 26"/>
          <p:cNvSpPr/>
          <p:nvPr/>
        </p:nvSpPr>
        <p:spPr>
          <a:xfrm>
            <a:off x="1413000" y="538488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egnaposto numero diapositiva 7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6F66-7008-4C54-9DDF-2162D2F36DEC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5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765000" y="3224160"/>
            <a:ext cx="55454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1° caso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celto un asse di riduzione appartenente al sistema effettivo,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un rotore avente momento di inerzia di massa I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rotante con velocità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uò essere ridotto ad un rotore di inerzia I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ruota con velocità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ntorno al prescelto asse, se è soddisfatta la condiz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2924280" y="524016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ff"/>
                </a:solidFill>
                <a:latin typeface="Arial"/>
              </a:rPr>
              <a:t>Invarianza dell’energia cinetic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2997360" y="83376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ff"/>
                </a:solidFill>
                <a:latin typeface="Arial"/>
              </a:rPr>
              <a:t>Invarianza dell’energia cinetic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1700280" y="59612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19"/>
              <p:cNvSpPr txBox="1"/>
              <p:nvPr/>
            </p:nvSpPr>
            <p:spPr>
              <a:xfrm>
                <a:off x="836640" y="5097600"/>
                <a:ext cx="19447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21"/>
              <p:cNvSpPr txBox="1"/>
              <p:nvPr/>
            </p:nvSpPr>
            <p:spPr>
              <a:xfrm>
                <a:off x="3357720" y="5745240"/>
                <a:ext cx="1368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24"/>
              <p:cNvSpPr txBox="1"/>
              <p:nvPr/>
            </p:nvSpPr>
            <p:spPr>
              <a:xfrm>
                <a:off x="765000" y="8121600"/>
                <a:ext cx="216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64" name="Text Box 27"/>
          <p:cNvSpPr/>
          <p:nvPr/>
        </p:nvSpPr>
        <p:spPr>
          <a:xfrm>
            <a:off x="836640" y="2505240"/>
            <a:ext cx="53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n analogo ragionamento si può affermare ch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Rectangle 28"/>
          <p:cNvSpPr/>
          <p:nvPr/>
        </p:nvSpPr>
        <p:spPr>
          <a:xfrm>
            <a:off x="692280" y="6608880"/>
            <a:ext cx="554508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2° caso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celto un punto di riduzione che si muove con velocità v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appartenente al sistema effettivo,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o stesso rotore può essere ridotto ad una massa inerzia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applicata al prescelto punto, se è soddisfatta la condiz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32"/>
              <p:cNvSpPr txBox="1"/>
              <p:nvPr/>
            </p:nvSpPr>
            <p:spPr>
              <a:xfrm>
                <a:off x="1143000" y="3429000"/>
                <a:ext cx="457200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ED37-D6D5-4A5C-A4A6-0BF876D6E796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69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620640" y="3152880"/>
            <a:ext cx="554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intende per riduzione delle forze la sostituzione delle forze/momenti agenti sul sistema effettivo con altre forze/momenti applicate in punti (assi) prestabiliti (punti o assi di riduzione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L’equivalenza dinamic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(stessi effetti, ai fini dell'applicazione del teorema di d' Alembert)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si determina quando il lavoro compiuto dalla forza (coppia) ridotta equivale a quello compiuto dal sistema di forze originari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836640" y="2505240"/>
            <a:ext cx="53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Riduzione delle forz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8"/>
              <p:cNvSpPr txBox="1"/>
              <p:nvPr/>
            </p:nvSpPr>
            <p:spPr>
              <a:xfrm>
                <a:off x="1557360" y="7616880"/>
                <a:ext cx="15476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20"/>
              <p:cNvSpPr txBox="1"/>
              <p:nvPr/>
            </p:nvSpPr>
            <p:spPr>
              <a:xfrm>
                <a:off x="3284640" y="8121600"/>
                <a:ext cx="1368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5" name="Text Box 29"/>
          <p:cNvSpPr/>
          <p:nvPr/>
        </p:nvSpPr>
        <p:spPr>
          <a:xfrm>
            <a:off x="620640" y="6105600"/>
            <a:ext cx="55436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1) Una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forza F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  applicata in un punto P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 sistema effettivo che compie uno spostamento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ds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E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uò essere ridotta ad una 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forza  applicata in un punto P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al quale compete uno spostamento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ds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6" name="Text Box 30"/>
          <p:cNvSpPr/>
          <p:nvPr/>
        </p:nvSpPr>
        <p:spPr>
          <a:xfrm>
            <a:off x="3573360" y="7616880"/>
            <a:ext cx="24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ff"/>
                </a:solidFill>
                <a:latin typeface="Arial"/>
              </a:rPr>
              <a:t>Invarianza dei lavor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7" name="Text Box 32"/>
          <p:cNvSpPr/>
          <p:nvPr/>
        </p:nvSpPr>
        <p:spPr>
          <a:xfrm>
            <a:off x="1989000" y="826596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C20C-844F-40B3-B566-C514FD699D88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80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9"/>
              <p:cNvSpPr txBox="1"/>
              <p:nvPr/>
            </p:nvSpPr>
            <p:spPr>
              <a:xfrm>
                <a:off x="1341360" y="4089240"/>
                <a:ext cx="158436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0"/>
              <p:cNvSpPr txBox="1"/>
              <p:nvPr/>
            </p:nvSpPr>
            <p:spPr>
              <a:xfrm>
                <a:off x="3357720" y="4592520"/>
                <a:ext cx="1296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d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Text Box 12"/>
          <p:cNvSpPr/>
          <p:nvPr/>
        </p:nvSpPr>
        <p:spPr>
          <a:xfrm>
            <a:off x="3573360" y="4089240"/>
            <a:ext cx="24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ff"/>
                </a:solidFill>
                <a:latin typeface="Arial"/>
              </a:rPr>
              <a:t>Invarianza dei lavor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844640" y="473724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765000" y="2720880"/>
            <a:ext cx="5492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2) La stessa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forza  effettiva F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 applicata in P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uò essere ridotta ad un 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momento  M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al quale compete una rotazione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it-IT" sz="1800" spc="-1" strike="noStrike">
                <a:solidFill>
                  <a:srgbClr val="6600ff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mponendo la condiz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836640" y="5313240"/>
            <a:ext cx="54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o stesso ragionamento si può applicare volendo ridurre momenti effettivi in coppie applicate ad un asse di riduzione o in forze applicate in un punto di riduzion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20"/>
              <p:cNvSpPr txBox="1"/>
              <p:nvPr/>
            </p:nvSpPr>
            <p:spPr>
              <a:xfrm>
                <a:off x="1341360" y="8048520"/>
                <a:ext cx="1873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21"/>
              <p:cNvSpPr txBox="1"/>
              <p:nvPr/>
            </p:nvSpPr>
            <p:spPr>
              <a:xfrm>
                <a:off x="3068640" y="8553600"/>
                <a:ext cx="16556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0" name="Text Box 22"/>
          <p:cNvSpPr/>
          <p:nvPr/>
        </p:nvSpPr>
        <p:spPr>
          <a:xfrm>
            <a:off x="765000" y="6681960"/>
            <a:ext cx="55436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3) Una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momento M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  applicato all’asse effettiv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determina una rotazione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it-IT" sz="1800" spc="-1" strike="noStrike">
                <a:solidFill>
                  <a:srgbClr val="6600ff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E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uò essere ridotto ad un 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momento  applicato in un asse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l quale è associata una rotazione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it-IT" sz="1800" spc="-1" strike="noStrike">
                <a:solidFill>
                  <a:srgbClr val="6600ff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3716280" y="804852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ff"/>
                </a:solidFill>
                <a:latin typeface="Arial"/>
              </a:rPr>
              <a:t>Invarianza dei lavor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1700280" y="869796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A294-305D-4179-938F-41DA6685C90B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9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11"/>
              <p:cNvSpPr txBox="1"/>
              <p:nvPr/>
            </p:nvSpPr>
            <p:spPr>
              <a:xfrm>
                <a:off x="1413000" y="4016520"/>
                <a:ext cx="1708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12"/>
              <p:cNvSpPr txBox="1"/>
              <p:nvPr/>
            </p:nvSpPr>
            <p:spPr>
              <a:xfrm>
                <a:off x="3500280" y="4448160"/>
                <a:ext cx="1509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9" name="Text Box 13"/>
          <p:cNvSpPr/>
          <p:nvPr/>
        </p:nvSpPr>
        <p:spPr>
          <a:xfrm>
            <a:off x="765000" y="2649600"/>
            <a:ext cx="55436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4) Lo stesso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momento M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he determina una rotazione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it-IT" sz="1800" spc="-1" strike="noStrike">
                <a:solidFill>
                  <a:srgbClr val="6600ff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E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uò essere ridotto ad una 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forza  applicata in un punto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l quale è associato uno spostamento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ds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3573360" y="401652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ff"/>
                </a:solidFill>
                <a:latin typeface="Arial"/>
              </a:rPr>
              <a:t>Invarianza dei lavor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Text Box 15"/>
          <p:cNvSpPr/>
          <p:nvPr/>
        </p:nvSpPr>
        <p:spPr>
          <a:xfrm>
            <a:off x="1773360" y="46656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2" name="Text Box 18"/>
          <p:cNvSpPr/>
          <p:nvPr/>
        </p:nvSpPr>
        <p:spPr>
          <a:xfrm>
            <a:off x="836640" y="5673600"/>
            <a:ext cx="53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Sistema ridotto di una macchin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3" name="Text Box 19"/>
          <p:cNvSpPr/>
          <p:nvPr/>
        </p:nvSpPr>
        <p:spPr>
          <a:xfrm>
            <a:off x="836640" y="6248520"/>
            <a:ext cx="54720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Ogni membro mobil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i un macchinario, indipendentemente dalla tipologia del suo atto di moto (rotatorio, traslatorio, rototraslatorio), sul quale agiscono forze/momenti,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può essere ridotto in un rotore equivalente avente un momento di inerzia di massa I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R,i 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sul quale agisce un momento ridotto M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R,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me asse di riduzione è conveniente assumere l’asse della macchina stess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35A8-F953-467A-9891-1C590D8F8C35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549360" y="243216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n sono gli organi che costituiscono la macchina, questa può essere ricondotta ad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un unico volano ridotto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i inerzia pari 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14"/>
              <p:cNvSpPr txBox="1"/>
              <p:nvPr/>
            </p:nvSpPr>
            <p:spPr>
              <a:xfrm>
                <a:off x="4869000" y="2649600"/>
                <a:ext cx="13665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16"/>
              <p:cNvSpPr txBox="1"/>
              <p:nvPr/>
            </p:nvSpPr>
            <p:spPr>
              <a:xfrm>
                <a:off x="4797360" y="4016520"/>
                <a:ext cx="1728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19"/>
              <p:cNvSpPr txBox="1"/>
              <p:nvPr/>
            </p:nvSpPr>
            <p:spPr>
              <a:xfrm>
                <a:off x="1628640" y="6753240"/>
                <a:ext cx="1152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22"/>
              <p:cNvSpPr txBox="1"/>
              <p:nvPr/>
            </p:nvSpPr>
            <p:spPr>
              <a:xfrm>
                <a:off x="3573360" y="6753240"/>
                <a:ext cx="14400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3" name="Text Box 25"/>
          <p:cNvSpPr/>
          <p:nvPr/>
        </p:nvSpPr>
        <p:spPr>
          <a:xfrm>
            <a:off x="549360" y="3657600"/>
            <a:ext cx="41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d esso si applica un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momento dinamicamente equivalent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 deriva dalla riduzione, all’asse stesso, di tutte le forze e/o momenti agenti sui predetti organi mobili pari 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4" name="Rectangle 26"/>
          <p:cNvSpPr/>
          <p:nvPr/>
        </p:nvSpPr>
        <p:spPr>
          <a:xfrm>
            <a:off x="549360" y="6247800"/>
            <a:ext cx="56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sistema così ottenuto viene definito </a:t>
            </a:r>
            <a:r>
              <a:rPr b="1" i="1" lang="it-IT" sz="1800" spc="-1" strike="noStrike">
                <a:solidFill>
                  <a:srgbClr val="6600ff"/>
                </a:solidFill>
                <a:latin typeface="Arial"/>
              </a:rPr>
              <a:t>sistema ridotto della macchin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15" name="Picture 27" descr="figura 4"/>
          <p:cNvPicPr/>
          <p:nvPr/>
        </p:nvPicPr>
        <p:blipFill>
          <a:blip r:embed="rId2"/>
          <a:srcRect l="0" t="12266" r="0" b="0"/>
          <a:stretch/>
        </p:blipFill>
        <p:spPr>
          <a:xfrm>
            <a:off x="189000" y="7400880"/>
            <a:ext cx="6094440" cy="202104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28"/>
          <p:cNvSpPr/>
          <p:nvPr/>
        </p:nvSpPr>
        <p:spPr>
          <a:xfrm>
            <a:off x="549360" y="5313240"/>
            <a:ext cx="5759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momento ridotto si assume positivo o negativo a seconda che si riferisca ad una macchina motrice (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R,m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m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) o utilizzatrice (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R,u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u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4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479D-D666-44D8-B931-272CBAB5BD46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600120" y="310032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500280" y="459252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Moltiplicando vettorialmente per q sia il primo che il secondo membro 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620640" y="24321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iprendiamo in esame l’equazione di equilibrio alla Newton, si può scriver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0"/>
              <p:cNvSpPr txBox="1"/>
              <p:nvPr/>
            </p:nvSpPr>
            <p:spPr>
              <a:xfrm>
                <a:off x="4005360" y="5889600"/>
                <a:ext cx="1727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x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x 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1" name="Picture 17" descr="figura 4"/>
          <p:cNvPicPr/>
          <p:nvPr/>
        </p:nvPicPr>
        <p:blipFill>
          <a:blip r:embed="rId2"/>
          <a:stretch/>
        </p:blipFill>
        <p:spPr>
          <a:xfrm>
            <a:off x="0" y="4592520"/>
            <a:ext cx="3456000" cy="2914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8"/>
          <p:cNvSpPr/>
          <p:nvPr/>
        </p:nvSpPr>
        <p:spPr>
          <a:xfrm>
            <a:off x="620640" y="39448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ove Q è la quantità di moto della punto materiale P(m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3500280" y="6681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ov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907920" y="8048520"/>
            <a:ext cx="43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ha, quind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72"/>
              <p:cNvSpPr txBox="1"/>
              <p:nvPr/>
            </p:nvSpPr>
            <p:spPr>
              <a:xfrm>
                <a:off x="1844640" y="3152880"/>
                <a:ext cx="3168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75"/>
              <p:cNvSpPr txBox="1"/>
              <p:nvPr/>
            </p:nvSpPr>
            <p:spPr>
              <a:xfrm>
                <a:off x="2708280" y="8408880"/>
                <a:ext cx="15127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x 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6"/>
              <p:cNvSpPr txBox="1"/>
              <p:nvPr/>
            </p:nvSpPr>
            <p:spPr>
              <a:xfrm>
                <a:off x="1268280" y="7113600"/>
                <a:ext cx="48247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x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momento  del  risultante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rispetto  al polo O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D5D-A94F-414C-A2D1-026EAD4D0EE4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19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549360" y="228924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Sistema ridotto di un gruppo di macchin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692280" y="2801880"/>
            <a:ext cx="54734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o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schema funzionale di un grupp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ostituito dall’accoppiamento di una macchine motrice e di una utilizzatrice, può schematizzarsi con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un unico volano equivalent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al cui albero sono applicati rispettivamente il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momento motore ridotto M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m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 e quello ridotto utile M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u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 oltre a quello M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 delle resistenze passiv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somma di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u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+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ostituisce il momento resistente che si oppone a quello motor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3" name="Picture 19" descr="figura 4"/>
          <p:cNvPicPr/>
          <p:nvPr/>
        </p:nvPicPr>
        <p:blipFill>
          <a:blip r:embed="rId2"/>
          <a:stretch/>
        </p:blipFill>
        <p:spPr>
          <a:xfrm>
            <a:off x="836640" y="5457960"/>
            <a:ext cx="53290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1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4" dur="2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9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FBB1-11A4-4ED5-BCE0-CC106A8963E4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92280" y="2294280"/>
            <a:ext cx="547344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o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schema funzionale di un grupp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ostituito dall’accoppiamento di una macchine motrice e di una utilizzatrice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su due assi divers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può ancora ricondursi ad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un unico volano equivalente I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r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vendo scelto come asse di riduzione quello della macchine motrice (rotazione con velocità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ll’asse del sistema ridotto sono applicati rispettivamente il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momento motore ridotto M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m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</a:rPr>
              <a:t> e quello ridotto utile M</a:t>
            </a:r>
            <a:r>
              <a:rPr b="1" lang="it-IT" sz="1800" spc="-1" strike="noStrike" baseline="-25000">
                <a:solidFill>
                  <a:srgbClr val="6600ff"/>
                </a:solidFill>
                <a:latin typeface="Arial"/>
              </a:rPr>
              <a:t>r,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9" name="Picture 8" descr=""/>
          <p:cNvPicPr/>
          <p:nvPr/>
        </p:nvPicPr>
        <p:blipFill>
          <a:blip r:embed="rId2"/>
          <a:stretch/>
        </p:blipFill>
        <p:spPr>
          <a:xfrm>
            <a:off x="0" y="5313240"/>
            <a:ext cx="685800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6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1" dur="2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8574-4329-4AC0-B862-4A9BDF346712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32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7"/>
              <p:cNvSpPr txBox="1"/>
              <p:nvPr/>
            </p:nvSpPr>
            <p:spPr>
              <a:xfrm>
                <a:off x="1557360" y="5457960"/>
                <a:ext cx="3456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dθ</m:t>
                    </m:r>
                    <m:r>
                      <m:t xml:space="preserve">=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35" name="Picture 9" descr="figura 4"/>
          <p:cNvPicPr/>
          <p:nvPr/>
        </p:nvPicPr>
        <p:blipFill>
          <a:blip r:embed="rId2"/>
          <a:srcRect l="0" t="57963" r="0" b="0"/>
          <a:stretch/>
        </p:blipFill>
        <p:spPr>
          <a:xfrm>
            <a:off x="189000" y="3297240"/>
            <a:ext cx="6453000" cy="213516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10"/>
          <p:cNvSpPr/>
          <p:nvPr/>
        </p:nvSpPr>
        <p:spPr>
          <a:xfrm>
            <a:off x="620640" y="243180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La legge del moto di un gruppo può esprimersi attraverso </a:t>
            </a:r>
            <a:r>
              <a:rPr b="1" lang="it-IT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l’equazione dell’energia cinetic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, scritta con riferimento al sistema ridott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Rectangle 11"/>
          <p:cNvSpPr/>
          <p:nvPr/>
        </p:nvSpPr>
        <p:spPr>
          <a:xfrm>
            <a:off x="404640" y="6178680"/>
            <a:ext cx="609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1360" indent="44640" algn="just"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Nel funzionamento di un gruppo si possono individuare tre diversi stat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171360" indent="44640" algn="just"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171360" indent="44640" algn="just">
              <a:buClr>
                <a:srgbClr val="292929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transitorio di avviamen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: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intervallo di tempo durante il quale risulta positiva la variazione di energia cinetica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171360" indent="44640" algn="just">
              <a:buClr>
                <a:srgbClr val="292929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171360" indent="44640" algn="just">
              <a:buClr>
                <a:srgbClr val="292929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regim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: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intervallo di tempo durante il quale risulta nulla la variazione di energia cinetica (può essere assoluto o periodico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171360" indent="44640" algn="just"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171360" indent="44640" algn="just">
              <a:buClr>
                <a:srgbClr val="292929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transitorio di arresto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: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intervallo di tempo durante il quale risulta negativa la variazione di energia cinetic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4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2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2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2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25B1-54A3-45B3-A282-86D02F506167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0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6"/>
              <p:cNvSpPr txBox="1"/>
              <p:nvPr/>
            </p:nvSpPr>
            <p:spPr>
              <a:xfrm>
                <a:off x="1413000" y="4089240"/>
                <a:ext cx="4362480" cy="22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x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x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x 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x 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               essendo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                 Si ha,quindi: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x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x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2349360" y="2289240"/>
                <a:ext cx="1584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x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6"/>
              <p:cNvSpPr txBox="1"/>
              <p:nvPr/>
            </p:nvSpPr>
            <p:spPr>
              <a:xfrm>
                <a:off x="2781360" y="3081240"/>
                <a:ext cx="20160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x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Text Box 19"/>
          <p:cNvSpPr/>
          <p:nvPr/>
        </p:nvSpPr>
        <p:spPr>
          <a:xfrm>
            <a:off x="692280" y="3297240"/>
            <a:ext cx="21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dimostra ch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673200" y="6124680"/>
            <a:ext cx="53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765000" y="6681960"/>
            <a:ext cx="547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secondo membro esprime la derivata rispetto al  tempo del vettore momento della quantità di moto K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’espressione precedente è nota come: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Teorema del momento della quantità di mot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5013360" y="3297240"/>
            <a:ext cx="21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fatt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A9A3-BCAF-48A0-86C1-57796FC7F17B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20640" y="322416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4076640" y="5240160"/>
                <a:ext cx="20163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8"/>
              <p:cNvSpPr txBox="1"/>
              <p:nvPr/>
            </p:nvSpPr>
            <p:spPr>
              <a:xfrm>
                <a:off x="1125360" y="6465960"/>
                <a:ext cx="3095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r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4"/>
              <p:cNvSpPr txBox="1"/>
              <p:nvPr/>
            </p:nvSpPr>
            <p:spPr>
              <a:xfrm>
                <a:off x="1557360" y="8121600"/>
                <a:ext cx="1079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7"/>
              <p:cNvSpPr txBox="1"/>
              <p:nvPr/>
            </p:nvSpPr>
            <p:spPr>
              <a:xfrm>
                <a:off x="1413000" y="8840880"/>
                <a:ext cx="453528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Teorema del moto del baricentr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29"/>
          <p:cNvSpPr/>
          <p:nvPr/>
        </p:nvSpPr>
        <p:spPr>
          <a:xfrm>
            <a:off x="3860640" y="2360520"/>
            <a:ext cx="259272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Se si considera il sistema di n punti materiali P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s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(m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s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) con baricentro G, se a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  <a:ea typeface="Times New Roman"/>
              </a:rPr>
              <a:t>s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è l’accelerazione del punto “s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  <a:ea typeface="Times New Roman"/>
              </a:rPr>
              <a:t>m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” per esso, la legge di Newton fornisce, rispetto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l riferimento inerziale Oxyz,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9" name="Picture 30" descr=""/>
          <p:cNvPicPr/>
          <p:nvPr/>
        </p:nvPicPr>
        <p:blipFill>
          <a:blip r:embed="rId2"/>
          <a:stretch/>
        </p:blipFill>
        <p:spPr>
          <a:xfrm>
            <a:off x="404640" y="2505240"/>
            <a:ext cx="3340440" cy="3049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1"/>
          <p:cNvSpPr/>
          <p:nvPr/>
        </p:nvSpPr>
        <p:spPr>
          <a:xfrm>
            <a:off x="765000" y="60325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ommando a tutto il sistema di n punti material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4653000" y="67532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4"/>
              <p:cNvSpPr txBox="1"/>
              <p:nvPr/>
            </p:nvSpPr>
            <p:spPr>
              <a:xfrm>
                <a:off x="2133720" y="7400880"/>
                <a:ext cx="22320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Text Box 37"/>
          <p:cNvSpPr/>
          <p:nvPr/>
        </p:nvSpPr>
        <p:spPr>
          <a:xfrm>
            <a:off x="333360" y="8265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oiché è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2565360" y="82659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0"/>
              <p:cNvSpPr txBox="1"/>
              <p:nvPr/>
            </p:nvSpPr>
            <p:spPr>
              <a:xfrm>
                <a:off x="2924280" y="8265960"/>
                <a:ext cx="367164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celerazione del baricentro 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Text Box 41"/>
          <p:cNvSpPr/>
          <p:nvPr/>
        </p:nvSpPr>
        <p:spPr>
          <a:xfrm>
            <a:off x="404640" y="8840880"/>
            <a:ext cx="10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EEDA-EBA8-42C8-88B1-CD60C9677360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620640" y="322416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1538280" y="4068720"/>
                <a:ext cx="1143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73" name="Picture 11" descr=""/>
          <p:cNvPicPr/>
          <p:nvPr/>
        </p:nvPicPr>
        <p:blipFill>
          <a:blip r:embed="rId2"/>
          <a:stretch/>
        </p:blipFill>
        <p:spPr>
          <a:xfrm>
            <a:off x="404640" y="2720880"/>
            <a:ext cx="3340440" cy="304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4" name="Object 31"/>
              <p:cNvSpPr txBox="1"/>
              <p:nvPr/>
            </p:nvSpPr>
            <p:spPr>
              <a:xfrm>
                <a:off x="1197000" y="5673600"/>
                <a:ext cx="4464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r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32"/>
              <p:cNvSpPr txBox="1"/>
              <p:nvPr/>
            </p:nvSpPr>
            <p:spPr>
              <a:xfrm>
                <a:off x="2205000" y="6681960"/>
                <a:ext cx="4032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3"/>
              <p:cNvSpPr txBox="1"/>
              <p:nvPr/>
            </p:nvSpPr>
            <p:spPr>
              <a:xfrm>
                <a:off x="2924280" y="7113600"/>
                <a:ext cx="18000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r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4"/>
              <p:cNvSpPr txBox="1"/>
              <p:nvPr/>
            </p:nvSpPr>
            <p:spPr>
              <a:xfrm>
                <a:off x="1341360" y="8048520"/>
                <a:ext cx="43768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Rectangle 35"/>
          <p:cNvSpPr/>
          <p:nvPr/>
        </p:nvSpPr>
        <p:spPr>
          <a:xfrm>
            <a:off x="3860640" y="25765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Riprendendo in esame la relaz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3933720" y="4089240"/>
            <a:ext cx="252108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il prodotto vettoriale di ogni membro per q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s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 (vettore posizione del punto materiale “s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  <a:ea typeface="Times New Roman"/>
              </a:rPr>
              <a:t>m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” P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s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)</a:t>
            </a:r>
            <a:r>
              <a:rPr b="1" lang="it-IT" sz="1800" spc="-1" strike="noStrike" baseline="-30000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fornisc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7"/>
              <p:cNvSpPr txBox="1"/>
              <p:nvPr/>
            </p:nvSpPr>
            <p:spPr>
              <a:xfrm>
                <a:off x="3500280" y="3220920"/>
                <a:ext cx="3024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r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" name="Text Box 39"/>
          <p:cNvSpPr/>
          <p:nvPr/>
        </p:nvSpPr>
        <p:spPr>
          <a:xfrm>
            <a:off x="404640" y="67532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oiché risult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916280" y="73296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egnaposto numero diapositiva 7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BD96-FA38-4EFC-AB11-F6D24FE8DEF8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20640" y="322416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7"/>
              <p:cNvSpPr txBox="1"/>
              <p:nvPr/>
            </p:nvSpPr>
            <p:spPr>
              <a:xfrm>
                <a:off x="4292640" y="2792520"/>
                <a:ext cx="15112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89" name="Picture 7" descr=""/>
          <p:cNvPicPr/>
          <p:nvPr/>
        </p:nvPicPr>
        <p:blipFill>
          <a:blip r:embed="rId2"/>
          <a:stretch/>
        </p:blipFill>
        <p:spPr>
          <a:xfrm>
            <a:off x="404640" y="2360520"/>
            <a:ext cx="3340440" cy="304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Object 11"/>
              <p:cNvSpPr txBox="1"/>
              <p:nvPr/>
            </p:nvSpPr>
            <p:spPr>
              <a:xfrm>
                <a:off x="4076640" y="3584520"/>
                <a:ext cx="2014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Text Box 18"/>
          <p:cNvSpPr/>
          <p:nvPr/>
        </p:nvSpPr>
        <p:spPr>
          <a:xfrm>
            <a:off x="3789360" y="44481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ono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le equazioni cardinali della dinamic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n forma vettorial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4076640" y="2360520"/>
            <a:ext cx="21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due equaz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92280" y="804852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roiettate sugli assi del riferimento Oxyz danno luogo a sei equazioni scalar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1"/>
              <p:cNvSpPr txBox="1"/>
              <p:nvPr/>
            </p:nvSpPr>
            <p:spPr>
              <a:xfrm>
                <a:off x="1844640" y="5673600"/>
                <a:ext cx="3745080" cy="20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egnaposto numero diapositiva 8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D4DD-6EE6-490D-B80C-21923F6FD565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99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7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060640" y="23605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6600"/>
                </a:solidFill>
                <a:latin typeface="Arial"/>
              </a:rPr>
              <a:t>Principio di d’Alember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5"/>
              <p:cNvSpPr txBox="1"/>
              <p:nvPr/>
            </p:nvSpPr>
            <p:spPr>
              <a:xfrm>
                <a:off x="1268280" y="3224160"/>
                <a:ext cx="41767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7"/>
              <p:cNvSpPr txBox="1"/>
              <p:nvPr/>
            </p:nvSpPr>
            <p:spPr>
              <a:xfrm>
                <a:off x="2205000" y="4016520"/>
                <a:ext cx="1554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0"/>
              <p:cNvSpPr txBox="1"/>
              <p:nvPr/>
            </p:nvSpPr>
            <p:spPr>
              <a:xfrm>
                <a:off x="4005360" y="4016520"/>
                <a:ext cx="2160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6"/>
              <p:cNvSpPr txBox="1"/>
              <p:nvPr/>
            </p:nvSpPr>
            <p:spPr>
              <a:xfrm>
                <a:off x="2349360" y="4808520"/>
                <a:ext cx="36007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Text Box 27"/>
          <p:cNvSpPr/>
          <p:nvPr/>
        </p:nvSpPr>
        <p:spPr>
          <a:xfrm>
            <a:off x="692280" y="2792520"/>
            <a:ext cx="56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eriva dalle equazioni cardinali della dinamic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765000" y="4160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onen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765000" y="49528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1"/>
              <p:cNvSpPr txBox="1"/>
              <p:nvPr/>
            </p:nvSpPr>
            <p:spPr>
              <a:xfrm>
                <a:off x="957240" y="5600880"/>
                <a:ext cx="544680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sul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  <m:r>
                          <m:rPr>
                            <m:lit/>
                            <m:nor/>
                          </m:rPr>
                          <m:t xml:space="preserve">delle</m:t>
                        </m:r>
                        <m:r>
                          <m:rPr>
                            <m:lit/>
                            <m:nor/>
                          </m:rPr>
                          <m:t xml:space="preserve">forze</m:t>
                        </m:r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rPr>
                            <m:lit/>
                            <m:nor/>
                          </m:rPr>
                          <m:t xml:space="preserve"> inerzia</m:t>
                        </m:r>
                      </m:e>
                    </m:eqAr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,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mento</m:t>
                    </m:r>
                    <m:r>
                      <m:rPr>
                        <m:lit/>
                        <m:nor/>
                      </m:rPr>
                      <m:t xml:space="preserve"> del r</m:t>
                    </m:r>
                    <m:r>
                      <m:rPr>
                        <m:lit/>
                        <m:nor/>
                      </m:rPr>
                      <m:t xml:space="preserve">isul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rPr>
                        <m:lit/>
                        <m:nor/>
                      </m:rPr>
                      <m:t xml:space="preserve">delle</m:t>
                    </m:r>
                    <m:r>
                      <m:rPr>
                        <m:lit/>
                        <m:nor/>
                      </m:rPr>
                      <m:t xml:space="preserve">forze</m:t>
                    </m:r>
                    <m:r>
                      <m:rPr>
                        <m:lit/>
                        <m:nor/>
                      </m:rPr>
                      <m:t xml:space="preserve">di</m:t>
                    </m:r>
                    <m:r>
                      <m:rPr>
                        <m:lit/>
                        <m:nor/>
                      </m:rPr>
                      <m:t xml:space="preserve"> inerzia </m:t>
                    </m:r>
                    <m:r>
                      <m:rPr>
                        <m:lit/>
                        <m:nor/>
                      </m:rPr>
                      <m:t xml:space="preserve">                      rispetto al polo 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35"/>
          <p:cNvSpPr/>
          <p:nvPr/>
        </p:nvSpPr>
        <p:spPr>
          <a:xfrm>
            <a:off x="692280" y="696924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equazioni di d’Alembert consentono di ricondurre lo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stato di moto di un sistema meccanico ad uno stato di equilibri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e, tra le forze che lo determinano, si considerano le forze di inerzia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possono così determinare le reazioni vincolari del sistema una volta che sia nota la legge ovvero le forze d'inerzia che in esso hanno sed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9:39:13Z</dcterms:created>
  <dc:creator>user</dc:creator>
  <dc:description/>
  <dc:language>en-US</dc:language>
  <cp:lastModifiedBy>francesca</cp:lastModifiedBy>
  <dcterms:modified xsi:type="dcterms:W3CDTF">2011-10-26T16:03:10Z</dcterms:modified>
  <cp:revision>337</cp:revision>
  <dc:subject/>
  <dc:title>Diapositiva 1</dc:title>
</cp:coreProperties>
</file>