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E2B-1F4F-4EC0-8CB7-67013967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DD1-D7F5-4180-B9F9-72DB95C6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358-D822-4FEB-ADC9-F54855CD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ACC-C733-4319-887F-F72A36DD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2215-677E-45EC-8313-C944B76A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2F2B-CB6F-4BF1-97D4-3ACDD92F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3BB9-05F9-4E07-A604-0C42DD6A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479F-4FBE-4004-81E8-A2BE859C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EA3D-835C-4227-9553-2E7EED75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DABD-1B5F-43A8-95A9-F268970D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9BA7-12E3-4793-8160-E4530B2F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43C-6753-4C7C-AD5F-B35889D6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D338-20CB-40FF-A9D3-962D3527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942A-9012-4D12-953D-ADEFF5D5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51E3-049D-4BF1-96CD-482C0A63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3182-AAC9-40CB-9872-FB75F698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945B-FC82-477F-8DCD-5B7C66C1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591-62F4-4741-B177-F262D0B3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83A-6FCC-4D3F-9D4F-19C17E73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FC7-DBC9-4F0F-937D-BCF844CC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80C-7329-415A-B4E7-5A88A7EE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BEA-14C8-43C7-8FC9-03964660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175-BD0D-4A95-8B09-C0A60595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4CC-C94F-4443-B189-8A1C6413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90800"/>
            <a:ext cx="1600200" cy="145800"/>
          </a:xfrm>
          <a:prstGeom prst="rect">
            <a:avLst/>
          </a:prstGeom>
          <a:solidFill>
            <a:srgbClr val="af7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5760" y="1990800"/>
            <a:ext cx="5429520" cy="14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74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cecb61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ff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cecb6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ff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92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288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1ED9-49C7-4C52-A8A3-8559A366A9F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560" y="811080"/>
            <a:ext cx="114480" cy="1541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97760" y="390600"/>
            <a:ext cx="114120" cy="15494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EE6F-03D5-4106-BB99-3EFA6658219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320840"/>
            <a:ext cx="6514920" cy="3631680"/>
            <a:chOff x="0" y="1320840"/>
            <a:chExt cx="6514920" cy="3631680"/>
          </a:xfrm>
        </p:grpSpPr>
        <p:sp>
          <p:nvSpPr>
            <p:cNvPr id="49" name=""/>
            <p:cNvSpPr/>
            <p:nvPr/>
          </p:nvSpPr>
          <p:spPr>
            <a:xfrm>
              <a:off x="171360" y="1320840"/>
              <a:ext cx="1885680" cy="3631680"/>
            </a:xfrm>
            <a:prstGeom prst="ellipse">
              <a:avLst/>
            </a:prstGeom>
            <a:noFill/>
            <a:ln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421360"/>
              <a:ext cx="3543120" cy="1650600"/>
            </a:xfrm>
            <a:prstGeom prst="rect">
              <a:avLst/>
            </a:prstGeom>
            <a:solidFill>
              <a:srgbClr val="af7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71800" y="2421360"/>
              <a:ext cx="3543120" cy="165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f7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6840" y="2201040"/>
              <a:ext cx="171360" cy="20930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86720" y="1747080"/>
              <a:ext cx="196200" cy="19807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28560" y="2084040"/>
            <a:ext cx="531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0280" y="22161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a lubrificazion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5000" y="2720880"/>
            <a:ext cx="54216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o strisciamento tra le superfici di una coppia cinematica direttamente accoppiate “contatto solido-solido”, è generalmente caratterizzato d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 elevato coefficiente di attrito, causa di dissipazione di energia meccanica e di usur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Questi effetti, possono comportare la crisi termomeccanica del sistem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lubrificazione viene effettuata per separare o proteggere le superfici in moto relativo al fine di contenere al minimo proprio gli effetti dell'attrito e dell'usura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alcuni casi è sufficiente separare le superfici con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lms di materiale plastico o poros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 lubrificanti solidi “lubrificazione solida”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tal modo, si determinano sforzi resistenti al moto minori di quelli che si avrebbero nel contatto dirett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'impiego di questi materiali è limitato dalle elevate velocità relative che si ritrovano in molti organi di macchine, nonché dalla loro scarsa resistenza ai carichi normal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1A6-D60F-46AF-8E9F-493BBC23DF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2280" y="236052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 si considera, invece, la coppia cinematica di figura (meato convergente nella direzione del moto)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 distribuzione di velocità in ciascuna sezione trasversale, non è più linear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2280" y="3440160"/>
            <a:ext cx="5616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fatti, se così non fosse, indicando con  h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ed h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rispettivamente lo spessore del film d'olio all'uscita ed all'ingresso del meato, risulterebbe: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280" y="7473960"/>
            <a:ext cx="561636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ale risultato, stante la incompressibilità del fluido, è incompatibile con la costanza della portata massica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=Q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Q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'equazione di continuità, cioè, non risulterebbe rispettat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989000" y="6753240"/>
                <a:ext cx="27352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U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U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20640" y="4376880"/>
            <a:ext cx="5688000" cy="237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5A8-2F77-4467-B45F-6071750C2A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2280" y="2432160"/>
            <a:ext cx="56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 deriva c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l'interno della zona delimitata dalle sezioni di ingresso e di uscita deve insorgere una distribuzione di pression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che modifica i diagrammi di velocità nelle diverse sezioni trasversali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dimostra che la velocità, non varia linearmente in ogni sezione nella direzione y ma segue una legge di tipo parabolico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rcRect l="0" t="6652" r="8477" b="48379"/>
          <a:stretch/>
        </p:blipFill>
        <p:spPr>
          <a:xfrm>
            <a:off x="907920" y="4737240"/>
            <a:ext cx="5473800" cy="2214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38360" y="6969240"/>
            <a:ext cx="5570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dimostra, altresì, che esiste nel meato una sez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ve risulta ancora lineare  la distribuzione di velocità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A monte e valle di tale sezione, la parabola che sottende le diverse distribuzioni di velocità, si presenterà, rispettivamente, concava o convessa nel rispetto della costanza della porta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997360" y="7400880"/>
                <a:ext cx="6476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AC7-C708-420E-B6B9-B880636437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2280" y="2649600"/>
            <a:ext cx="5616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può concludere che, condizione necessaria per l'instaurarsi di una lubrificazione idrodinamica, è che  il meato tra le due superfici in moto relativ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a convergente nella direzione del moto stess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l meato si determina, così, una pressione idrodinamica (V. figura) il cui risultante bilancia il carico esterno 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65720" y="252396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rcRect l="0" t="3024" r="0" b="0"/>
          <a:stretch/>
        </p:blipFill>
        <p:spPr>
          <a:xfrm>
            <a:off x="981000" y="4737240"/>
            <a:ext cx="5473800" cy="435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39A-947B-4539-A909-66153E4368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2280" y="2432160"/>
            <a:ext cx="5616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 condizione è necessaria ma non sufficient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fatti, affinché possa realizzarsi lubrificazione idrodinamica, devono essere soddisfatte precise condizioni geometriche e funzionali legate essenzialmente ai seguenti fattor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velocità di rotazione del rotor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arico da sopportar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viscosità del fluido lubrificante alla temperatura di regim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finitura delle superfici accoppiat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imensioni geometrich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ortata di lubrificante eroga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2280" y="6465960"/>
            <a:ext cx="5616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tale meccanismo di lubrificazione il coefficiente di attri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ende fino a valori medi compresi tra 0.001 e 0,003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condizione che garantisce l'instaurarsi di un meccanismo di lubrificazione idrodinamico ovvero la presenza tra le superfici in moto relativo di un film continuo d'olio corrisponde 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708280" y="8624880"/>
                <a:ext cx="13683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0A1-0EF4-45CC-B6D6-F1683E88B1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2280" y="2936880"/>
            <a:ext cx="561636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meccanismo di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lubrificazione idrodinamic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si può realizzare, normalmente, in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componenti cinematici a debole curvatura relativ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ovvero nelle coppie cinematiche elementari (contatto distribuito), mentre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di rado si realizza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componenti cinematici a forte curvatura relativa proprio delle coppie cinematiche superiori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(contatto concentrato) soggette a sollecitazioni di tipo hertziano (cuscinetti volventi, denti di ruote dentate, accoppiamento camma-punteria, ecc.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tali componenti è ancora possibile che tra le superfici in moto relativo si istauri un meccanismo di lubrificazione a film continuo, per il fatto che la viscosità dell'olio nel meato attinge valori molto elevati a causa delle notevoli pressioni raggiunte nella zona di contatto hertziano (10</a:t>
            </a:r>
            <a:r>
              <a:rPr b="1" lang="en-US" sz="1800" spc="-1" strike="noStrike" baseline="30000">
                <a:solidFill>
                  <a:srgbClr val="292929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÷10</a:t>
            </a:r>
            <a:r>
              <a:rPr b="1" lang="en-US" sz="1800" spc="-1" strike="noStrike" baseline="30000">
                <a:solidFill>
                  <a:srgbClr val="292929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 N/m</a:t>
            </a:r>
            <a:r>
              <a:rPr b="1" lang="en-US" sz="1800" spc="-1" strike="noStrike" baseline="30000">
                <a:solidFill>
                  <a:srgbClr val="292929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Tale meccanismo è quello definito come lubrificazione elastoidrodinamic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o spessore del film d'olio assume valori che possono addirittura raggiungere valori dell’ordine del centesimo di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52640" y="236052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Lubrificazione elastoidrodinamica (EHD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5D7-5D85-45A1-A3E8-DFDDE4C41B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2280" y="5816520"/>
            <a:ext cx="56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ubrificazione EHD è reso possibile se la viscosità dell'olio è selezionata opportunamente in funzione dei parametri di progetto (carico e velocità). Il lubrificante, inoltre, deve possedere particolari </a:t>
            </a:r>
            <a:r>
              <a:rPr b="1" lang="it-IT" sz="1800" spc="-1" strike="noStrike">
                <a:solidFill>
                  <a:srgbClr val="660066"/>
                </a:solidFill>
                <a:latin typeface="Arial"/>
              </a:rPr>
              <a:t>caratteristiche fisico-chimich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ovendo, necessariamente, contenere </a:t>
            </a:r>
            <a:r>
              <a:rPr b="1" lang="it-IT" sz="1800" spc="-1" strike="noStrike">
                <a:solidFill>
                  <a:srgbClr val="660066"/>
                </a:solidFill>
                <a:latin typeface="Arial"/>
              </a:rPr>
              <a:t>additivi per estreme pressioni, a base zolfo o fosfor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ali additivi, interagendo chimicamente con i metalli, formano composti resistenti alle notevoli sollecitazioni di taglio, anche ad alte temperatur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rcRect l="0" t="3492" r="0" b="-3483"/>
          <a:stretch/>
        </p:blipFill>
        <p:spPr>
          <a:xfrm>
            <a:off x="692280" y="2505240"/>
            <a:ext cx="5473440" cy="34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C75-2689-42A4-A0D3-EB45DC001C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2280" y="2576520"/>
            <a:ext cx="56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articolare interesse rivestono, tutt'ora, i principi generali proposti da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Reynolds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già alla fine del secolo scorso, nonché gli studi sviluppati da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Michell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er i cuscinetti di spinta e da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Sommerfeld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er i cuscinetti cilindrici portanti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52640" y="221616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Lubrificazione idrodinamica (HD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52640" y="416088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Equazione stazionaria della lubrificazion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2280" y="4521240"/>
            <a:ext cx="5761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Vengono assunte le seguenti ipotes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’olio lubrificante sia un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fluido newtonian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incomprimibil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moto laminare: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numero  di  Reynolds &lt; 100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e=ρUh/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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Nelle normali applicazioni risulta Re &lt; 10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forze d'inerzi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le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forze di mass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siano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trascurabili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ispetto a quelle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viscos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fluido sia perfettamente aderente alle paret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per cui si possa ammettere che lo strato aderente a ciascuna di esse si muova con la stessa velocità della superfici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flusso sia isoviscos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(la viscosità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 lubrificante è valutata alla temperatura media ritenuta costante in tutti i punti del meato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D82-3620-46D6-8578-F64093661A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0280" y="264960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il regime di flusso è 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stazionari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er cui è lecito svincolarsi dalla variabile tempo (carico agente sulla coppia cinematica e la velocità sono costanti), il modello proposto da Reynolds, parte dal considerare la condizione di equilibrio di un elementino fluido nel meat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907920" y="4521240"/>
            <a:ext cx="5472360" cy="448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747-6989-45B5-803B-8BC631A6D4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68280" y="2360520"/>
            <a:ext cx="4751640" cy="38991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49360" y="6392880"/>
            <a:ext cx="576108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ono valide le seguenti approssimaz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fluss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i lubrificante nel film è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bidimensional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(caratterizzato, cioè dai flussi q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x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q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z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gli unici gradienti di velocità significativi sono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∂u/∂y, e ∂w/∂y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variazione di pressione attraverso il film è piccola e può essere trascurata, ovvero si può assumere 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∂p/∂y = 0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372-EA1E-4D1F-86B2-83F9FACB8C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rcRect l="0" t="2701" r="2234" b="-538"/>
          <a:stretch/>
        </p:blipFill>
        <p:spPr>
          <a:xfrm>
            <a:off x="404640" y="3008160"/>
            <a:ext cx="5788080" cy="6551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65000" y="23605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definire l’equilibrio di un elementino fluido lungo gli assi x y e z bisogna definire il campo di forz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253-7291-44FB-9C5B-7CD2DE31C9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280" y="2360520"/>
            <a:ext cx="571032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eliminare i danni superficiali che possono derivare dal contatto diretto tra i materiali costituenti l’accoppiamento tribologico, è necessario interporre tra le superfici accoppiate un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lubrificante fluido atto a sopportare elevate deformazioni tangenzial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 funz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ello spessore del film lubrificante che si istaura tra le superfici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el grado di finitura superficial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ella configurazione geometrica delle superfici (organi a debole o elevata curvatura relativa)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distinguono i seguenti meccanismi di lubrificazione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5960" indent="-343080" algn="just">
              <a:lnSpc>
                <a:spcPct val="10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lubrificazione limite (boundary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: il film d’olio tra le superfici in moto relativo è discontinu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5960" indent="-343080" algn="just">
              <a:lnSpc>
                <a:spcPct val="10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lubrificazione fluido­dinamic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: il film d’olio è continuo e di spessore (decine di microns) tale da separare completamente le superfici reali dei membri accoppiati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5960" indent="-343080" algn="just">
              <a:lnSpc>
                <a:spcPct val="10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lubrificazione elastoidrodinamica (EHD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: il film d’olio è continuo ma ultrasottile (centesimi di microns)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BB9-2BE0-45EE-8F7B-49193A1B78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5000" y="23605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mponendo l’equilibrio, 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907920" y="2865600"/>
                <a:ext cx="5616720" cy="21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dydz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ydz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d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dxdz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dxdy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d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d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765000" y="53848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844640" y="5240160"/>
                <a:ext cx="4608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765000" y="6105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ssunto che l’olio sia un fluido viscoso newtoniano, valgono le equazione reologich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989000" y="6897600"/>
                <a:ext cx="24368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;    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836640" y="76899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stituendo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484280" y="8121600"/>
                <a:ext cx="4105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CBB-57FE-486E-AB92-4ADFCE3654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5000" y="32972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tegrando la prima e la terza equazione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6640" y="524016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ove le costanti di integrazione si possono determinare imponendo le seguenti condizioni al contorn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6640" y="71136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er cui risult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413000" y="2432160"/>
                <a:ext cx="4105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060640" y="3657600"/>
                <a:ext cx="252072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y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716120" y="6248520"/>
                <a:ext cx="3209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⇔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484280" y="7545240"/>
                <a:ext cx="42483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eqAr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{</m:t>
                            </m:r>
                            <m:r>
                              <m:t xml:space="preserve">C</m:t>
                            </m:r>
                          </m:e>
                        </m:eqAr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803-328A-4597-A9FA-5D3EED7D73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2280" y="23605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stituendo i valori trovati delle costanti C nelle espress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2280" y="36576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ottengono le seguenti leggi di variazione delle componenti di velocità u e w in funzione dell’altezza del meato, entrambe funzioni parabolica della sola variabile y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6640" y="63928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oti gli andamenti di velocità, risulta agevole il calcolo dei flussi lungo x e z: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3500280" y="2144880"/>
                <a:ext cx="252108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y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341360" y="4881600"/>
                <a:ext cx="432108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y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y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844640" y="7113600"/>
                <a:ext cx="2808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y</m:t>
                        </m:r>
                      </m:e>
                    </m:nary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w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836640" y="7761240"/>
            <a:ext cx="55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stituendo e sviluppando gli integrali,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4253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125360" y="8193240"/>
                <a:ext cx="4751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μ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;       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μ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836640" y="8985240"/>
            <a:ext cx="412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vendo posto U=U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+U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9B7-5735-4294-8D59-23A292A518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92280" y="315288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mponendo l'equazione di bilancio del flusso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4253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125360" y="2432160"/>
                <a:ext cx="475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μ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;       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μ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292640" y="3152880"/>
                <a:ext cx="1512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836640" y="4160880"/>
                <a:ext cx="3384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4605480" y="3944880"/>
            <a:ext cx="225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Equazione di Reynolds stazionaria bidimensional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65000" y="55292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Equazioni di Reynolds monodimensional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836640" y="6176880"/>
                <a:ext cx="2044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836640" y="7689960"/>
                <a:ext cx="20685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3213000" y="59612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ppia cinematica ad allungamento infinito: si trascura il gradiente assiale di pression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13000" y="7400880"/>
            <a:ext cx="33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ppia cinematica “corta”: si trascura il gradiente circonferenziale  di pressione rispetto a quello assial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291-B334-4D72-B8BF-B1F0E419EF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92280" y="2360520"/>
            <a:ext cx="5329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Resistenza d'attri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appresenta la forza tangenziale che agisce sulle superfici della coppia cinematica, indotta dalla sollecitazione di taglio nel film d’oli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ll'ipotesi di fluido newtoniano, si dimostra che dette sollecitazioni risultano date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1125360" y="4232160"/>
                <a:ext cx="47516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;    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y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;    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y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1197000" y="5495760"/>
            <a:ext cx="4824360" cy="39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4E2-0626-4C22-BAE8-0F4420B025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2280" y="2720880"/>
            <a:ext cx="554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principali coppie lubrificate a debole curvatura relativa sono rappresentate dai “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uscinetti di spint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” e dai “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uscinetti portanti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” (coppia rotoidale lubrificata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progetto tribologico di tali componenti consiste nel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dimensionamento geometric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nella scelta dei materiali idonei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nella selezione del lubrificante (selezione della viscosità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La verifica del progetto è affidata al calcolo dello spessore minimo del film nel meat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al fine di accertare il realizzarsi della condizione  che garantisce la formazione di un film d’olio che separa completamente le superfici in moto relativ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57360" y="2216160"/>
            <a:ext cx="36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Coppie cinematiche lubrifica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708280" y="7473960"/>
                <a:ext cx="1368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765000" y="8265960"/>
            <a:ext cx="55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metodologie con le quali si conduce sia il progetto che la successiva verifica, rappresentano tematiche proprie del corso di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ribologi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C7D-5301-483D-9B07-588D8DCA46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280" y="2720880"/>
            <a:ext cx="5545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no destinati a sopportare un carico assiale N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generale sono costituiti da una serie di pattini disposti circonferenzialmente  sulla superficie fissa (statore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276640" y="228924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I perni di spint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rcRect l="0" t="0" r="3933" b="51276"/>
          <a:stretch/>
        </p:blipFill>
        <p:spPr>
          <a:xfrm>
            <a:off x="0" y="3944880"/>
            <a:ext cx="6850080" cy="22924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rcRect l="0" t="45314" r="0" b="2981"/>
          <a:stretch/>
        </p:blipFill>
        <p:spPr>
          <a:xfrm>
            <a:off x="0" y="6681960"/>
            <a:ext cx="6886440" cy="23526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104840" y="6124680"/>
            <a:ext cx="45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Pattini ad inclinazione fiss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68280" y="9201240"/>
            <a:ext cx="45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Pattini ad inclinazione variabil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8A5-CB7C-432F-97BD-658EB010AD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rcRect l="0" t="0" r="62939" b="51276"/>
          <a:stretch/>
        </p:blipFill>
        <p:spPr>
          <a:xfrm>
            <a:off x="333360" y="2360520"/>
            <a:ext cx="2951280" cy="25606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284640" y="2576520"/>
            <a:ext cx="273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 pattini ad inclinazione fissa, sono sagomati direttamente sulla superficie fissa con geometria tale da  realizzare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un condotto convergente nella direzione del mot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0120" y="4829040"/>
            <a:ext cx="54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Possono sopportare carichi piuttosto mode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3"/>
          <a:srcRect l="0" t="45314" r="60972" b="2981"/>
          <a:stretch/>
        </p:blipFill>
        <p:spPr>
          <a:xfrm>
            <a:off x="404640" y="5240160"/>
            <a:ext cx="3095640" cy="27100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500280" y="567360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i cuscinetti di spinta a pattini oscillanti (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cuscinetti Michell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), i pattini sono fulcrati e sono interposti tra la superficie fissa dello statore (statore) e quella mobile (rotore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2280" y="7905600"/>
            <a:ext cx="556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 pattini assumono, durante il funzionamento,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automaticamente una certa inclinazion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in funzione delle condizioni operative (carico, velocità, viscosità dell’olio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2280" y="9201240"/>
            <a:ext cx="54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Possono sopportare carichi molto eleva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CDA-EEBB-44D5-B86B-448B266DF8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92280" y="2360520"/>
            <a:ext cx="54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uscinetti portan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92280" y="2865600"/>
            <a:ext cx="5564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coppia rotoidale lubrificata o cuscinetto portante, destinata a sopportare un carico W in direzione radiale, è costituita dal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perno rotante in un cilindro cavo detta anche boccol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meato che contiene il lubrificante, quindi, è compreso tra due cilindri con assi parallel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boccola, per questioni di montaggio, è spesso realizzata in due semigusci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59" name="perno" descr=""/>
          <p:cNvPicPr/>
          <p:nvPr/>
        </p:nvPicPr>
        <p:blipFill>
          <a:blip r:embed="rId2"/>
          <a:srcRect l="0" t="-1653" r="0" b="1662"/>
          <a:stretch/>
        </p:blipFill>
        <p:spPr>
          <a:xfrm>
            <a:off x="404640" y="5313240"/>
            <a:ext cx="2953080" cy="2517840"/>
          </a:xfrm>
          <a:prstGeom prst="rect">
            <a:avLst/>
          </a:prstGeom>
          <a:ln w="0">
            <a:noFill/>
          </a:ln>
        </p:spPr>
      </p:pic>
      <p:pic>
        <p:nvPicPr>
          <p:cNvPr id="560" name="perno" descr=""/>
          <p:cNvPicPr/>
          <p:nvPr/>
        </p:nvPicPr>
        <p:blipFill>
          <a:blip r:embed="rId3"/>
          <a:srcRect l="0" t="0" r="0" b="6039"/>
          <a:stretch/>
        </p:blipFill>
        <p:spPr>
          <a:xfrm>
            <a:off x="3618000" y="5384880"/>
            <a:ext cx="3240000" cy="22446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4" name=""/>
          <p:cNvSpPr/>
          <p:nvPr/>
        </p:nvSpPr>
        <p:spPr>
          <a:xfrm>
            <a:off x="620640" y="79772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ra perno e cuscinetto esiste un gioco radiale c=(R-r) per consentire la rotazione relativa, essendo R il raggio del cuscinetto ed r quello del pern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14A-10AC-44A0-AF8A-FD2FAA3A2F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92280" y="2144880"/>
            <a:ext cx="54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Cuscinetti portanti: calcolo della pressione idrodinamic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3" name="" descr=""/>
          <p:cNvPicPr/>
          <p:nvPr/>
        </p:nvPicPr>
        <p:blipFill>
          <a:blip r:embed="rId2"/>
          <a:srcRect l="0" t="-3113" r="0" b="0"/>
          <a:stretch/>
        </p:blipFill>
        <p:spPr>
          <a:xfrm>
            <a:off x="549360" y="3224160"/>
            <a:ext cx="3240000" cy="31654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860640" y="2865600"/>
            <a:ext cx="266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pressione idrodinamica nasce per effetto del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dotto convergent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che si determina tra i due membri della coppia cinematica.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perno viene a lavorare eccentrico rispetto al cuscinetto: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per effetto del carico i due membri non sono coassiali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3"/>
          <a:srcRect l="2546" t="3157" r="0" b="0"/>
          <a:stretch/>
        </p:blipFill>
        <p:spPr>
          <a:xfrm>
            <a:off x="1628640" y="6537240"/>
            <a:ext cx="3961080" cy="31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BD8-CDBD-465A-BB66-91C07FA579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5000" y="2576520"/>
            <a:ext cx="5421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Un indice del tipo di lubrificazione realizzato in un sistema lubrificato è fornito dal rapporto “S” tra il minimo valore dello spessore del film lubrificante h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min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 la rugosità superficiale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708280" y="3830760"/>
                <a:ext cx="10461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836640" y="4737240"/>
            <a:ext cx="5419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ricorda che la misura del grado di finitura superficiale, che dipende dal tipo di lavorazione, è fornito dalla rugosità media aritmetica “R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” espressa in microns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uperfici tornite o fresate hanno valori di R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compresi tra 0,8 e 3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m; superfici rettificate hanno valori di R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compresi tra 0,2 e 1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m; superfici lappate o lucidate hanno valori di R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compresi tra 0,01 e 0,075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m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6640" y="7329600"/>
            <a:ext cx="542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Valori di S&gt;5 garantiscono la formazione di un film continuo (lubrificazione fluidodimanica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rappresenta la soluzione più spinta in termini di contenimento della dissipazione di energi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88F-5F6A-4401-A059-E2699478DD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3" name="" descr=""/>
          <p:cNvPicPr/>
          <p:nvPr/>
        </p:nvPicPr>
        <p:blipFill>
          <a:blip r:embed="rId2"/>
          <a:srcRect l="2546" t="3157" r="0" b="0"/>
          <a:stretch/>
        </p:blipFill>
        <p:spPr>
          <a:xfrm>
            <a:off x="260280" y="3152880"/>
            <a:ext cx="2664000" cy="21240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rcRect l="4536" t="0" r="0" b="0"/>
          <a:stretch/>
        </p:blipFill>
        <p:spPr>
          <a:xfrm>
            <a:off x="2924280" y="2505240"/>
            <a:ext cx="3600360" cy="31143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3141720" y="2073240"/>
            <a:ext cx="32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Sezione trasversale nella mezzeria del cuscinet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20640" y="5600880"/>
            <a:ext cx="563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determinare la distribuzione di pressione nel meato bisogna integrare l’equazione di Reynods. Ciò presuppone la conoscenza della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legge di variazione dell’altezza h(</a:t>
            </a:r>
            <a:r>
              <a:rPr b="1" lang="it-IT" sz="1800" spc="-1" strike="noStrike">
                <a:solidFill>
                  <a:srgbClr val="800080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) del meato d’olio nel condot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65000" y="7113600"/>
                <a:ext cx="52056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  <m:r>
                              <m:t xml:space="preserve">'</m:t>
                            </m:r>
                          </m:e>
                        </m:bar>
                        <m:r>
                          <m:t xml:space="preserve">≃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O</m:t>
                            </m:r>
                            <m:r>
                              <m:t xml:space="preserve">'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O</m:t>
                            </m:r>
                            <m:r>
                              <m:t xml:space="preserve">'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620640" y="8193240"/>
            <a:ext cx="563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ssendo n=e/c il cosiddetto rapporto di eccentricità (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n=0 quando il perno è coassiale con il cuscinetto;  n=1 in condizione di contatto tra perno e cuscinet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A60-27FE-4115-88AB-C06D6F6D40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7" name="" descr=""/>
          <p:cNvPicPr/>
          <p:nvPr/>
        </p:nvPicPr>
        <p:blipFill>
          <a:blip r:embed="rId2"/>
          <a:srcRect l="2546" t="3157" r="0" b="0"/>
          <a:stretch/>
        </p:blipFill>
        <p:spPr>
          <a:xfrm>
            <a:off x="476280" y="2432160"/>
            <a:ext cx="3889440" cy="310176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20640" y="5384880"/>
            <a:ext cx="563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er i cuscinetti portanti di dimensioni finite, la distribuzione di pressione si calcola integrando numericamente l’equazione bidimensionale di Reynold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4365720" y="3297240"/>
                <a:ext cx="2087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981000" y="6608880"/>
                <a:ext cx="33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4654440" y="67532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80"/>
                </a:solidFill>
                <a:latin typeface="Arial"/>
              </a:rPr>
              <a:t>con x=r</a:t>
            </a:r>
            <a:r>
              <a:rPr b="1" lang="it-IT" sz="1800" spc="-1" strike="noStrike">
                <a:solidFill>
                  <a:srgbClr val="80008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92280" y="7473960"/>
            <a:ext cx="563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molte applicazioni si impiegano cuscinetti con un rapporto B/D&lt;5; in tali casi è lecito trascurare il gradiente di pressione circonferenziale rispetto a quello assiale “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uscinetto cort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05F-20A0-4B2B-AFFC-873139E1C9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0" name="" descr=""/>
          <p:cNvPicPr/>
          <p:nvPr/>
        </p:nvPicPr>
        <p:blipFill>
          <a:blip r:embed="rId2"/>
          <a:srcRect l="2546" t="3157" r="0" b="0"/>
          <a:stretch/>
        </p:blipFill>
        <p:spPr>
          <a:xfrm>
            <a:off x="476280" y="2432160"/>
            <a:ext cx="3889440" cy="31017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620640" y="5529240"/>
            <a:ext cx="56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’equazione bidimensionale di Reynold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4221000" y="3433680"/>
                <a:ext cx="2087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1413000" y="5987880"/>
                <a:ext cx="3600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θ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5" name=""/>
          <p:cNvSpPr/>
          <p:nvPr/>
        </p:nvSpPr>
        <p:spPr>
          <a:xfrm>
            <a:off x="620640" y="6824520"/>
            <a:ext cx="563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onsiderando il flusso come isoviscoso ed il parallelismo tra asse del perno e quello del cuscinetto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 indipendente dalla variabile z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), assume la forma monodimensional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1197000" y="8121600"/>
                <a:ext cx="43927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θ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μU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t xml:space="preserve">d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1D0-6804-4BE6-844A-B492CE19DC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4510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4" name="" descr=""/>
          <p:cNvPicPr/>
          <p:nvPr/>
        </p:nvPicPr>
        <p:blipFill>
          <a:blip r:embed="rId2"/>
          <a:srcRect l="2546" t="3157" r="0" b="0"/>
          <a:stretch/>
        </p:blipFill>
        <p:spPr>
          <a:xfrm>
            <a:off x="476280" y="2360520"/>
            <a:ext cx="3673440" cy="29289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4221000" y="2792520"/>
                <a:ext cx="2087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4365720" y="4232160"/>
                <a:ext cx="16570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μU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t xml:space="preserve">d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133720" y="6465960"/>
                <a:ext cx="287964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μ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μ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9" name=""/>
          <p:cNvSpPr/>
          <p:nvPr/>
        </p:nvSpPr>
        <p:spPr>
          <a:xfrm>
            <a:off x="620640" y="5313240"/>
            <a:ext cx="56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ale equazione può essere integrata analiticam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16120" y="605304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tegrando due volte 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92280" y="7977240"/>
            <a:ext cx="54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due costanti di integrazione si calcolano imponendo le seguenti condizioni al contorn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=0 per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1773360" y="8624880"/>
                <a:ext cx="934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7BE-E9AD-479F-83FE-D27F9FB8E1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9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133720" y="2293920"/>
                <a:ext cx="309564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μ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μ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484280" y="4305240"/>
                <a:ext cx="439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          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μU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t xml:space="preserve">dθ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3141720" y="5313240"/>
                <a:ext cx="2952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μU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t xml:space="preserve">dθ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z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>
            <a:off x="692280" y="27208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92280" y="3873600"/>
            <a:ext cx="54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ttraendo membro a membro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92280" y="53848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stituendo i valori nell’equaz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65000" y="73296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708280" y="6392880"/>
                <a:ext cx="3384720" cy="22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μ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μ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μ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μ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μ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E47-08EB-438B-AC94-6962D585CA3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4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1989000" y="2360520"/>
                <a:ext cx="2665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μU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t xml:space="preserve">d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2276640" y="3224160"/>
                <a:ext cx="4321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t xml:space="preserve">d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189000" y="3368520"/>
            <a:ext cx="21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icordando ch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00280" y="4016520"/>
                <a:ext cx="345744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μU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μ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620640" y="4592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20640" y="574524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lla sezione di mezzeria l’andamento qualitativo della pressione è del tip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1484280" y="6453360"/>
            <a:ext cx="3960720" cy="345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C27-3290-438B-8FC0-D2D416DC7B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8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125360" y="2216160"/>
            <a:ext cx="46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Determinazione della capacità di ca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2280" y="2720880"/>
            <a:ext cx="556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capacità di carico del cuscinetto si determina imponendo le condizioni di equilibrio del perno, la cui posizione nel cuscinetto (V. figura) è definita attraverso l’eccentricità “e” e l’angolo di assetto (o angolo di attitudine) “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” formato dalla retta dei centri con la retta di azione del caric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equazioni di equilibrio son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4536" t="2766" r="0" b="0"/>
          <a:stretch/>
        </p:blipFill>
        <p:spPr>
          <a:xfrm>
            <a:off x="1484280" y="4737240"/>
            <a:ext cx="3960720" cy="333216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0" y="4586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1125360" y="8093160"/>
                <a:ext cx="4535640" cy="12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θ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</m:e>
                                </m:d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dθ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θ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</m:e>
                                </m:d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dθ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ADE-0F3E-4706-9B7A-B23BB1EEDA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0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4586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1413000" y="2505240"/>
                <a:ext cx="41036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θ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</m:e>
                                </m:d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dθ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θ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</m:e>
                                </m:d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dθ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3" name=""/>
          <p:cNvSpPr/>
          <p:nvPr/>
        </p:nvSpPr>
        <p:spPr>
          <a:xfrm>
            <a:off x="0" y="4405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836640" y="6105600"/>
                <a:ext cx="52563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μU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</m:t>
                                        </m:r>
                                        <m:r>
                                          <m:t xml:space="preserve">θ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dθ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μU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θ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</m:t>
                                        </m:r>
                                        <m:r>
                                          <m:t xml:space="preserve">θ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d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5" name=""/>
          <p:cNvSpPr/>
          <p:nvPr/>
        </p:nvSpPr>
        <p:spPr>
          <a:xfrm>
            <a:off x="600120" y="3747960"/>
            <a:ext cx="5492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 limiti circonferenziali di integrazione sono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0 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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ove la pressione idrodinamica è positiva (ipotesi di Sommerfeld); sostituendo a p(q, z) la funzione trovat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57360" y="4952880"/>
                <a:ext cx="3529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μU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f>
                      <m:nu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620640" y="581652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2280" y="77612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a cui, risolvendo gli integrali si ottie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907920" y="8193240"/>
                <a:ext cx="49914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;      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F99-C229-4E46-9262-83D1D07A67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4586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4405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20640" y="32972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quadrando e sommando e dividendo la seconda relazione per la prima,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20640" y="57452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he definiscono la capacità di carico W e l’angolo di assetto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alla prima relazione scaturisc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20640" y="2432160"/>
                <a:ext cx="5545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;      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692280" y="3971880"/>
                <a:ext cx="568944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8" name=""/>
          <p:cNvSpPr/>
          <p:nvPr/>
        </p:nvSpPr>
        <p:spPr>
          <a:xfrm>
            <a:off x="0" y="4419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1413000" y="6813720"/>
                <a:ext cx="4321080" cy="24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e>
                      <m:e>
                        <m:r>
                          <m:t xml:space="preserve">σ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BCA-6849-43BB-8773-FD102AD2FA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4586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4405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04640" y="2432160"/>
            <a:ext cx="25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vendo definito come “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numero di Sommerfeld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” la quantità adimensionale 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04640" y="43768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alla relazione 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4419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2637000" y="4232160"/>
                <a:ext cx="3887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924280" y="2576520"/>
                <a:ext cx="367344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B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B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D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1268280" y="53132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2637000" y="5097600"/>
                <a:ext cx="31683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7" name="" descr=""/>
          <p:cNvPicPr/>
          <p:nvPr/>
        </p:nvPicPr>
        <p:blipFill>
          <a:blip r:embed="rId2"/>
          <a:srcRect l="1208" t="0" r="0" b="0"/>
          <a:stretch/>
        </p:blipFill>
        <p:spPr>
          <a:xfrm>
            <a:off x="765000" y="6032520"/>
            <a:ext cx="5328000" cy="34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4D4-6114-4957-A37C-9998A48E4B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2280" y="2649600"/>
            <a:ext cx="556416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lubrificazione a strato limite si attu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negli organi di macchine lenti e molto caricati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nei sistemi lubrificati con una limitata erogazione di olio (ad es. attraverso oliatori a goccia e a stoppino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nei sistemi così detti a “a tutta perdita”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lla lubrificazione limite, le superfici dei solidi in moto relativo sono separate da pochi strati monomolecolari di lubrificante che formano una pellicola molto sottile che rimane ancorata a ciascuna superficie grazie ad un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complesso di fenomeni fisico-chimic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quali l'adsorbimento, le proprietà polari della molecola, la tensione superficiale ecc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pellicola non impedisce la completa separazione superfici reali che, in molti punti, vengono in contatto diretto, con conseguenti fenomeni d'usura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'olio ha la funzione principale di ridurre le dimensioni delle microgiunzioni riducendo l'attrito e la velocità d'usura delle superfic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Il coefficiente di attrito si mantiene nell’intorno del valore 0,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4840" y="223668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Lubrificazione in regime limite (Boundary)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881-40D6-4E7B-9001-046D9446BE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3" name=""/>
          <p:cNvSpPr/>
          <p:nvPr/>
        </p:nvSpPr>
        <p:spPr>
          <a:xfrm>
            <a:off x="0" y="4586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4405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4419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67160" y="5599080"/>
                <a:ext cx="13842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UB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979" name="" descr=""/>
          <p:cNvPicPr/>
          <p:nvPr/>
        </p:nvPicPr>
        <p:blipFill>
          <a:blip r:embed="rId2"/>
          <a:srcRect l="1208" t="4725" r="0" b="0"/>
          <a:stretch/>
        </p:blipFill>
        <p:spPr>
          <a:xfrm>
            <a:off x="549360" y="2936880"/>
            <a:ext cx="5543640" cy="341460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>
            <a:off x="673200" y="6772320"/>
            <a:ext cx="549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oto il valore assunto dal numero di Sommerfeld σ, che raccoglie tutti i parametri di progetto della coppia rotoidale, è possibile determinare, il rapporto di eccentricità n e, quindi, calcolare lo spessore minimo del film d'oli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2492280" y="8553600"/>
                <a:ext cx="172872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874-8B4D-453A-8433-7EB619C07AD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4243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4743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4519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4700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0"/>
            <a:ext cx="211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0"/>
            <a:ext cx="23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0" y="0"/>
          <a:ext cx="4484520" cy="517680"/>
        </p:xfrm>
        <a:graphic>
          <a:graphicData uri="http://schemas.openxmlformats.org/drawingml/2006/table">
            <a:tbl>
              <a:tblPr/>
              <a:tblGrid>
                <a:gridCol w="2114640"/>
                <a:gridCol w="236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6" name=""/>
          <p:cNvSpPr/>
          <p:nvPr/>
        </p:nvSpPr>
        <p:spPr>
          <a:xfrm>
            <a:off x="0" y="4586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4405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4419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65000" y="2432160"/>
            <a:ext cx="549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può, così, procedere alla verifica del progetto ovvero accertare la sussistenza di un film d’olio continuo che separi il perno dal cuscinetto, nota la rugosità media delle superfici della coppia cinematic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052720" y="57261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2565360" y="3800520"/>
                <a:ext cx="1297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"/>
          <p:cNvSpPr/>
          <p:nvPr/>
        </p:nvSpPr>
        <p:spPr>
          <a:xfrm>
            <a:off x="836640" y="4592520"/>
            <a:ext cx="54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rima di concludere si fa notare che il valore del numero di Sommerfeld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va calcolato alla temperatura di regime che non è nota a prior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36640" y="6465960"/>
            <a:ext cx="549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fatti la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emperatura influenza in maniera significativa la viscosità dell’oli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calcolo della temperatura a regime è funzione della potenza dissipata che a sua volta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dipende dalla viscosità dell’oli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È necessario, quindi, procedere mediante  metodi iterativi che esulano dai limiti del presente corso e sono oggetto di trattazione del corso di Tribologi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471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276640" y="5600880"/>
                <a:ext cx="2016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UB</m:t>
                        </m:r>
                      </m:num>
                      <m:den>
                        <m:r>
                          <m:t xml:space="preserve">πW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D81-AD3D-4516-8C24-8BC59A265F9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2280" y="2505240"/>
            <a:ext cx="556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lla lubrificazione limite le caratteristiche dell'attrito e dell'usura sono principalmente determinate dalle proprietà fisico-chimiche del lubrifica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scosità del lubrificant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che in genere deve essere maggiore quanto maggiore è il carico e minore la velocità relativa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n rappresenta l'elemento di maggiore peso nella scelta del lubrificante stess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in quanto la riduzione dell'attrito e dell'usura dipendono soprattutto dal così detto “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otere lubrificant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” ovvero dalla capacità dell'olio a formare un velo altamente aderente alle superfici metalliche, senza che venga lacerato dalle sollecitazioni meccaniche e termiche, durante il funzionamento della coppia cinematica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81000" y="6969240"/>
            <a:ext cx="5048280" cy="199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855-74FF-4C26-B408-CA93ACC04F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2280" y="2289240"/>
            <a:ext cx="5564160" cy="65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Gli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oli minerali bas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sono costituiti da molecole non polar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vengono debolmente adsorbite dalle superfici metalliche e possono lavorare a modeste temperature di esercizio (25-30 °C). Pertanto,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nelle normali applicazioni, si sconsiglia il loro impieg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potere lubrificante  aumenta sensibilmente con l'aggiunta  di  opportuni additivi qual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miglioratori dell'untuosità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(alcoli, esteri e acidi grassi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gli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ntiusura o mild E.P.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reagiscono con le pareti metalliche dando luogo a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sali metallic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possiedono un buon potere lubrificante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gli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dditivi per estreme pressioni (E.P.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, tra l’altro, hanno la funzione di elevare la soglia di temperatura alla quale si ha la lacerazione del film lubrificante (temperatura di  transizione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ali additivi sono costituiti da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sostanze a base di fosforo, zolfo e clor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, per effetto del calore generato per attrito, reagiscono con il metallo formando composti capaci di ridurre l'attrito e l'usura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586-83D6-466D-8B3F-2651287161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0640" y="2576520"/>
            <a:ext cx="5761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lubrificazione fluidodinamica (idrodinamica per fluidi incomprimibili) “HD lubrication”, è caratterizzata dall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resenza di una pellicola continua di lubrificante che separa le superfici dei solidi in moto relativ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separazione delle superfici è ottenuta per il fatto che l’olio tra di loro interposto si porta, durante il moto relativo, ad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una pressione superiore a quella ambient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er effetto dello stato di tensione che, in conseguenza della viscosità del lubrificante, si produce nel film lubrificante per effetto della velocità di scorrimento dei filetti fluidi. L'azione di trascinamento è dovuta, pertanto, all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esistenza di forze viscose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ra i filetti fluidi che costituiscono il film fluido, detto meat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viscosità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del fluido ha, in tale meccanismo di lubrificazione,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un ruolo determinant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aversi lubrificazione idrodinamica è necessario che si formi un film d’olio con spessore notevolmente superiore alla rugosità media delle superfici accoppiate. Fintantoché il film è continuo, non si manifestano fenomeni d'usura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'unica forma d'attrito è dovuto agli effetti viscosi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5360" y="214488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ubrificazione in regime fluidodinamic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D9F-C8E2-4A8D-8E8A-4A7253886E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0640" y="2432160"/>
            <a:ext cx="57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consideri la coppia cinematica di figura costituita da due elementi a superfici piane e parallele, tra loro in moto relativo lubrificate con un olio con caratteristiche reologiche tali da poterlo ritenere un fluido newtoniano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0640" y="6465960"/>
            <a:ext cx="57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condizioni di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to laminare e nell’ipotesi che l’olio aderisca alle pareti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la velocità varia linearmente, in ogni sezione retta avente traccia AB, da zero ad U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dicando con B la dimensione di nella direzione normale al piano x-y l'equazione di continuità può scriversi come: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052640" y="3873600"/>
            <a:ext cx="4895640" cy="2463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41360" y="8553600"/>
                <a:ext cx="41036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u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tan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DF6-3A60-4121-9922-4440D706DE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672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9720" y="257652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5000" y="2792520"/>
            <a:ext cx="5472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 deriva che la pressione nel meato coincide con quella che regna all'esterno della coppia (pressione di alimentazione) e, quindi, non può essere sopporta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cun carico estern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È quanto avviene, ad esempio, in una coppia rotoidale lubrificata quando perno e cuscinetto sono coassiali ed il meato compreso nel gioco radiale c=R-r risulta circonferenzialmente costante (V. figura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695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0" t="6406" r="0" b="0"/>
          <a:stretch/>
        </p:blipFill>
        <p:spPr>
          <a:xfrm>
            <a:off x="765000" y="5816520"/>
            <a:ext cx="5543640" cy="250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7C6-1703-413B-BE51-C9873BE947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9:39:13Z</dcterms:created>
  <dc:creator>user</dc:creator>
  <dc:description/>
  <dc:language>en-US</dc:language>
  <cp:lastModifiedBy>user</cp:lastModifiedBy>
  <dcterms:modified xsi:type="dcterms:W3CDTF">2011-10-16T11:05:30Z</dcterms:modified>
  <cp:revision>324</cp:revision>
  <dc:subject/>
  <dc:title>Diapositiva 1</dc:title>
</cp:coreProperties>
</file>