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141-3EFD-4EAC-8A8E-552E875C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FB9-3596-4ED8-90E5-6FFD9F7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0CE-87DA-4A7E-A03E-29FEDFC3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4C2-A413-4258-B53E-6F9D924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A8E1-4290-445E-9797-97B1016F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1843-487F-4577-BE92-366F5F8D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D16-F280-4873-B519-04E1C69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D39B-A3B0-406E-BE69-FCAA982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3B6A-688A-4C24-8AF2-70B5771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8F6D-E4C4-4DBF-AEA7-6034BDFF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2374-2BCA-4ED6-B70F-B7BD767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DE0-B04E-441E-9D76-66FE2F60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CEA0-08C4-4BF0-B0FE-8008A45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1CFD-25E8-4EF3-AC0B-1A9AE4C6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4568-D8F2-4248-8821-E6D1F3BF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FAA0-FD30-478B-9DE5-5EBC1D5B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FC33-3E95-4092-8572-36443C8B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FD4-555C-4AC0-B8E9-77202F75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E5A-B723-4428-8E99-186DA370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A05-3091-4DC2-9562-8436161B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3DC-4882-45FA-8ED8-4F191414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0D8-65A9-4CF4-96BB-75E2C9A5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607-65CA-40BE-AF77-710B1B1A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E45-4D7A-4A4E-9D87-BAC59F2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e9f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7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03F-7771-4CBD-BA8A-EC4E41E2371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FDB7-0F6C-4DFC-BBD7-A58DD99411F0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e9f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f7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it.wikipedia.org/wiki/Coulomb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81000" y="2144880"/>
            <a:ext cx="50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6280" y="2649600"/>
            <a:ext cx="590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9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lassificazione delle forz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7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spetto alla sorgente: si distinguono in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tern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ed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ester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orze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ter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sono quelle mutue agenti fra i diversi componenti di un sistema meccanico. Nei corpi rigidi le forze interne si elidono a due a due e, quindi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anno risultante null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orze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ester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sono quelle che agiscono sul corpo avendo origine da sistemi esterni ad esso: si distinguono in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tive e vincolar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spetto alla durata e alla variabilità: si differenziano in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stantane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ontinu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orze istantanee (dette anche forze impulsive), agiscono per tempo limitato e tale da generare un impuls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orze continue possono essere costanti o funzione del tempo (significative sono le azioni che variano con legge periodica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spetto agli effetti: si classificano in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motrici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resistent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na forza è motrice, per convenzione, compie lavoro positiv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na forza resistente compie lavoro negativ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6120" y="22068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ampi di forz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8D6-AE68-473C-B31C-F2D1D004BE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083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280" y="2432160"/>
            <a:ext cx="563724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Attrito radente “dry fiction”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attua tra le superfici di organi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tatto diret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cioè senza l'interposizione fra i membri accoppiati di un terzo elemento fisic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appresenta la forza resistente F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he si oppone al moto dei corpi stessi, o che impedisce lo strisciamento relativo tra due organi solidi a contat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Questa forza agisce in direzione parallela alla superficie di contatto (figura-a) o nel piano tangente alle superfici stesse (figura b) per accoppiamenti a forte curvatura relativa, ed è diretta in verso contrario al risultante di forze che tende a produrre o produce il moto relativ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0" t="9125" r="0" b="0"/>
          <a:stretch/>
        </p:blipFill>
        <p:spPr>
          <a:xfrm>
            <a:off x="0" y="6897600"/>
            <a:ext cx="6858000" cy="18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FD7-840E-4018-B23F-D0C1C3183D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083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360" y="2432160"/>
            <a:ext cx="570852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li studi sull'attrito si devono in gran parte al fisico francese C.A.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Coulomb</a:t>
            </a:r>
            <a:r>
              <a:rPr b="0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 che nel 1781 formulò il suo modello di attrito secco, proponendo la relazione tra il carico normale N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za di chiusur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) e la forza di attrito F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fattore di proporzionalità f, dett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efficiente d'attri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ha il significato geometrico di tangente dell'angol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formato tra la direzione della risultante R e la direzione normale al piano di contat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800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73360" y="3800520"/>
                <a:ext cx="1152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060640" y="8913960"/>
                <a:ext cx="25923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tg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33360" y="5816520"/>
            <a:ext cx="6181920" cy="29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D41-699D-476E-B74A-A0C387D0F6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083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800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360" y="5694480"/>
            <a:ext cx="57801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La forza d'attrito può esplicarsi secondo una qualsiasi direzione contenuta nel piano tangente alle superfici di contatto, in relazione alla direzione della forza tangenziale T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Ne consegue che la reazione vincolare R della superficie scabra, risultante delle forze F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ed R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reazione normale), può ruotare intorno alla direzione della R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stessa, descrivendo una superficie conica (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o d'attrit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) il cui angolo di semiapertura è proprio pari a </a:t>
            </a:r>
            <a:r>
              <a:rPr b="1" lang="it-IT" sz="20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80" y="2289240"/>
            <a:ext cx="6121440" cy="325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083-2893-4B88-8884-8DBB29E296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083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800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0" t="0" r="0" b="-4099"/>
          <a:stretch/>
        </p:blipFill>
        <p:spPr>
          <a:xfrm>
            <a:off x="404640" y="2432160"/>
            <a:ext cx="5904000" cy="3073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2280" y="5600880"/>
            <a:ext cx="563724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Per effetto della forza T, la distribuzione dello sforzo normale varia lungo la superficie di contatto con andamento crescente nel verso della T stessa (V. figura)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eazione normale R</a:t>
            </a:r>
            <a:r>
              <a:rPr b="1" lang="it-IT" sz="20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agisce perciò su una retta parallela a quella dalla direzione della forza N, spostata verso la destra di una quantità “d” che dipende dalla posizione assunta dal baricentro del diagramma di caric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8A1-00D1-4EE6-A9F5-FB80763D9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83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800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51501" t="0" r="0" b="13354"/>
          <a:stretch/>
        </p:blipFill>
        <p:spPr>
          <a:xfrm>
            <a:off x="404640" y="2360520"/>
            <a:ext cx="3008520" cy="2687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0280" y="2289240"/>
            <a:ext cx="28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valore di d, è definito dalla condizione di equilibrio alla rotazione rispetto al punto O, dovendosi bilanciare l’effetto di ribaltamento indotto dalla forza tangenziale T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365720" y="4665600"/>
                <a:ext cx="1439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620640" y="5024520"/>
            <a:ext cx="570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osservi che, all’aumentare di h, mantenendo fissi i valori di N e T, si verifica il ribaltamento del corpo se risul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808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708280" y="5961240"/>
                <a:ext cx="100800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692280" y="62485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isulta, infatt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484280" y="6608880"/>
                <a:ext cx="4665600" cy="27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RIBALTAMENTO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h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NO    </m:t>
                        </m:r>
                        <m:r>
                          <m:rPr>
                            <m:lit/>
                            <m:nor/>
                          </m:rPr>
                          <m:t xml:space="preserve">RIBALTA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845-4545-4A16-8178-37603432A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800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5000" y="26496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93048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2280" y="2576520"/>
            <a:ext cx="55450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Quando h è molto piccolo e/o le superfici a contatto hanno modesta rugosità, la forza d’attrito F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può non essere in grado di bilanciare la forza T e, conseguentemente, il corpo tende a strisciare prima di ribaltarsi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Moto relativo si manifesta, altresì, quando la forza tangenziale supera un ben preciso valore di soglia T=T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s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2280" y="5384880"/>
            <a:ext cx="55641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Infatti, partendo dalla posizione di equilibrio statico, se si immagina di applicare una forza tangenziale T crescente, finché tale forza non raggiunge il predetto valore di soglia T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s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non si produce moto relativo tra slitta e pian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413000" y="7400880"/>
            <a:ext cx="4321080" cy="190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2C5-D667-4287-ADF2-E6B033AEA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5000" y="4147200"/>
            <a:ext cx="5472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Una volta che sia stato indotto il moto di strisciamento, per mantenere costante il valore della velocità v (V. figura) è sufficiente applicare una forza T=T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che, in genere, risulta minore del valore T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s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La resistenza al moto F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ac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è dovuta al cosiddetto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attrito cinetic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e val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dove f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è il coefficiente di attrito cinetic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5000" y="26496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5000" y="2576520"/>
            <a:ext cx="55645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All’interfaccia tra i corpi si manifesta quello che viene definit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ttrito static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s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ove f</a:t>
            </a:r>
            <a:r>
              <a:rPr b="1" lang="it-IT" sz="2000" spc="-1" strike="noStrike" baseline="-25000">
                <a:solidFill>
                  <a:srgbClr val="292929"/>
                </a:solidFill>
                <a:latin typeface="Arial"/>
              </a:rPr>
              <a:t>s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è definito coefficiente d’attrito static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133720" y="3297240"/>
                <a:ext cx="251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0" t="0" r="3641" b="5519"/>
          <a:stretch/>
        </p:blipFill>
        <p:spPr>
          <a:xfrm>
            <a:off x="836640" y="7400880"/>
            <a:ext cx="5273640" cy="2281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492280" y="6465960"/>
                <a:ext cx="2089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862-E6F5-4339-9D75-675A11982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2280" y="2336760"/>
            <a:ext cx="585144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quantificazione della forza di attrito definita dalla teoria di Coulomb, che si fonda sul presupposto c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l coefficiente di attrito dipenda solo dalla natura dei materiali accoppiati, può ritenersi valida solo in prima approssimazio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coefficiente di attrito, infatti, non dipende solo dalla natura dei materiali a contatto ma da una serie di fatto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principali so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rugosità superficial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in generale, il coefficiente di attrito f tende ad aumentare all’aumentare della rugosità superficial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durezza dei material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elevati valori di f si determinano qualora i materiali a contatto hanno durezze molto differenti. Le asperità del materiale più duro si comportano, infatti, come microutensili che solcano la superficie del corpo più tenero, abradendol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pressione di contat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aumentano il numero di microsaldature tra le superfici real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velocità di strisciament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al crescere della velocità relativa, il coefficiente di attrito decresc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temperatur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valori minori di f si hanno all’aumentare della temperatu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AE0-62D4-4A83-BD08-AA00E1523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2280" y="2432160"/>
            <a:ext cx="54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condo la teoria della “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adesion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”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'attrito radente è principalmente dovuto alla formazione di microsaldature a fredd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tra le superfici reali dei corpi a contatto (V. figura) e al susseguente taglio” delle stesse per effetto della forza tangenziale T alla quale è affidato il compito di indurre moto relativo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5000" y="761688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’entità delle microsaldature, che si generano per effetto delle deformazioni plastiche tra le asperità superficiali dipende dallo stato della superficie ed in genere delle condizioni operativ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rcRect l="9197" t="3190" r="0" b="0"/>
          <a:stretch/>
        </p:blipFill>
        <p:spPr>
          <a:xfrm>
            <a:off x="981000" y="4448160"/>
            <a:ext cx="489744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0A6-E9DD-497B-85F8-1F2C6FF556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36640" y="2576520"/>
            <a:ext cx="54007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coefficiente di attrito statico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risulta maggiore del corrispondente coefficiente d'attrito cinetico f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per accoppiamenti tra materiali metallici; per accoppiamenti tra materiali polimerici può accadere il contrari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aturalmente la presenza di lubrificante interposto tra le superfici riduce l’attrito in misura più o meno marca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Valori prossimi a 0.1 si hanno in condizioni di lubrificazione limite (boundary lubrication) mentre valori compresi tra 0.01 e 0.001 si attuano in condizioni di lubrificazione fluidodinamica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opportuno mettere in evidenza ch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’attrito gioca un ruolo attivo per il funzionamento di diversi componenti meccanici come i freni, le frizioni, le trasmissioni a cinghia ecc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.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calcoli di prima approssimazione, si può, quindi, fare riferimento a valori medi tabella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06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0C4-5413-496C-B9B3-5FA314B936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7920" y="236052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2280" y="2792520"/>
            <a:ext cx="54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00" y="2597040"/>
            <a:ext cx="46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6640" y="300816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iù in generale le forze si classificano i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000" y="3595680"/>
            <a:ext cx="549288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ze conservativ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 se il lavoro compiuto da essa su una massa per uno spostamento tra due punti è indipendente dalla traiettoria seguit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 la massa sotto l’azione della forza si muove lungo un percorso chiuso, il lavoro è nullo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sempi: forza di gravità; forze elastich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ze non conservativ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 il lavoro, viceversa, è dipendente dalla traiettoria seguit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Le forze non conservative non ammettono un potenzial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sempi: forze di attrito radente e volvente, forze viscose,  forze smorzanti ec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8EC-B470-4FE8-9D36-3C5ED335E2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06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620640" y="2432160"/>
          <a:ext cx="5759640" cy="6394320"/>
        </p:xfrm>
        <a:graphic>
          <a:graphicData uri="http://schemas.openxmlformats.org/drawingml/2006/table">
            <a:tbl>
              <a:tblPr/>
              <a:tblGrid>
                <a:gridCol w="2365560"/>
                <a:gridCol w="1439640"/>
                <a:gridCol w="1954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Materiali a contatto secco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it-IT" sz="1600" spc="-1" strike="noStrike" baseline="-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it-IT" sz="1600" spc="-1" strike="noStrike" baseline="-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Acciaio – Acciai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5 – 0,5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Acciaio – Bronz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Acciaio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18 – 0,2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erro – Ferr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Alluminio – Allumini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80 – 1,20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Alluminio – Acciaio    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7 – 0,55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Bronzo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Bronzo – Acciai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Cromo – Acciai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50 – 0,60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Ghisa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,1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Ottone – Acciai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5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Ottone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Piombo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ame – Acciaio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ame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ame – Rame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Stagno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Zinco – Ghisa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D73-0941-4EE9-92B4-EB51FCFC34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06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36640" y="5673600"/>
            <a:ext cx="5545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effetto dell’attrito che si attua nel punto di contatto P il perno rotante con velocità angolar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ostante, assume un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golo di assett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guale all’angolo di attrito cinetic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’equilibrio tra le forze che agiscono sul perno, infatti, si traduce nelle relazion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14" name="figura 3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3500280" y="2792520"/>
            <a:ext cx="3168720" cy="2474640"/>
          </a:xfrm>
          <a:prstGeom prst="rect">
            <a:avLst/>
          </a:prstGeom>
          <a:ln w="0">
            <a:noFill/>
          </a:ln>
        </p:spPr>
      </p:pic>
      <p:pic>
        <p:nvPicPr>
          <p:cNvPr id="415" name="figura 3" descr=""/>
          <p:cNvPicPr/>
          <p:nvPr/>
        </p:nvPicPr>
        <p:blipFill>
          <a:blip r:embed="rId3"/>
          <a:srcRect l="0" t="0" r="6291" b="0"/>
          <a:stretch/>
        </p:blipFill>
        <p:spPr>
          <a:xfrm>
            <a:off x="493560" y="2432160"/>
            <a:ext cx="2971800" cy="3241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"/>
          <p:cNvSpPr/>
          <p:nvPr/>
        </p:nvSpPr>
        <p:spPr>
          <a:xfrm>
            <a:off x="765000" y="214488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za d’attrito in un cuscinetto a strisciamen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907920" y="7689960"/>
                <a:ext cx="12970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573360" y="7689960"/>
                <a:ext cx="2808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2492280" y="783288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a cu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484280" y="8985240"/>
                <a:ext cx="4176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765000" y="8553600"/>
            <a:ext cx="54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coppia d’attrito radente v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0CD-B0F1-411B-9E4D-53E49E6F1F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06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1069560" y="2360520"/>
            <a:ext cx="48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mento di attrito di imperniamen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5000" y="2792520"/>
            <a:ext cx="5472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appresenta la coppia resistent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 si ha in organi cilindrici rotanti intorno al proprio asse con velocità angolar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che poggiano su di un piano, soggetti ad una forza di chiusura N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125360" y="4016520"/>
            <a:ext cx="4751640" cy="3867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65000" y="7977240"/>
            <a:ext cx="542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uscinetti di spinta (figura a) e cuscinetti a collare (figura b) sono supporti comunemente impiegati nelle macchine e possono lavorare sia in condizioni di contatto secco che in condizioni di lubrificazione limi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C76-A93A-4658-93FD-4D05D68FAB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rcRect l="47743" t="0" r="0" b="0"/>
          <a:stretch/>
        </p:blipFill>
        <p:spPr>
          <a:xfrm>
            <a:off x="260280" y="2505240"/>
            <a:ext cx="2633760" cy="41036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rcRect l="0" t="1600" r="11260" b="-3996"/>
          <a:stretch/>
        </p:blipFill>
        <p:spPr>
          <a:xfrm>
            <a:off x="3098880" y="2216160"/>
            <a:ext cx="3759120" cy="4392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92280" y="6681960"/>
            <a:ext cx="5779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 semplice modello per il calcolo di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si può definir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ssumendo uniforme la distribuzione di pressione sull’area di contat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collare di un perno di spinta, è sottoposto ad una forza di chiusura N che si scarica su una superficie di contatto corrispondente alla corona circolare di raggi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d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358-4AAB-4B83-B46E-93ACAFF320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rcRect l="0" t="1600" r="11260" b="-3996"/>
          <a:stretch/>
        </p:blipFill>
        <p:spPr>
          <a:xfrm>
            <a:off x="0" y="2144880"/>
            <a:ext cx="3759120" cy="4392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429000" y="372888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dicando con dS=rd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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r una porzione infinitesima della superficie del collare, la forza d’attrito elementare, per la citata ipotesi di distribuzione uniforme della pressione, è data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421000" y="6176880"/>
                <a:ext cx="4076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d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620640" y="6969240"/>
            <a:ext cx="5853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momento di imperniamento si ottiene, integrando a tutta la superficie di contatto S il valore della coppia elementare d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rdF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1268280" y="7905600"/>
                <a:ext cx="466092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F</m:t>
                            </m:r>
                            <m:r>
                              <m:t xml:space="preserve">=</m:t>
                            </m:r>
                          </m:e>
                        </m:nary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θ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N</m:t>
                        </m:r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005360" y="2936880"/>
                <a:ext cx="19159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3429000" y="23083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la pressione è uniforme, si h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230-0473-4DD1-A871-0DD8638E19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4365720" y="3728880"/>
                <a:ext cx="21589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N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692280" y="5457960"/>
            <a:ext cx="4105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a tale relazione deriva la formula approssimata che fornisce il valore  di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per il sistema di figura a, ponendo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R e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941720" y="5745240"/>
                <a:ext cx="15829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8" name="" descr=""/>
          <p:cNvPicPr/>
          <p:nvPr/>
        </p:nvPicPr>
        <p:blipFill>
          <a:blip r:embed="rId2"/>
          <a:srcRect l="4940" t="0" r="9880" b="0"/>
          <a:stretch/>
        </p:blipFill>
        <p:spPr>
          <a:xfrm>
            <a:off x="333360" y="2360520"/>
            <a:ext cx="3887640" cy="3065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92280" y="6681960"/>
            <a:ext cx="56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effetti questa relazione risulta valida solo nell’ipotesi che la pressione all’interfaccia si possa ritenere costante su tutta la superficie di contatto. Tale ipotesi è, però, male approssimata quando detta superficie è molto estes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tale motivo, nella pratica, i perni di spinta in condizioni di contatto secco si realizzano facendo ricorso ad una configurazione come quella di figura b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B10-2C9A-4FCE-BE1D-4EAE4B123F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052640" y="2649600"/>
            <a:ext cx="5040360" cy="48672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341360" y="7761240"/>
            <a:ext cx="203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istribuzione di pressione triangola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73360" y="7761240"/>
            <a:ext cx="20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istribuzione di pressione parabol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5F9-A430-4B68-86CD-2D1855F6F6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0640" y="2576520"/>
            <a:ext cx="552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È la resistenza che incontra un corpo cilindrico che rotola su di un altro senza strisciar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li effetti dissipativi prodotti dall'attrito volvente sono in generale molto minori rispetto a quelli dovuti all'attrito raden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l rotolamento è reso possibile dalla presenza di attrito radente statico tra la ruota e il piano.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questo attrito non ci fosse o fosse molto piccolo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ruota striscerebbe senza ruota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97000" y="207324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trito volven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149720" y="7400880"/>
                <a:ext cx="136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20640" y="7905600"/>
            <a:ext cx="561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sendo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s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è il coefficiente di attrito statico tra i materiali costituenti la coppa ruota-pian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l momento supera questo valore, la forza motrice applicata alla ruota supera quella indotta dall'attrito statico massimo e la ruota slitta mentre rotol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149720" y="524016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645000" y="5024520"/>
            <a:ext cx="2520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si applica un momento motor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v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alla ruota di raggio r sulla quale agisce una forza di chiusura N, essa inizia a rotolare senza strisciare finchè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76280" y="5240160"/>
            <a:ext cx="3240000" cy="24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449-AE20-4F6C-9734-12087FA7FD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5000" y="2505240"/>
            <a:ext cx="552960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quantificazione della resistenza di attrito volvente non è agevole dipendendo essa da molteplici fattor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i questi i principali son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natura dei material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geometria del sistema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scabrosità della superficie di appoggio che determina una serie di “urti” che si oppongono al rotolamento dell’elemento volv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primi due fattori possono essere quantificati ricorrendo al modello semplificato di figu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33720" y="596124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i due organi fossero rigidi, essi si toccherebbero lungo un segmento la cui traccia è il punto P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n realtà, per effetto delle forze applicate e dell'elasticità de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rcRect l="0" t="0" r="0" b="1822"/>
          <a:stretch/>
        </p:blipFill>
        <p:spPr>
          <a:xfrm>
            <a:off x="476280" y="5961240"/>
            <a:ext cx="3384360" cy="27208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20640" y="8408880"/>
            <a:ext cx="57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ateriali, la superficie di contatto non è degenere bensì assume, a seguito della deformazione di entrambi gli organi, dimensioni fini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0E6-00D1-4F60-890C-EE4CDF963B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2280" y="2576520"/>
            <a:ext cx="57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Quando il rullo è fermo, la distribuzione di pressione è simmetrica rispetto alla verticale passante per il centro del rullo (figura a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51" name="figura 3-12-a" descr=""/>
          <p:cNvPicPr/>
          <p:nvPr/>
        </p:nvPicPr>
        <p:blipFill>
          <a:blip r:embed="rId2"/>
          <a:srcRect l="0" t="8400" r="0" b="0"/>
          <a:stretch/>
        </p:blipFill>
        <p:spPr>
          <a:xfrm>
            <a:off x="0" y="3657600"/>
            <a:ext cx="3429000" cy="27018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5" name="" descr=""/>
          <p:cNvPicPr/>
          <p:nvPr/>
        </p:nvPicPr>
        <p:blipFill>
          <a:blip r:embed="rId3"/>
          <a:srcRect l="0" t="0" r="6583" b="2370"/>
          <a:stretch/>
        </p:blipFill>
        <p:spPr>
          <a:xfrm>
            <a:off x="3500280" y="3440160"/>
            <a:ext cx="3338640" cy="27763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73200" y="6269040"/>
            <a:ext cx="570852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 il rullo rotola sul piano nel senso indicato in figura b, i punti della superficie del cilindro e del piano, a causa di forze di attrito interno si determinano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orze di reazione elastica maggiori in fase di deformazione crescente (menisco di destra) e minori in fase di deformazione decrescente (menisco di sinistra)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iò altera la simmetria del diagramma degli sforzi di pressione rispetto alla forza di chiusura N, provocando uno spostamento δ della retta di azione della risultante R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6BE-CC83-4FA7-B7C1-78B0F51FCA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7920" y="214488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27208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orza di gravità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è la più classica tra le forze  conservative. La sua legge di forza ed la corrispondente variazione di potenziale, come noto, sono dati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773360" y="3944880"/>
                <a:ext cx="93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60640" y="3944880"/>
                <a:ext cx="1440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836640" y="4448160"/>
            <a:ext cx="56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orze elastiche di richiam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: sono conseguenza della deformazione che un organo meccanico solido subisce per effetto dell’applicazione di una forz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l'organo è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inearmente elastic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se le deformazioni impresse sono piccole rispetto alle dimensioni dell'organo stesso, risult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81360" y="6465960"/>
            <a:ext cx="157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F = kx = -F</a:t>
            </a:r>
            <a:r>
              <a:rPr b="1" lang="it-IT" sz="1800" spc="-1" strike="noStrike" baseline="-25000">
                <a:solidFill>
                  <a:srgbClr val="0000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7920" y="6897600"/>
            <a:ext cx="5473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 = forza applicata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= reazione elastica di richiam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x = deformazione indotta dalla forza F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k = rigidezza del siste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2280" y="81925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Il lavoro fatto dalla forza elastica durante la        deformazione v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41360" y="8840880"/>
                <a:ext cx="44640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0CF-94D5-46DE-96D1-0BE08B93A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930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3860640" y="2865600"/>
            <a:ext cx="2664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 consegue che, se al cilindro è applicata la forza di chiusura N ed una coppia motrice 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v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induce la velocità di rotazione 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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stante, 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404640" y="2360520"/>
            <a:ext cx="3429000" cy="30862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724280" y="502452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49360" y="5457960"/>
            <a:ext cx="59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e si definisce com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efficiente d’attrito volvent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il rapport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724280" y="8265960"/>
                <a:ext cx="136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724280" y="8697960"/>
                <a:ext cx="1368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93" name="" descr=""/>
          <p:cNvPicPr/>
          <p:nvPr/>
        </p:nvPicPr>
        <p:blipFill>
          <a:blip r:embed="rId3"/>
          <a:srcRect l="0" t="5465" r="0" b="1822"/>
          <a:stretch/>
        </p:blipFill>
        <p:spPr>
          <a:xfrm>
            <a:off x="549360" y="6145200"/>
            <a:ext cx="4105080" cy="311472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4437000" y="6753240"/>
            <a:ext cx="2036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ntroducendo la forza fittizia 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av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detta 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forza di attrito volvente,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h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5013360" y="5961240"/>
                <a:ext cx="7891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377-2755-4979-A415-50DAB781C2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2205000" y="2360520"/>
                <a:ext cx="1368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620640" y="2432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formul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9360" y="2865600"/>
            <a:ext cx="58528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formalmente simile alla legge di Coulomb sull'attrito radente, ma con tutt'altro significa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oiché, come anticipato, alla perdita di energia dovuta ai fenomeni di </a:t>
            </a:r>
            <a:r>
              <a:rPr b="1" i="1" lang="it-IT" sz="1800" spc="-1" strike="noStrike">
                <a:solidFill>
                  <a:srgbClr val="292929"/>
                </a:solidFill>
                <a:latin typeface="Arial"/>
              </a:rPr>
              <a:t>isteresi elast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, vanno sommat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e perdite di energia per effetto degli urti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fra le asperità superficiali che caratterizzano le superfici reali dei corpi a contatto, si comprende che, sotto la definizione di attrito volvente si classificano fenomeni eterogenei che sfuggono ad una analisi teorica quantitativ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istono formule empiriche/semiempiriche per la valutazione della resistenza di attrito volvente con riferimento a diversi accoppiamen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i pneumatici di autovetture, accettabile è la formula dovuta a Kamm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476280" y="7616880"/>
                <a:ext cx="38876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5,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,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,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620640" y="891396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velocità del veicolo v in km/h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65720" y="7257960"/>
            <a:ext cx="194292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F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av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espressa in k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 in tonnellat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pressione dei pneumatici p in kp/cm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F6C-3741-48D2-AACE-1EC53DEA62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25360" y="207324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ze di contatto tra solid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2280" y="2505240"/>
            <a:ext cx="5635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definire lo stato di sollecitazione ed il regime termico tra organi di macchine in condizioni di attrito secc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(dry friction)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è necessario definire i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ipi di contatt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che possono realizzarsi tra le superfici accoppiat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ra due superfici a contatto che devono essere cinematicamente coniugate nel moto relativo, da un punto di vista puramente geometrico, si possono avere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ontatt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estesi 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contatti concentrati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2280" y="5816520"/>
            <a:ext cx="57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i contatti estesi, che si realizzano ad esempio nel caso di accoppiamenti tip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litta-piano e nelle coppie rotoidal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l'area di contatto è teoricamente definita attraverso la geometria macroscopic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65" name="figura 3" descr=""/>
          <p:cNvPicPr/>
          <p:nvPr/>
        </p:nvPicPr>
        <p:blipFill>
          <a:blip r:embed="rId2"/>
          <a:stretch/>
        </p:blipFill>
        <p:spPr>
          <a:xfrm>
            <a:off x="2825640" y="7329600"/>
            <a:ext cx="4032360" cy="1976400"/>
          </a:xfrm>
          <a:prstGeom prst="rect">
            <a:avLst/>
          </a:prstGeom>
          <a:ln w="0">
            <a:noFill/>
          </a:ln>
        </p:spPr>
      </p:pic>
      <p:pic>
        <p:nvPicPr>
          <p:cNvPr id="766" name="figura 2-b contatto distribuito" descr=""/>
          <p:cNvPicPr/>
          <p:nvPr/>
        </p:nvPicPr>
        <p:blipFill>
          <a:blip r:embed="rId3"/>
          <a:stretch/>
        </p:blipFill>
        <p:spPr>
          <a:xfrm>
            <a:off x="260280" y="7113600"/>
            <a:ext cx="2529000" cy="2647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785-E7BA-4DCA-B0EA-21D0018133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692280" y="2668680"/>
            <a:ext cx="55450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la realtà, le superfici degli organi di macchine, a causa delle lavorazioni meccaniche che hanno subito, presentano una morfologia a livello microgeometrica ben diversa da quella idea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superfici sono caratterizzate da una cert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ugosità superficia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d esame microscopico le superfici presentano da un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figurazione tutt’altro che regola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contatto, perciò, non avviene sulla superficie geometrica ideale m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 distribuisce su una serie di areole di 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, la cui somma definis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’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rea di contatto real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5" name="figura 3 superficie reale" descr=""/>
          <p:cNvPicPr/>
          <p:nvPr/>
        </p:nvPicPr>
        <p:blipFill>
          <a:blip r:embed="rId2"/>
          <a:srcRect l="1853" t="0" r="53270" b="0"/>
          <a:stretch/>
        </p:blipFill>
        <p:spPr>
          <a:xfrm>
            <a:off x="620640" y="6608880"/>
            <a:ext cx="2876760" cy="24447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7" name="figura 3 superficie reale" descr=""/>
          <p:cNvPicPr/>
          <p:nvPr/>
        </p:nvPicPr>
        <p:blipFill>
          <a:blip r:embed="rId3"/>
          <a:srcRect l="50023" t="0" r="0" b="0"/>
          <a:stretch/>
        </p:blipFill>
        <p:spPr>
          <a:xfrm>
            <a:off x="3357720" y="6681960"/>
            <a:ext cx="3128760" cy="238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4DD-B260-4C33-8334-420314A921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692280" y="266868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i contatti concentrati il contatto è “degenere” e si riduce teoricamente ad un punt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contatto puntuale”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o ad una line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contatto lineare”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43" name="figura 3" descr=""/>
          <p:cNvPicPr/>
          <p:nvPr/>
        </p:nvPicPr>
        <p:blipFill>
          <a:blip r:embed="rId2"/>
          <a:srcRect l="9084" t="0" r="45927" b="0"/>
          <a:stretch/>
        </p:blipFill>
        <p:spPr>
          <a:xfrm>
            <a:off x="404640" y="3800520"/>
            <a:ext cx="1936800" cy="2448000"/>
          </a:xfrm>
          <a:prstGeom prst="rect">
            <a:avLst/>
          </a:prstGeom>
          <a:ln w="0">
            <a:noFill/>
          </a:ln>
        </p:spPr>
      </p:pic>
      <p:pic>
        <p:nvPicPr>
          <p:cNvPr id="844" name="figura 3" descr=""/>
          <p:cNvPicPr/>
          <p:nvPr/>
        </p:nvPicPr>
        <p:blipFill>
          <a:blip r:embed="rId3"/>
          <a:stretch/>
        </p:blipFill>
        <p:spPr>
          <a:xfrm>
            <a:off x="765000" y="6537240"/>
            <a:ext cx="2953080" cy="2743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1236600" y="3957480"/>
          <a:ext cx="4384800" cy="51768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8" name=""/>
          <p:cNvSpPr/>
          <p:nvPr/>
        </p:nvSpPr>
        <p:spPr>
          <a:xfrm>
            <a:off x="3933720" y="3584520"/>
            <a:ext cx="2303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la realtà, per effetto delle forze applicate ai suoi membri accoppiati, si determin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a deformazione tale da dar luogo ad una superficie di contatto che non  è degene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’area di contatto, è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ircola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nei contatti puntuali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tangolar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in quelli lineari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iù in generale, l’area di contatto ha una form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littic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4"/>
          <a:srcRect l="56021" t="0" r="0" b="0"/>
          <a:stretch/>
        </p:blipFill>
        <p:spPr>
          <a:xfrm>
            <a:off x="2125800" y="3800520"/>
            <a:ext cx="189540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DBA-F122-4DFF-9C39-F1441416F2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1341360" y="5600880"/>
          <a:ext cx="4384800" cy="51732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7" name=""/>
          <p:cNvSpPr/>
          <p:nvPr/>
        </p:nvSpPr>
        <p:spPr>
          <a:xfrm>
            <a:off x="744480" y="2668680"/>
            <a:ext cx="53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determinazione dell’area di contatto è necessaria per definire la pressione media di contatto che individua lo stato di sollecitazione tra i corp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125360" y="4041720"/>
                <a:ext cx="172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3068640" y="38005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=forza di chius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=area di contatt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HB= durezza Brinel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K=coefficiente di sicurez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65000" y="5168880"/>
            <a:ext cx="54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ale grandezza deve risultare sufficientement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nore della durezza Brinell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HB del materiale più tenero tra i due che dei due corpi a contatto. Ciò al fine di garantire c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deformazione si mantenga in campo elastic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65000" y="6608880"/>
            <a:ext cx="54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i contatti estesi, l'area di contatto si assume corrispondente all’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rea geometica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i contatti concentrati, l’area di contatto può valutarsi attraverso l'analisi della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formazione elastica nell'intorno del punto o della linea di contatto teoric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. Le deformazioni ammissibili nei solidi elastici sono solitamente molto modeste, l'area di contatto risulta piccola in rapporto alle dimensioni dei solidi stess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481-B3F0-4234-A03F-C6CED12490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1341360" y="5600880"/>
          <a:ext cx="4384800" cy="51732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9" name=""/>
          <p:cNvSpPr/>
          <p:nvPr/>
        </p:nvSpPr>
        <p:spPr>
          <a:xfrm>
            <a:off x="765000" y="2720880"/>
            <a:ext cx="55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'analisi delle deformazioni localizzate “teoria dell'elasticità” è stata sviluppata da  Hertz nel 1881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basa sulle seguenti principali ipotes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dimensioni della zona di contatto reale sono molto piccole rispetto alle dimensioni dei due corpi (in particolare dei raggi di curvatura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corpi si considerano costituiti da materiale perfettamente elastico, isotropo ed omogene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 raggi di curvatura dei solidi a contatto risultano definit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forze di chiusura sono ortogonali al piano tangente al punto (linea) di contatto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i trascura, sul campo di pressioni nell'intorno della zona di contatto (determinata dalla deformazione elastica dei corpi), l'influenza delle forze tangenziali dovute all'attrito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845000" y="221616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eoria dell'elasticità di  Hert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F33-D8A2-4023-8A05-DFC805483E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1341360" y="5600880"/>
          <a:ext cx="4384800" cy="51732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>
            <a:off x="692280" y="3081240"/>
            <a:ext cx="5761080" cy="54738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620640" y="257580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tatto ellittico fra due corpi elastici (caso general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33720" y="74008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 deformazione hertziana è un’ellisse di semiassi a e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113-74E8-45D8-A3F8-F899608C8B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7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07" name=""/>
          <p:cNvGraphicFramePr/>
          <p:nvPr/>
        </p:nvGraphicFramePr>
        <p:xfrm>
          <a:off x="1341360" y="5600880"/>
          <a:ext cx="4384800" cy="51732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620640" y="2216160"/>
            <a:ext cx="5329440" cy="506412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933720" y="25765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 deformazione hertziana è un’ellisse di semiassi a e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92280" y="7689960"/>
            <a:ext cx="563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) dalle curvature principal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3) dall’angolo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formato dai piani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e </a:t>
            </a:r>
            <a:r>
              <a:rPr b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he contengono le due curvature massime o minime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89360" y="5600880"/>
            <a:ext cx="26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due superfici a contatto nel punto P, sono caratterizzat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1) dai raggi di curvatura massimi e minim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1341360" y="7329600"/>
                <a:ext cx="4608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933720" y="7832880"/>
                <a:ext cx="2016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1F8-D85A-4F58-8308-12EFF497AD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2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8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341360" y="5600880"/>
          <a:ext cx="4384800" cy="51732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620640" y="2432160"/>
            <a:ext cx="5329440" cy="506412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3933720" y="30081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 deformazione hertziana è un’ellisse di semiassi a e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33360" y="77612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Il carico agente è  N “forza di chiusura” è intesa come componente del carico esterno in direzione ortogonale al piano tangente alle superfici nel punto P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768840" y="554832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645000" y="5816520"/>
            <a:ext cx="28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e caratteristiche di ogni materiale sono definite attraverso il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odulo di Young E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elasticità longitudinale) ed il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odulo di Poisson </a:t>
            </a:r>
            <a:r>
              <a:rPr b="1" lang="it-IT" sz="18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>
                <a:solidFill>
                  <a:srgbClr val="292929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BE0-6A03-45B9-AABD-8A10690028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7920" y="228924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81000" y="3440160"/>
            <a:ext cx="52038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alcolo delle rigidezz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dei componenti di macchine può essere condotto utilizzando i risultati della “teoria dell’elasticità”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er organi meccanici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conducibili a sistemi monodimensionali isostatici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, soggetti alle sollecitazioni semplici di trazione, di flessione e di torsione, il calcolo della rigidezza risulta, invece, immediato impiegando le relazioni fornite della “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oria tecnica della trav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”,  note che sian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la geometria del sistem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la tipologia dei vincoli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l materiale costituente il corp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53760" y="293688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terminazione delle rigidez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ABE-ECA1-4DAC-96E4-DC9EE8161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6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91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2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96" name=""/>
          <p:cNvGraphicFramePr/>
          <p:nvPr/>
        </p:nvGraphicFramePr>
        <p:xfrm>
          <a:off x="1341360" y="5600880"/>
          <a:ext cx="4384800" cy="517320"/>
        </p:xfrm>
        <a:graphic>
          <a:graphicData uri="http://schemas.openxmlformats.org/drawingml/2006/table">
            <a:tbl>
              <a:tblPr/>
              <a:tblGrid>
                <a:gridCol w="2610000"/>
                <a:gridCol w="177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7" name="" descr=""/>
          <p:cNvPicPr/>
          <p:nvPr/>
        </p:nvPicPr>
        <p:blipFill>
          <a:blip r:embed="rId2"/>
          <a:stretch/>
        </p:blipFill>
        <p:spPr>
          <a:xfrm>
            <a:off x="620640" y="2720880"/>
            <a:ext cx="5329440" cy="506412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3933720" y="30081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 deformazione hertziana è un’ellisse di semiassi a e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768840" y="554832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768840" y="655632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pressione media di contatto risulta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365720" y="7329600"/>
                <a:ext cx="1441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765000" y="833760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65000" y="81932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er il calcolo dei semiassi a e b che compaiono al denominatore della formula, si rimanda alla bibliografia specif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9C8-6105-4F83-AA2D-0AA8155217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2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8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2133720" y="6248520"/>
          <a:ext cx="2016000" cy="517320"/>
        </p:xfrm>
        <a:graphic>
          <a:graphicData uri="http://schemas.openxmlformats.org/drawingml/2006/table">
            <a:tbl>
              <a:tblPr/>
              <a:tblGrid>
                <a:gridCol w="1198440"/>
                <a:gridCol w="81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ssendo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3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65000" y="833760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076640" y="250524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Quando i solidi a contatto sono due sfere, l’area di contatto hertziana è un cerchio di raggio r=a dato d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557360" y="214488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tatto fra sfe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4076640" y="4232160"/>
                <a:ext cx="2303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8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/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0" name=""/>
          <p:cNvSpPr/>
          <p:nvPr/>
        </p:nvSpPr>
        <p:spPr>
          <a:xfrm>
            <a:off x="4078440" y="49528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ess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4521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4149720" y="5313240"/>
                <a:ext cx="23036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0" y="4610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4365720" y="6176880"/>
                <a:ext cx="1800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49360" y="7113600"/>
            <a:ext cx="5832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curvature sono entrambe positive quando le due sfere a contatto sono una esterna all’altra (entrambe le sfere sono convesse), come in figur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Nel caso che il contatto avviene tra un corpo convesso ed uno concavo (una superficie sferica interna ad un’altra), deve essere assunta negativa la curvatura relative al solido concavo (1/R</a:t>
            </a:r>
            <a:r>
              <a:rPr b="1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400480" y="2668680"/>
            <a:ext cx="124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04640" y="2720880"/>
            <a:ext cx="3540240" cy="41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A6A-9B17-4677-AB48-3B7612471A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74" name=""/>
          <p:cNvGraphicFramePr/>
          <p:nvPr/>
        </p:nvGraphicFramePr>
        <p:xfrm>
          <a:off x="0" y="0"/>
          <a:ext cx="377208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152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4748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-963720" y="4737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4495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0"/>
            <a:ext cx="22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0" y="0"/>
          <a:ext cx="4422600" cy="517680"/>
        </p:xfrm>
        <a:graphic>
          <a:graphicData uri="http://schemas.openxmlformats.org/drawingml/2006/table">
            <a:tbl>
              <a:tblPr/>
              <a:tblGrid>
                <a:gridCol w="2251080"/>
                <a:gridCol w="217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4" name=""/>
          <p:cNvSpPr/>
          <p:nvPr/>
        </p:nvSpPr>
        <p:spPr>
          <a:xfrm>
            <a:off x="0" y="48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24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0" y="0"/>
          <a:ext cx="5221440" cy="517680"/>
        </p:xfrm>
        <a:graphic>
          <a:graphicData uri="http://schemas.openxmlformats.org/drawingml/2006/table">
            <a:tbl>
              <a:tblPr/>
              <a:tblGrid>
                <a:gridCol w="2790720"/>
                <a:gridCol w="243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0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73280" y="3990960"/>
            <a:ext cx="53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236600" y="3957480"/>
            <a:ext cx="26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236600" y="3957480"/>
            <a:ext cx="361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14300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5000" y="833760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789360" y="257652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Quando i solidi a contatto sono due cilindri ad assi paralleli, l’area di contatto hertziana è un rettangolo avente dimensione assiale pari a B e dimensione trasversale pari a 2a (deformazione hertziana) il cui valore è pari 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557360" y="21448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tatto fra cilindri ad assi parallel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4521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400480" y="2668680"/>
            <a:ext cx="124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2"/>
          <a:srcRect l="0" t="2720" r="0" b="0"/>
          <a:stretch/>
        </p:blipFill>
        <p:spPr>
          <a:xfrm>
            <a:off x="492120" y="2649600"/>
            <a:ext cx="3103560" cy="41036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076640" y="6032520"/>
                <a:ext cx="2160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97</m:t>
                    </m:r>
                    <m:rad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/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>
            <a:off x="478080" y="72579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essend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916280" y="7040520"/>
                <a:ext cx="2232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7" name=""/>
          <p:cNvSpPr/>
          <p:nvPr/>
        </p:nvSpPr>
        <p:spPr>
          <a:xfrm>
            <a:off x="0" y="4610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4365720" y="7040520"/>
                <a:ext cx="195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4078080" y="7257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49360" y="7977240"/>
            <a:ext cx="58528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e curvature sono entramb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se i cilindri sono uno esterno all’altro; se un cilindro è interno all’altro, allora è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tiva la curvatura 1/R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del cilindro interno, negativa quella 1/R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del cilindro esterno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3AE-7FB6-4791-BBB6-9DBB5F6B9B2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7920" y="236052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5384880"/>
            <a:ext cx="54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9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igidezza norma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 se la forza esterna induce al sistema una deformazione unitaria di compressione o di trazione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igidezza flessiona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 se la forza esterna induce al sistema una deformazione unitaria di flessione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rigidezza torsional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 se il momento esterno induce al sistema una deformazione unitaria di torsion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3600" indent="-363600" algn="just"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63600" indent="-363600" algn="just"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81000" y="2865600"/>
            <a:ext cx="52754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La rigidezza k di un sistema elastico rappresenta il valore della forza (momento) che, ad esso applicata, gli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duce una deformazione unitaria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n generale, in funzione della sollecitazione indotta al sistema, si definiscon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A8A-81BF-4E7A-A2CF-853D928FD6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7920" y="243216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2190" t="0" r="0" b="0"/>
          <a:stretch/>
        </p:blipFill>
        <p:spPr>
          <a:xfrm>
            <a:off x="836640" y="3152880"/>
            <a:ext cx="5472000" cy="40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05000" y="7400880"/>
                <a:ext cx="4221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q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05000" y="8337600"/>
                <a:ext cx="38196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76280" y="761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formazion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2280" y="855360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igidezz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47B-8854-46CA-8DA4-A7DEFDCFF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7920" y="221616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2280" y="3152880"/>
            <a:ext cx="540072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Un sistema elastico può, in generale, essere costituito da un insieme di più elementi elastici tra di loro accoppiati; in tale caso risulta comodo esprimere la sua rigidezza com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gidezza equivalente k</a:t>
            </a:r>
            <a:r>
              <a:rPr b="1" lang="it-IT" sz="20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Più componenti elastici, infatti, possono essere disposti in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serie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e/o in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parallel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e possono essere ricondotti ad un sistema più semplice, costituito, cioè, da un solo membro elastico dinamicamente equivalente al sistema di partenz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Due o più elementi elastici risultano accoppiati in serie quando</a:t>
            </a:r>
            <a:r>
              <a:rPr b="1" i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una forza ad essi  applicata </a:t>
            </a: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produce in ciascun elemento differente deformazione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Due o più elementi elastici risultano, invece, accoppiati in parallelo quando una forza applicata al sistema </a:t>
            </a: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produce uguale deformazione in ciascun elemento elastic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0640" y="264960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igidezza equivalente per sistemi elastic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 serie e in paralle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08A-CA1B-492B-ACDF-E9D8EB0DE5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7920" y="221616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AMPI DI FORZ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0" t="0" r="2365" b="36819"/>
          <a:stretch/>
        </p:blipFill>
        <p:spPr>
          <a:xfrm>
            <a:off x="476280" y="2649600"/>
            <a:ext cx="6192720" cy="2577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0" t="56456" r="2365" b="0"/>
          <a:stretch/>
        </p:blipFill>
        <p:spPr>
          <a:xfrm>
            <a:off x="233280" y="6465960"/>
            <a:ext cx="6624720" cy="1898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73160" y="5024520"/>
                <a:ext cx="4803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589720" y="2576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637000" y="5600880"/>
                <a:ext cx="129672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445000" y="6608880"/>
            <a:ext cx="11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ralle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84280" y="8481960"/>
                <a:ext cx="41767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52640" y="8840880"/>
                <a:ext cx="11527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0CC-38FC-4270-A1E9-5EDA50B9A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20640" y="32972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449360" y="3970440"/>
            <a:ext cx="441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447920" y="503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0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38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24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829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293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0640" y="23810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ze dissipa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ono quelle forze che nel compiere lavoro, negativo ed irreversibile, causano l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gradazione di energia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con conseguente diminuzione del rendimento meccanico e sviluppo di una quantità di calore che può comportare indesiderati incrementi di temperatur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sse sono sempre presenti sulle superfici di due organi a contatto ed in moto relati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condo l'interpretazione classica, esistono tre diversi tipi di attrito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083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5000" y="6681960"/>
          <a:ext cx="5604120" cy="1863720"/>
        </p:xfrm>
        <a:graphic>
          <a:graphicData uri="http://schemas.openxmlformats.org/drawingml/2006/table">
            <a:tbl>
              <a:tblPr/>
              <a:tblGrid>
                <a:gridCol w="2376720"/>
                <a:gridCol w="32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Times New Roman"/>
                        </a:rPr>
                        <a:t>Attrito radent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Times New Roman"/>
                        </a:rPr>
                        <a:t>Si attuano tra organi solidi a contatto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Times New Roman"/>
                        </a:rPr>
                        <a:t>Attrito volvent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Times New Roman"/>
                        </a:rPr>
                        <a:t>Attrito viscoso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Times New Roman"/>
                        </a:rPr>
                        <a:t>Si determina quando un solido si muove all'interno di un fluido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0" y="5821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FEF-8BE7-4BFD-91EC-8AF225FFDC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D'agostino</cp:lastModifiedBy>
  <dcterms:modified xsi:type="dcterms:W3CDTF">2012-10-15T07:22:28Z</dcterms:modified>
  <cp:revision>173</cp:revision>
  <dc:subject/>
  <dc:title>Diapositiva 1</dc:title>
</cp:coreProperties>
</file>