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A22-99FC-44CD-98FC-8AE5133A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1FC-1B22-493F-A7AD-37F24543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E0C-1027-4158-BAD2-870678A1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F30-DDF4-41A8-9C17-D40CCA19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6645-5658-4459-8B2B-A811A98F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F98E-4856-444C-B745-A78DF1EF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0D01-4243-4708-9415-2674D23B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0CEC-15C6-4CDA-8436-7AAAC96C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D8CC-5C93-4F86-ADC3-43B6D97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610F-3B23-4AFE-B037-6A754EE3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E7F8-A0C6-48EC-9AA4-98A346AD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89E-0100-4C74-8F89-AFF759DA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F9D1-2FB9-48EE-ADB5-4EC5CEE6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773C-C1AF-4EBB-8578-5726F6A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579D-5001-460B-87CF-B149A50F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79EA-AFFD-4AE0-A893-8C12F24E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B2E7-FDC9-4D48-BA9A-0B64E88B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2D4-257E-4D5D-8E1E-C8322AF1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B2A-A74C-4E6A-8071-0B2EFE41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782-E3AF-426C-8B5C-B97029D0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37D-1039-48C2-9E4D-2ABE68C2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4BD-9DE2-431C-B849-0BFF1DFF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240-1911-4C3D-96E2-074F9328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7FA-EF55-4AFF-AC04-5C69082C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5a4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5a47e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B5F1-5189-4AF8-9C71-3349B6474D7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6" name="Oval 7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5a4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5a47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5912-A13B-4328-8AA4-6A6BE84094F5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BB77-24C0-44C7-9A70-597E941A0C3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Picture 19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3"/>
          <p:cNvSpPr/>
          <p:nvPr/>
        </p:nvSpPr>
        <p:spPr>
          <a:xfrm>
            <a:off x="981000" y="2576520"/>
            <a:ext cx="50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MACCHINE E MECCANISM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5000" y="3081240"/>
            <a:ext cx="5545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Si definisce macchina un sistema costituito da organi rigidi o deformabili collegati tra loro, denominati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membri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alcuni dei quali mobili ed altri fissi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Gli elementi mobili si muovono sotto l’azione di forze e/o momenti, producendo un lavor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L’insieme della parti fisse di una macchina che consente il moto dei componenti mobili, prende il nome di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incastellatura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I membri possono essere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solidi rigidi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solidi deformabili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fluidi incomprimibili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fluidi comprimibili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403E-1F59-436B-B7D2-BA611B8C6DCD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836640" y="2720880"/>
            <a:ext cx="532908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In un sistema meccanico, le porzioni di due superfici accoppiate di due membri contigui in moto relativo, dette superfici coniugate, costituiscono un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elemento cinematico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L’insieme di due elementi cinematici a contatto definisce una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coppia cinematica</a:t>
            </a:r>
            <a:r>
              <a:rPr b="1" i="1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he presenta almeno</a:t>
            </a:r>
            <a:r>
              <a:rPr b="1" i="1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un grado di libertà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Nei sistemi meccanici, pur incontrandosi coppie cinematiche a più gradi di libertà più frequenti sono proprio quelle ad un grado di libertà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È noto che un corpo rigido ha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ei gradi di libertà nello spazio e tre nel piano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. Volendo ridurre il numero di gradi di libertà è necessario introdurre opportuni vincoli in modo da impedire alcuni dei possibili movimenti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E3E1-13AE-4984-B92E-3C213684961E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20640" y="2936880"/>
            <a:ext cx="554508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Le coppie cinematiche dett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“vincoli cinematici”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possono essere classificate in base alla </a:t>
            </a:r>
            <a:r>
              <a:rPr b="1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geometria delle superfici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dell’accoppiamento, in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oppie cinematiche</a:t>
            </a:r>
            <a:r>
              <a:rPr b="1" i="1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elementari o intrinseche: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sono costituite da due elementi cinematici rigidi aventi superfici di contatto tra loro combacianti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ndizione di coniugio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è imposta proprio dalla forma delle superfici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Tipici esempi di coppie cinematiche ad un solo grado di libertà son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La coppia rotoidale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La coppia elicoidale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La coppia prismatica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3D83-0DF6-456B-9219-38BB19A92CCA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figura 2"/>
          <p:cNvPicPr/>
          <p:nvPr/>
        </p:nvPicPr>
        <p:blipFill>
          <a:blip r:embed="rId2"/>
          <a:stretch/>
        </p:blipFill>
        <p:spPr>
          <a:xfrm>
            <a:off x="404640" y="2360520"/>
            <a:ext cx="4321440" cy="2067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5013360" y="3081240"/>
            <a:ext cx="159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COPPIA PRISMATIC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9" name="Picture 7" descr="figura 2"/>
          <p:cNvPicPr/>
          <p:nvPr/>
        </p:nvPicPr>
        <p:blipFill>
          <a:blip r:embed="rId3"/>
          <a:stretch/>
        </p:blipFill>
        <p:spPr>
          <a:xfrm>
            <a:off x="260280" y="4521240"/>
            <a:ext cx="4680000" cy="21477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5013360" y="5240160"/>
            <a:ext cx="159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COPPIA ROTOIDAL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Picture 9" descr="figura 2"/>
          <p:cNvPicPr/>
          <p:nvPr/>
        </p:nvPicPr>
        <p:blipFill>
          <a:blip r:embed="rId4"/>
          <a:stretch/>
        </p:blipFill>
        <p:spPr>
          <a:xfrm>
            <a:off x="765000" y="6537240"/>
            <a:ext cx="3743640" cy="2397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4581360" y="7113600"/>
            <a:ext cx="159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COPPIA ELICOIDAL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4869000" y="7832880"/>
                <a:ext cx="8650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22FC-EBED-49EB-BE29-E42FB98DE1B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692280" y="2576520"/>
            <a:ext cx="545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oppie cinematiche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superiori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sono realizzate da accoppiamenti nei quali l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ndizione di cinematicità (coniugio)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è imposta dai vincoli o da forze esterne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Possono essere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mbacianti ma non rigide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: il contatto è assicurato dall’elasticità di uno degli elementi (trasmissioni a cinghia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Picture 15" descr="Cingoli"/>
          <p:cNvPicPr/>
          <p:nvPr/>
        </p:nvPicPr>
        <p:blipFill>
          <a:blip r:embed="rId2"/>
          <a:srcRect l="0" t="16800" r="0" b="0"/>
          <a:stretch/>
        </p:blipFill>
        <p:spPr>
          <a:xfrm>
            <a:off x="1197000" y="5673600"/>
            <a:ext cx="4896000" cy="2563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6"/>
          <p:cNvSpPr/>
          <p:nvPr/>
        </p:nvSpPr>
        <p:spPr>
          <a:xfrm>
            <a:off x="1268280" y="8265960"/>
            <a:ext cx="434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Trasmissione con cinghi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C4DC-8B97-40E2-882F-70CBC46A9088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476280" y="2865600"/>
            <a:ext cx="594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non combacianti ma rigide: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il contatto è in genere di tipo concentrato (accoppiamento ruota - rotaia; ruote ad attrito, trasmissioni con ruote di frizione, accoppiamento camma punteria, ruote dentate).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4" name="Picture 8" descr="figura 2"/>
          <p:cNvPicPr/>
          <p:nvPr/>
        </p:nvPicPr>
        <p:blipFill>
          <a:blip r:embed="rId2"/>
          <a:stretch/>
        </p:blipFill>
        <p:spPr>
          <a:xfrm>
            <a:off x="836640" y="4808520"/>
            <a:ext cx="2666880" cy="1709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2205000" y="4665600"/>
            <a:ext cx="20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RUOTA-ROTAI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6" name="Picture 10" descr="figura 2"/>
          <p:cNvPicPr/>
          <p:nvPr/>
        </p:nvPicPr>
        <p:blipFill>
          <a:blip r:embed="rId3"/>
          <a:stretch/>
        </p:blipFill>
        <p:spPr>
          <a:xfrm>
            <a:off x="620640" y="6681960"/>
            <a:ext cx="2667240" cy="21445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823680" y="9029880"/>
            <a:ext cx="223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TRASMISSIONE C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RUOTE DI FRIZION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8" name="Picture 12" descr="figura 2"/>
          <p:cNvPicPr/>
          <p:nvPr/>
        </p:nvPicPr>
        <p:blipFill>
          <a:blip r:embed="rId4"/>
          <a:stretch/>
        </p:blipFill>
        <p:spPr>
          <a:xfrm>
            <a:off x="3860640" y="5313240"/>
            <a:ext cx="2808360" cy="2797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3936960" y="7977240"/>
            <a:ext cx="223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TRASMISSIONE C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RUOTE DENTAT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0181-FD39-4199-804A-3FAC33FC90D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2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1"/>
          <p:cNvSpPr/>
          <p:nvPr/>
        </p:nvSpPr>
        <p:spPr>
          <a:xfrm>
            <a:off x="620640" y="2720880"/>
            <a:ext cx="5569200" cy="60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Le coppie cinematiche possono anche  essere classificate in base al </a:t>
            </a: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moto relativ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come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coppie cinematiche indipendent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il moto relativo tra i membri che la costituiscono è ad un solo grado di libertà (coppia prismatica, coppia rotoidale coppia  elicoidale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coppie cinematiche dipendent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quando il moto relativo tra due membri è assicurato dall'introduzione di un vincolo (accoppiamento pistone-cilindro - il moto relativo tra pistone e cilindro si riduce al solo moto di traslazione introducendo proprio l'accoppiamento pistone-biella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coppie cinematiche di forz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quando il moto relativo tra i membri accoppiati è reso possibile dall’applicazione di forze esterne che garantiscono il contatto (accoppiamento ruota-rotaia; ruote di frizione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5A37-A47C-4274-8129-7124D3BB6392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765000" y="2576520"/>
            <a:ext cx="549756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Moti relativ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Il moto relativo tra fra elementi cinematici può esser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iano, sferic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oppure un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successione di moti istantanei elicoidali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Può avvenire, inoltre, nello spazio o nel pian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La maggior parte dei dispositivi meccanici che si incontrano nella pratica tecnica, sono costituiti da membri che si muovono d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oto pian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e piane sono le relative coppie cinematich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La forma degli elementi cinematici che le costituiscono può essere definita semplicemente  attraverso la loro proiezione su un piano parallelo a quello del mot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Se le superfici accoppiate sono combacianti tali proiezioni son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linee coincidenti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Sono, invece, individuate d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urve tangenti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in un punto (profili coniugati) nel caso di coppie non combacianti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52CD-65F7-4E81-8E53-93F89444A172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0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figura 2"/>
          <p:cNvPicPr/>
          <p:nvPr/>
        </p:nvPicPr>
        <p:blipFill>
          <a:blip r:embed="rId2"/>
          <a:srcRect l="0" t="0" r="12750" b="0"/>
          <a:stretch/>
        </p:blipFill>
        <p:spPr>
          <a:xfrm>
            <a:off x="568440" y="2289240"/>
            <a:ext cx="2698560" cy="29509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573360" y="2505240"/>
            <a:ext cx="278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profili cinematici non combacianti, indicando con P il punto di contatto dei due profili coniugati e con V la velocità relativa si possono distinguere tre diversi tipi di contatt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65000" y="5240160"/>
            <a:ext cx="547236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puro rotolamento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la velocità V nel punto di contatto P è pari a zero; l’atto di moto relativo avviene per effetto di una velocità angolar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puro strisciamento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la velocità relativa in P è pari V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t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(V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0) diretta lungo la tangente t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urto o distacco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la velocità relativa ha componente diversa da zero lungo la normale n ai due profili. In tale caso i profili non si possono più definire come coniugat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distacco, infatti, non è una condizione accettabile dal punto di vista meccanico, il contatto di urto è solo ipotizzabile in particolari macchinari (magli, martelli ecc.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834E-C541-41A0-94C4-B0B65E085027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692280" y="2649600"/>
            <a:ext cx="5689440" cy="19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Un insieme di organi cinematicamente accoppiati costituisce una 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atena cinematica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he possiede uno o più gradi di libertà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ogni grado di libertà è necessario e sufficiente assumere un parametro detto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ordinata lagrangiana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er definire la posizione di tutti gli elementi che costituiscono la catena cinematic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620640" y="4808520"/>
            <a:ext cx="5904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Una catena cinematica si definisc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hiusa se ogni corpo presenta più di un accoppiament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perta se vi è almeno un corpo che ha una sola coppia cinematica di collegament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emplice se ogni corpo rigido presenta una o due coppie cinematiche collegate ad altri corp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mposta se almeno un membro rigido presenta tre o più coppie cinematiche di collegamento ad altri membr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E890-A422-4A13-AB99-64F71AF4903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oppie cinematiche aperte e chiuse"/>
          <p:cNvPicPr/>
          <p:nvPr/>
        </p:nvPicPr>
        <p:blipFill>
          <a:blip r:embed="rId2"/>
          <a:stretch/>
        </p:blipFill>
        <p:spPr>
          <a:xfrm>
            <a:off x="476280" y="2865600"/>
            <a:ext cx="6149880" cy="671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1844640" y="2360520"/>
            <a:ext cx="42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Esempi di coppie cinematich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FB70-76E6-4EE0-81DE-6EE91CCD933A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907920" y="2576520"/>
            <a:ext cx="50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MACCHINE E MECCANISM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5000" y="3368160"/>
            <a:ext cx="540072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La maggior parte dei dispositivi meccanici, sono costituiti da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iù corpi rigidi collegati tra di loro da vincoli cinematici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che devono consentire il moto relativo tra i corpi stessi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Il sistema così costituito prende il nome di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atena cinematica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mentre i vincoli che consentono un moto relativo si chiamano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ppie cinematich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Per lo studio delle catene cinematiche, che prevedono più corpi in moto relativo tra loro,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i estendono i metodi della cinematica validi per un corpo rigido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Tale studio viene definito come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inematica dei moti relativi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che richiede preliminarmente di esaminare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i tipi di collegamenti tra i corpi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i gradi di libertà del sistem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2ED-6004-4A7B-96F7-6D94905C349F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765000" y="2720880"/>
            <a:ext cx="5473800" cy="64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Una catena cinematica prende il nome di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sistema articolat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se i membri che la costituiscono sono rigidi e tra loro collegati da coppie cinematiche rotoidali e/o prismatiche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Se uno dei membri che costituiscono il sistema articolato viene fissato, il sistema si definisce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meccanism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.  Il membro fisso è detto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tela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Gradi di libertà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È molto important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determinare il numero di gradi di libertà “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ℓ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” di un sistema articolat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al fine di determinare il numero di coordinate lagrangiane necessarie per lo studio cinematico e dinamico del sistem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Ciò si fa attraverso la cosiddett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nalisi di mobilità della catena cinematica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che viene condotta con riferimento al numero di corpi rigidi che la costituiscono nonché al numero ed  alla tipologia delle coppie cinematiche di collegamento dei diversi corpi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BF14-82A5-42A1-89FD-E9B3A4F6F05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0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907920" y="2576520"/>
            <a:ext cx="540072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Gradi di libertà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numero di gradi di libertà “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  <a:ea typeface="Arial"/>
              </a:rPr>
              <a:t>ℓ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” di un sistema articolato piano può, in molti casi, essere calcolato servendosi della relazion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lla qual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 = numero dei membri rigidi che compongono la catena cinematica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  =  numero dei gradi di libertà soppressi dai vincoli interni ed esterni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Il valore di s può essere immediatamente definito attraverso la seguente tabella che propone la tipologia e la simbologia dei vincoli che più frequentemente si ritrovano nella pratica ingegneristica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Nella tabella con n sono indicati il numero di organi connessi con il vincol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2827440" y="4232160"/>
                <a:ext cx="12031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1208-A255-42D8-8C6F-19E47F83099F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7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0" name="Picture 9" descr="gradi libertà corretto"/>
          <p:cNvPicPr/>
          <p:nvPr/>
        </p:nvPicPr>
        <p:blipFill>
          <a:blip r:embed="rId2"/>
          <a:stretch/>
        </p:blipFill>
        <p:spPr>
          <a:xfrm>
            <a:off x="1268280" y="2505240"/>
            <a:ext cx="487692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6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D807-685F-4944-BEE8-CA1C1F3D937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3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7" name="Picture 15" descr="Figura 1"/>
          <p:cNvPicPr/>
          <p:nvPr/>
        </p:nvPicPr>
        <p:blipFill>
          <a:blip r:embed="rId2"/>
          <a:srcRect l="7621" t="0" r="7621" b="0"/>
          <a:stretch/>
        </p:blipFill>
        <p:spPr>
          <a:xfrm>
            <a:off x="549360" y="3152880"/>
            <a:ext cx="3887640" cy="2668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Figura 2"/>
          <p:cNvPicPr/>
          <p:nvPr/>
        </p:nvPicPr>
        <p:blipFill>
          <a:blip r:embed="rId3"/>
          <a:srcRect l="4065" t="0" r="12194" b="0"/>
          <a:stretch/>
        </p:blipFill>
        <p:spPr>
          <a:xfrm>
            <a:off x="549360" y="6681960"/>
            <a:ext cx="3816360" cy="21081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7"/>
          <p:cNvSpPr/>
          <p:nvPr/>
        </p:nvSpPr>
        <p:spPr>
          <a:xfrm>
            <a:off x="907920" y="2308320"/>
            <a:ext cx="55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Esempi di sistemi articolati ad un grado di libertà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8"/>
              <p:cNvSpPr txBox="1"/>
              <p:nvPr/>
            </p:nvSpPr>
            <p:spPr>
              <a:xfrm>
                <a:off x="4724280" y="7473960"/>
                <a:ext cx="154332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Text Box 29"/>
          <p:cNvSpPr/>
          <p:nvPr/>
        </p:nvSpPr>
        <p:spPr>
          <a:xfrm>
            <a:off x="4076640" y="3081240"/>
            <a:ext cx="19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Rectangle 35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34"/>
              <p:cNvSpPr txBox="1"/>
              <p:nvPr/>
            </p:nvSpPr>
            <p:spPr>
              <a:xfrm>
                <a:off x="4941720" y="3297240"/>
                <a:ext cx="1152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Rectangle 37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6"/>
              <p:cNvSpPr txBox="1"/>
              <p:nvPr/>
            </p:nvSpPr>
            <p:spPr>
              <a:xfrm>
                <a:off x="4508640" y="3800520"/>
                <a:ext cx="17762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39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2"/>
              <p:cNvSpPr txBox="1"/>
              <p:nvPr/>
            </p:nvSpPr>
            <p:spPr>
              <a:xfrm>
                <a:off x="5013360" y="6996240"/>
                <a:ext cx="1081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4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94CA-31C5-42B8-B974-F9AE3D9D2CC1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1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92280" y="2792520"/>
            <a:ext cx="54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n riferimento ai meccanismi piani, il numero di gradi di libertà può essere più agevolmente definito mediante l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formula di Grübler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9"/>
              <p:cNvSpPr txBox="1"/>
              <p:nvPr/>
            </p:nvSpPr>
            <p:spPr>
              <a:xfrm>
                <a:off x="2276640" y="3944880"/>
                <a:ext cx="2232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" name="Text Box 10"/>
          <p:cNvSpPr/>
          <p:nvPr/>
        </p:nvSpPr>
        <p:spPr>
          <a:xfrm>
            <a:off x="765000" y="4521240"/>
            <a:ext cx="540072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dov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9280" indent="-44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9280" indent="-449280" algn="just">
              <a:buClr>
                <a:srgbClr val="29292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 indica il numero di membri rigidi che       costituiscono il meccanism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9280" indent="-449280" algn="just">
              <a:buClr>
                <a:srgbClr val="29292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9280" indent="-449280" algn="just">
              <a:buClr>
                <a:srgbClr val="29292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è pari al numero  delle coppie cinematiche presenti nel sistema che permettono un solo grado di libertà (ovvero che eliminano nel piano due gradi di libertà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9280" indent="-449280" algn="just">
              <a:buClr>
                <a:srgbClr val="29292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9280" indent="-449280" algn="just">
              <a:buClr>
                <a:srgbClr val="29292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è il numero  delle coppie cinematiche che permettono due gradi di libertà (ovvero che eliminano nel piano un grado di libertà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numero diapositiva 7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2886-E2BE-4D2F-ADBC-BAE82A0B31B9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0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4862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4843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8"/>
              <p:cNvSpPr txBox="1"/>
              <p:nvPr/>
            </p:nvSpPr>
            <p:spPr>
              <a:xfrm>
                <a:off x="3933720" y="4737240"/>
                <a:ext cx="23767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5" name="Picture 10" descr="figura 2"/>
          <p:cNvPicPr/>
          <p:nvPr/>
        </p:nvPicPr>
        <p:blipFill>
          <a:blip r:embed="rId2"/>
          <a:stretch/>
        </p:blipFill>
        <p:spPr>
          <a:xfrm>
            <a:off x="549360" y="2576520"/>
            <a:ext cx="3152520" cy="31687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1"/>
          <p:cNvSpPr/>
          <p:nvPr/>
        </p:nvSpPr>
        <p:spPr>
          <a:xfrm>
            <a:off x="3789360" y="2505240"/>
            <a:ext cx="26640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eccanismo escavato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embri rigidi m=9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coppie cinematiche ad 1 grado di libertà c</a:t>
            </a:r>
            <a:r>
              <a:rPr b="1" lang="it-IT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=11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2"/>
              <p:cNvSpPr txBox="1"/>
              <p:nvPr/>
            </p:nvSpPr>
            <p:spPr>
              <a:xfrm>
                <a:off x="3789360" y="5240160"/>
                <a:ext cx="25923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9"/>
              <p:cNvSpPr txBox="1"/>
              <p:nvPr/>
            </p:nvSpPr>
            <p:spPr>
              <a:xfrm>
                <a:off x="4230720" y="6176880"/>
                <a:ext cx="22226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9" name="Picture 15" descr="gruber"/>
          <p:cNvPicPr/>
          <p:nvPr/>
        </p:nvPicPr>
        <p:blipFill>
          <a:blip r:embed="rId3"/>
          <a:stretch/>
        </p:blipFill>
        <p:spPr>
          <a:xfrm>
            <a:off x="549360" y="5600880"/>
            <a:ext cx="3457440" cy="224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0" name="Object 25"/>
              <p:cNvSpPr txBox="1"/>
              <p:nvPr/>
            </p:nvSpPr>
            <p:spPr>
              <a:xfrm>
                <a:off x="4221000" y="6969240"/>
                <a:ext cx="23432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CasellaDiTesto 1"/>
          <p:cNvSpPr/>
          <p:nvPr/>
        </p:nvSpPr>
        <p:spPr>
          <a:xfrm>
            <a:off x="549360" y="82659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Ai 5 membri va aggiunto il telaio mentre la cerniera dove convergono n=3 aste va conteggiata n-1 vol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F761-AE22-49AE-B81F-7F270BB2B15E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052640" y="2792520"/>
            <a:ext cx="48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CLASSIFICAZIONE DELLE MACCHIN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981000" y="3513240"/>
            <a:ext cx="507528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Alcune macchine hanno il compito specifico di trasmettere movimento (sistemi di trasmissione  riduttori e moltiplicatori, ecc.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Atre macchine hanno il compito di trasformare energia di un certo tipo in energia in generale di tipo divers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Queste, considerate come sistemi nei quali avvengono trasformazioni di energia, possono essere classificate in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52640" y="7184880"/>
            <a:ext cx="5075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4492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Macchine motrici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711360" indent="-4492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Macchine generatrici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711360" indent="-449280"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Macchine operatrici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80BA-CCD6-47DF-90AD-0585AFB05081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404640" y="2360520"/>
            <a:ext cx="59770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acchine motric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Energia di diversa natura - termica, elettrica idraulica, ecc. - viene trasformata in energia meccanica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Esempi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motori a combustione interna alternativi o rotativi,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turbine a vapore, a gas e idraulich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motori elettrici, motori oleodinamici, ecc.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Picture 8" descr="figura 2"/>
          <p:cNvPicPr/>
          <p:nvPr/>
        </p:nvPicPr>
        <p:blipFill>
          <a:blip r:embed="rId2"/>
          <a:srcRect l="0" t="4026" r="0" b="0"/>
          <a:stretch/>
        </p:blipFill>
        <p:spPr>
          <a:xfrm>
            <a:off x="0" y="5816520"/>
            <a:ext cx="3510000" cy="385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figura 2"/>
          <p:cNvPicPr/>
          <p:nvPr/>
        </p:nvPicPr>
        <p:blipFill>
          <a:blip r:embed="rId3"/>
          <a:stretch/>
        </p:blipFill>
        <p:spPr>
          <a:xfrm>
            <a:off x="3213000" y="6248520"/>
            <a:ext cx="3645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E5D2-66D7-43C4-8FF7-2CEA9B6106BB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urbina a vapore"/>
          <p:cNvPicPr/>
          <p:nvPr/>
        </p:nvPicPr>
        <p:blipFill>
          <a:blip r:embed="rId2"/>
          <a:stretch/>
        </p:blipFill>
        <p:spPr>
          <a:xfrm>
            <a:off x="549360" y="2289240"/>
            <a:ext cx="3946320" cy="3605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turboelica"/>
          <p:cNvPicPr/>
          <p:nvPr/>
        </p:nvPicPr>
        <p:blipFill>
          <a:blip r:embed="rId3"/>
          <a:stretch/>
        </p:blipFill>
        <p:spPr>
          <a:xfrm>
            <a:off x="549360" y="6176880"/>
            <a:ext cx="6156360" cy="2719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4653000" y="372888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Rotore di un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urbin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413000" y="84819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Turboelic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5B7D-B58D-4081-8647-2D5ABF486ABA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3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33360" y="2432160"/>
            <a:ext cx="5904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Macchine generatric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Energia meccanica viene trasformata in altre forme di energia, compiendo, in pratica, l’operazione inversa a quella di una macchina motrice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Esempi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pompe e compressori alternativi e rotativi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generatori elettrici, ecc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Picture 9" descr="figura 2"/>
          <p:cNvPicPr/>
          <p:nvPr/>
        </p:nvPicPr>
        <p:blipFill>
          <a:blip r:embed="rId2"/>
          <a:stretch/>
        </p:blipFill>
        <p:spPr>
          <a:xfrm>
            <a:off x="260280" y="5673600"/>
            <a:ext cx="2952720" cy="309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figura 2"/>
          <p:cNvPicPr/>
          <p:nvPr/>
        </p:nvPicPr>
        <p:blipFill>
          <a:blip r:embed="rId3"/>
          <a:stretch/>
        </p:blipFill>
        <p:spPr>
          <a:xfrm>
            <a:off x="3284640" y="5889600"/>
            <a:ext cx="33843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066F-544B-4F16-81CE-8567DD5CF06C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89000" y="2360520"/>
            <a:ext cx="604836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00"/>
                </a:solidFill>
                <a:latin typeface="Arial"/>
              </a:rPr>
              <a:t>Macchine operatric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Energia meccanica viene impiegata per compiere operazioni utili alla produzione industriale nei diversi settori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Esempi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acchine utensil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acchine per le costruzioni civil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acchine agricole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macchine per movimento terra, ecc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49360" y="538488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Le macchine generatrici e quelle operatrici possono essere globalmente classificate come </a:t>
            </a: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macchine utilizzatrici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20640" y="6465960"/>
            <a:ext cx="56880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Si definiscono “</a:t>
            </a: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macchine rotorich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” quelle macchine caratterizzate dall’avere un solo membro mobile con moto rotatorio dett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rotore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. In questa tipologia di macchine la parte fissa viene detta “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statore”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Si definiscono “</a:t>
            </a: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macchine alternativ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” quelle macchine che sono costituite da accoppiamenti di più organi ciascuno dotato o di moto traslatorio, o di moto rotatorio, o di moto rototraslatorio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7892-290C-4279-8B2F-FEF005AC8B6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1052640" y="279252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L’accoppiamento tra una macchina motrice ed una macchina utilizzatrice si definisce “</a:t>
            </a: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gruppo</a:t>
            </a:r>
            <a:r>
              <a:rPr b="0" i="1" lang="it-IT" sz="2000" spc="-1" strike="noStrike">
                <a:solidFill>
                  <a:srgbClr val="292929"/>
                </a:solidFill>
                <a:latin typeface="Arial"/>
              </a:rPr>
              <a:t>”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Picture 8" descr="figura 2"/>
          <p:cNvPicPr/>
          <p:nvPr/>
        </p:nvPicPr>
        <p:blipFill>
          <a:blip r:embed="rId2"/>
          <a:stretch/>
        </p:blipFill>
        <p:spPr>
          <a:xfrm>
            <a:off x="1052640" y="3944880"/>
            <a:ext cx="511164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egnaposto numero diapositiva 5"/>
          <p:cNvSpPr/>
          <p:nvPr/>
        </p:nvSpPr>
        <p:spPr>
          <a:xfrm>
            <a:off x="502920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DFFF-33D5-4301-8264-AB893FD052B6}" type="slidenum">
              <a:rPr b="0" lang="it-IT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0" name="Picture 3" descr="giunto cardanico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692280" y="2432160"/>
            <a:ext cx="5545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Si definisce 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meccanismo</a:t>
            </a: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un sistema meccanico che realizza semplicemente il trasferimento di moto tra due membri di una macchina o tra due macchine senza “flusso di energia”.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2" name="Picture 7" descr="figura 2-5 a Manovellismo"/>
          <p:cNvPicPr/>
          <p:nvPr/>
        </p:nvPicPr>
        <p:blipFill>
          <a:blip r:embed="rId2"/>
          <a:stretch/>
        </p:blipFill>
        <p:spPr>
          <a:xfrm>
            <a:off x="692280" y="3800520"/>
            <a:ext cx="2395440" cy="273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figura 2"/>
          <p:cNvPicPr/>
          <p:nvPr/>
        </p:nvPicPr>
        <p:blipFill>
          <a:blip r:embed="rId3"/>
          <a:srcRect l="0" t="0" r="22393" b="0"/>
          <a:stretch/>
        </p:blipFill>
        <p:spPr>
          <a:xfrm>
            <a:off x="3284640" y="3800520"/>
            <a:ext cx="3573360" cy="3232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figura 2"/>
          <p:cNvPicPr/>
          <p:nvPr/>
        </p:nvPicPr>
        <p:blipFill>
          <a:blip r:embed="rId4"/>
          <a:srcRect l="6923" t="0" r="0" b="0"/>
          <a:stretch/>
        </p:blipFill>
        <p:spPr>
          <a:xfrm>
            <a:off x="189000" y="6681960"/>
            <a:ext cx="3235320" cy="2795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figura 2"/>
          <p:cNvPicPr/>
          <p:nvPr/>
        </p:nvPicPr>
        <p:blipFill>
          <a:blip r:embed="rId5"/>
          <a:stretch/>
        </p:blipFill>
        <p:spPr>
          <a:xfrm>
            <a:off x="3213000" y="6791400"/>
            <a:ext cx="364500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D'agostino</cp:lastModifiedBy>
  <dcterms:modified xsi:type="dcterms:W3CDTF">2012-10-01T07:03:08Z</dcterms:modified>
  <cp:revision>92</cp:revision>
  <dc:subject/>
  <dc:title>Diapositiva 1</dc:title>
</cp:coreProperties>
</file>