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6858000" cy="9907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4252-0A81-48DA-970C-E9E6C0733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574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12440" y="5967000"/>
            <a:ext cx="574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39C0-684B-499C-8DAE-1457B7909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5616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12440" y="596700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656160" y="596700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299A-14D5-4AAD-9E85-D3BD1C760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655000" y="286236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97560" y="286236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12440" y="596700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655000" y="596700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4597560" y="596700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4A0E-3A4A-4EFB-AE5F-2F63566F2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28A8A-3943-4A12-8DCA-E586E6DC3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712440" y="2862360"/>
            <a:ext cx="574524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2AFE3-5165-4E99-920F-C4C65EF67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574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3D450-7C31-4C85-B781-2BBD2A2C8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2803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656160" y="2862360"/>
            <a:ext cx="2803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98BCC-DCEE-420C-ABFB-AB1DA0894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A4924-20A2-467B-B882-47080BF7D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98400" y="139320"/>
            <a:ext cx="5369040" cy="94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770AF-CC8F-4E8A-AA65-D3E1DAFFF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656160" y="2862360"/>
            <a:ext cx="2803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12440" y="596700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8D10D-287E-482B-970E-E72FEED4F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12440" y="2862360"/>
            <a:ext cx="574524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0586-DB41-4214-8894-6ADB458F4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2803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65616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656160" y="596700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05C58-D36B-4654-AEED-01764AC59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65616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12440" y="5967000"/>
            <a:ext cx="574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9924C-573C-4848-AC0D-3E52D7EFF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574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712440" y="5967000"/>
            <a:ext cx="574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D4F0B-94BC-47DC-BAD0-B1849A58B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5616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12440" y="596700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656160" y="596700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4461E-F744-43E4-8897-DE4E1CDDC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2655000" y="286236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97560" y="286236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712440" y="596700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2655000" y="596700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4597560" y="5967000"/>
            <a:ext cx="1849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A61D8-D477-45B3-B043-A17F89C5B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574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AB67-37C6-4052-91EB-F1408FFF5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2803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656160" y="2862360"/>
            <a:ext cx="2803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7A75-2364-49C7-B3FA-9FDFBE7B6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BC0B-DC2F-4B54-B1CE-80BE653B8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98400" y="139320"/>
            <a:ext cx="5369040" cy="94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D91D-A7FB-4BCA-A805-3E670ADC2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56160" y="2862360"/>
            <a:ext cx="2803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12440" y="596700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E348-C145-4CAB-A07F-4C2A7E931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2803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5616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56160" y="596700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441B-5D0A-461D-8793-1EF338F40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1244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56160" y="2862360"/>
            <a:ext cx="2803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12440" y="5967000"/>
            <a:ext cx="574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8B86-94E0-440F-AED6-BE30F072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990800"/>
            <a:ext cx="1600200" cy="14580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85760" y="1990800"/>
            <a:ext cx="5429520" cy="14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98400" y="139320"/>
            <a:ext cx="53690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712440" y="2862360"/>
            <a:ext cx="574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ffff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799"/>
              </a:spcBef>
              <a:buClr>
                <a:srgbClr val="ffff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81200" indent="-38592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70000" indent="-387360">
              <a:spcBef>
                <a:spcPts val="799"/>
              </a:spcBef>
              <a:buClr>
                <a:srgbClr val="ffff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70920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514240" y="902448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502884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E2D71-10B1-4BE7-8958-B0219828CE17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628560" y="811080"/>
            <a:ext cx="114480" cy="154152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6197760" y="390600"/>
            <a:ext cx="114120" cy="154944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9D248-8BE3-422F-90BB-1DE015964EA0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1320840"/>
            <a:ext cx="6514920" cy="3631680"/>
            <a:chOff x="0" y="1320840"/>
            <a:chExt cx="6514920" cy="3631680"/>
          </a:xfrm>
        </p:grpSpPr>
        <p:sp>
          <p:nvSpPr>
            <p:cNvPr id="49" name=""/>
            <p:cNvSpPr/>
            <p:nvPr/>
          </p:nvSpPr>
          <p:spPr>
            <a:xfrm>
              <a:off x="171360" y="1320840"/>
              <a:ext cx="1885680" cy="3631680"/>
            </a:xfrm>
            <a:prstGeom prst="ellipse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2421360"/>
              <a:ext cx="3543120" cy="165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971800" y="2421360"/>
              <a:ext cx="3543120" cy="1650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6840" y="2201040"/>
              <a:ext cx="171360" cy="209304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886720" y="1747080"/>
              <a:ext cx="196200" cy="198072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628560" y="2084040"/>
            <a:ext cx="5315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ffff66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20280" y="2360160"/>
            <a:ext cx="57452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La Meccanica è la Scienza che si occupa dello studio degli stati di quiete e di moto dei corpi soggetti all’azione di forze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Può essere suddivisa in tre branche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it-IT" sz="1800" spc="-1" strike="noStrike">
                <a:solidFill>
                  <a:srgbClr val="000099"/>
                </a:solidFill>
                <a:latin typeface="Arial"/>
              </a:rPr>
              <a:t>Meccanica dei corpi rigidi che a sua volta, si divide in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lvl="1" marL="1160640" indent="-711360" algn="just"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6600"/>
                </a:solidFill>
                <a:latin typeface="Arial"/>
              </a:rPr>
              <a:t>Static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1160640" indent="-711360" algn="just"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990000"/>
                </a:solidFill>
                <a:latin typeface="Arial"/>
              </a:rPr>
              <a:t>Cinematic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1160640" indent="-711360" algn="just"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0000"/>
                </a:solidFill>
                <a:latin typeface="Arial"/>
              </a:rPr>
              <a:t>Dinamic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1160640" indent="0" algn="just"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292929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99"/>
                </a:solidFill>
                <a:latin typeface="Arial"/>
              </a:rPr>
              <a:t>2. Meccanica dei corpi deformabili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99"/>
                </a:solidFill>
                <a:latin typeface="Arial"/>
              </a:rPr>
              <a:t>3. Fluidomeccanica</a:t>
            </a:r>
            <a:r>
              <a:rPr b="1" lang="it-IT" sz="1800" spc="-1" strike="noStrike">
                <a:solidFill>
                  <a:srgbClr val="000099"/>
                </a:solidFill>
                <a:latin typeface="Arial"/>
              </a:rPr>
              <a:t>.</a:t>
            </a: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49360" y="6537240"/>
            <a:ext cx="590400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La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tatica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 ha per oggetto lo studio dell’equilibrio dei sistemi materiali (bilanciamento di tutte le forze e dei momenti che agiscono su un corpo)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Parte della statica è la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geometria delle masse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 che studia, in particolare, le proprietà dei corpi quali elementi aventi una certa distribuzione spaziale di massa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buClr>
                <a:srgbClr val="2929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determinazione del baricentro;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determinazione dei momenti di inerzia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determinazione  degli assi principali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500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ffff66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907920" y="2432160"/>
            <a:ext cx="554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La </a:t>
            </a: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inematica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, si occupa della descrizione del moto dei corpi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Si suddivide in: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cinematica del punto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cinematica dei sistemi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Il moto è studiato in relazione al tempo indipendentemente dalle cause (forze o momenti) che lo determinano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L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inamica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 studia le relazioni tra i movimenti dei corpi e le forze agenti su di essi. 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07920" y="6465960"/>
            <a:ext cx="5276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20640" y="6465960"/>
            <a:ext cx="5616720" cy="29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a 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Meccanica Applicata</a:t>
            </a: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è la disciplina  che analizza “il corpo” inteso com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92929"/>
              </a:solidFill>
              <a:latin typeface="Arial"/>
            </a:endParaRPr>
          </a:p>
          <a:p>
            <a:pPr marL="262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SISTEMA MECCANICO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92929"/>
              </a:solidFill>
              <a:latin typeface="Arial"/>
            </a:endParaRPr>
          </a:p>
          <a:p>
            <a:pPr marL="262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a sotto il profilo </a:t>
            </a:r>
            <a:r>
              <a:rPr b="0" lang="en-US" sz="2000" spc="-1" strike="noStrike" u="sng">
                <a:solidFill>
                  <a:srgbClr val="292929"/>
                </a:solidFill>
                <a:uFillTx/>
                <a:latin typeface="Arial"/>
              </a:rPr>
              <a:t>cinematico che dinamico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262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92929"/>
              </a:solidFill>
              <a:latin typeface="Arial"/>
            </a:endParaRPr>
          </a:p>
          <a:p>
            <a:pPr marL="262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In particolare, si occupa dello studio delle macchine come sistemi capaci di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smettere il moto e le forze applicate agli elementi che la compongono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ffff66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907920" y="6465960"/>
            <a:ext cx="5276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2280" y="2360520"/>
            <a:ext cx="33843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L’analisi cinematica riguarda due diversi aspetti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definita la legge del moto del sistema (equazione oraria), si determinano gli spostamenti, le velocità e le accelerazioni di ogni punto del sistema stesso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005360" y="2216160"/>
            <a:ext cx="2519280" cy="2879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484280" y="6135840"/>
            <a:ext cx="5373720" cy="37702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92280" y="5097600"/>
            <a:ext cx="527688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29292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assegnata la legge del moto relativo tra due elementi accoppiati, si determinano le forme delle superfici affinché la predetta legge sia realizzata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ffff66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907920" y="6465960"/>
            <a:ext cx="5276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76280" y="2649600"/>
            <a:ext cx="5865840" cy="62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Nella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dinamica applicata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il moto è studiato in relazione alle forze applicate ai diversi organi meccanici ed alla distribuzione delle masse che li costituiscono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In particolare è oggetto di studio la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buClr>
                <a:srgbClr val="2929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determinazione delle azioni dinamiche indotte sul sistema meccanico per un assegnato moto “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metodo diretto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”. Ciò al fine di valutare il flusso di energia e l’idoneità degli organi a resistere alle sollecitazioni ad essi impresse (esempio: la determinazione delle forze e coppie di inerzia nei rotori; determinazione delle forze di inerzia nei motori a combustione interna; effetti prodotti dalle vibrazioni; ecc.)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buClr>
                <a:srgbClr val="2929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buClr>
                <a:srgbClr val="2929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determinazione della legge di moto di un sistema meccanico di caratteristiche geometriche e fisiche note, assegnate le forze motrici e resistenti “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metodo inverso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” (esempio: studio dei transitori, dei fenomeni vibratori, ecc.)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ffff66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907920" y="6465960"/>
            <a:ext cx="5276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36640" y="2865600"/>
            <a:ext cx="5329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Metodo diretto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Assegnato il moto di un membro si calcolano le forze di inerzia e i momenti delle forze di inerzia che ne derivano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33360" y="5457960"/>
            <a:ext cx="2646360" cy="3024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rcRect l="0" t="0" r="24633" b="0"/>
          <a:stretch/>
        </p:blipFill>
        <p:spPr>
          <a:xfrm>
            <a:off x="2970360" y="5313240"/>
            <a:ext cx="3887640" cy="36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637000" y="704880"/>
            <a:ext cx="3600360" cy="936720"/>
          </a:xfrm>
          <a:prstGeom prst="rect">
            <a:avLst/>
          </a:prstGeom>
          <a:solidFill>
            <a:srgbClr val="ffff66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ccanica Applicata alle Macchin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2 CFU)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. Vincenzo D’Agostin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836640" y="1065240"/>
            <a:ext cx="1440000" cy="8510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907920" y="6465960"/>
            <a:ext cx="5276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36640" y="3008160"/>
            <a:ext cx="532908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Metodo inverso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Assegnate le forze  motrici e resistenti e le azioni di inerzia si determina la legge di moto del sistema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rcRect l="0" t="0" r="0" b="-2464"/>
          <a:stretch/>
        </p:blipFill>
        <p:spPr>
          <a:xfrm>
            <a:off x="0" y="4737240"/>
            <a:ext cx="6669000" cy="43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09:39:13Z</dcterms:created>
  <dc:creator>user</dc:creator>
  <dc:description/>
  <dc:language>en-US</dc:language>
  <cp:lastModifiedBy>user</cp:lastModifiedBy>
  <dcterms:modified xsi:type="dcterms:W3CDTF">2012-09-30T08:34:01Z</dcterms:modified>
  <cp:revision>22</cp:revision>
  <dc:subject/>
  <dc:title>Diapositiva 1</dc:title>
</cp:coreProperties>
</file>